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18.wmf" ContentType="image/x-wmf"/>
  <Override PartName="/ppt/media/image16.wmf" ContentType="image/x-wmf"/>
  <Override PartName="/ppt/media/image45.jpeg" ContentType="image/jpeg"/>
  <Override PartName="/ppt/media/image15.wmf" ContentType="image/x-wmf"/>
  <Override PartName="/ppt/media/image1.png" ContentType="image/png"/>
  <Override PartName="/ppt/media/image29.wmf" ContentType="image/x-wmf"/>
  <Override PartName="/ppt/media/image3.png" ContentType="image/png"/>
  <Override PartName="/ppt/media/image33.png" ContentType="image/png"/>
  <Override PartName="/ppt/media/image12.png" ContentType="image/png"/>
  <Override PartName="/ppt/media/image32.wmf" ContentType="image/x-wmf"/>
  <Override PartName="/ppt/media/image37.wmf" ContentType="image/x-wmf"/>
  <Override PartName="/ppt/media/image7.wmf" ContentType="image/x-wmf"/>
  <Override PartName="/ppt/media/image30.wmf" ContentType="image/x-wmf"/>
  <Override PartName="/ppt/media/image36.wmf" ContentType="image/x-wmf"/>
  <Override PartName="/ppt/media/image39.wmf" ContentType="image/x-wmf"/>
  <Override PartName="/ppt/media/image41.wmf" ContentType="image/x-wmf"/>
  <Override PartName="/ppt/media/image40.wmf" ContentType="image/x-wmf"/>
  <Override PartName="/ppt/media/image42.png" ContentType="image/png"/>
  <Override PartName="/ppt/media/image31.wmf" ContentType="image/x-wmf"/>
  <Override PartName="/ppt/media/image11.png" ContentType="image/png"/>
  <Override PartName="/ppt/media/image43.wmf" ContentType="image/x-wmf"/>
  <Override PartName="/ppt/media/image44.wmf" ContentType="image/x-wmf"/>
  <Override PartName="/ppt/media/image46.wmf" ContentType="image/x-wmf"/>
  <Override PartName="/ppt/media/image13.wmf" ContentType="image/x-wmf"/>
  <Override PartName="/ppt/media/image5.png" ContentType="image/png"/>
  <Override PartName="/ppt/media/image35.png" ContentType="image/png"/>
  <Override PartName="/ppt/media/image9.png" ContentType="image/png"/>
  <Override PartName="/ppt/media/image17.wmf" ContentType="image/x-wmf"/>
  <Override PartName="/ppt/media/image38.wmf" ContentType="image/x-wmf"/>
  <Override PartName="/ppt/media/image8.wmf" ContentType="image/x-wmf"/>
  <Override PartName="/ppt/media/image10.wmf" ContentType="image/x-wmf"/>
  <Override PartName="/ppt/media/image2.png" ContentType="image/png"/>
  <Override PartName="/ppt/media/image6.png" ContentType="image/png"/>
  <Override PartName="/ppt/media/image14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32600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6E44-BCF8-4DD5-AC82-641641580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FFB4-BC59-4C07-94D6-879D0A547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B858-6AF1-4CA2-BCC0-A80825B04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A16E-EE89-4D6D-8101-2C1BC2B04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87078-136D-4415-9828-2783E3ED7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FB637-E340-4CA5-BDF9-D02F5DADC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8DCDA-04CB-45D9-A349-291AB249C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22482-65AF-4D1D-9AD5-C23182E70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A2D44-C4FA-4210-BDEE-80F3DDCAB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F4590-20A4-430B-B0FE-62077AB7A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B93D1-31DD-485E-9A95-D6F1D157D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4928-EFA8-40A4-9579-FD091C591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BB30D-49A5-4DCC-B4E9-64892AA46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46725-5AEB-4F02-BC60-95E580956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AD484-A314-4FA3-96C0-54365DCB3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2B6C4-A558-4D7E-A140-628ABE3C3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04655-D08E-4E9E-A3A6-385BD250E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D2DC-7D00-456C-8A4E-B127CD2A1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B6D9-A441-4AE0-85A8-0E788E7ED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9142-0BA6-4BC9-B031-6E55600F8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407A-0D6F-408E-A223-D3B47D4E3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891A-FA3C-432B-B8D4-C28E0A62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3DA6-8375-4DC0-B5D4-0AC96E37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9D30-BEC4-479E-A8FC-162E5957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63083-C6C1-4C52-97ED-B94134DA0E38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4CFF3-E739-466B-B231-E7A6504F2545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112E2-AEA0-44EC-9B04-5F82A180479F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F871D-A691-4842-922B-1538FF4B973A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.wmf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2.wmf"/><Relationship Id="rId1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8.wmf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reativecommons.org/licenses/by-nc-sa/1.0/" TargetMode="External"/><Relationship Id="rId2" Type="http://schemas.openxmlformats.org/officeDocument/2006/relationships/hyperlink" Target="http://creativecommons.org/licenses/by-nc-sa/1.0/legalcode" TargetMode="Externa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wmf"/><Relationship Id="rId5" Type="http://schemas.openxmlformats.org/officeDocument/2006/relationships/image" Target="../media/image45.jpe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6.wmf"/><Relationship Id="rId8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6.wmf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ignal Processing Firs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904760" y="3428640"/>
            <a:ext cx="701028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ecture 26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Review: Digital Filtering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of Analog Signal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E0F2C-7026-4D2F-96BE-0A7CC4CA958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4F4DFE66-2098-4FBC-8B5A-8B53C5CD8736}" type="datetime1">
              <a:rPr lang="en-US"/>
              <a:t>07/29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ignal Reconstruction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37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57200" y="1905120"/>
          <a:ext cx="8178840" cy="101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05120"/>
                    <a:ext cx="8178840" cy="101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0" name=""/>
          <p:cNvGrpSpPr/>
          <p:nvPr/>
        </p:nvGrpSpPr>
        <p:grpSpPr>
          <a:xfrm>
            <a:off x="1671480" y="4267080"/>
            <a:ext cx="5808960" cy="1968120"/>
            <a:chOff x="1671480" y="4267080"/>
            <a:chExt cx="5808960" cy="1968120"/>
          </a:xfrm>
        </p:grpSpPr>
        <p:graphicFrame>
          <p:nvGraphicFramePr>
            <p:cNvPr id="141" name=""/>
            <p:cNvGraphicFramePr/>
            <p:nvPr/>
          </p:nvGraphicFramePr>
          <p:xfrm>
            <a:off x="1938240" y="4267080"/>
            <a:ext cx="5440320" cy="1352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38240" y="4267080"/>
                      <a:ext cx="5440320" cy="135252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43" name=""/>
            <p:cNvSpPr/>
            <p:nvPr/>
          </p:nvSpPr>
          <p:spPr>
            <a:xfrm>
              <a:off x="1671480" y="5775480"/>
              <a:ext cx="580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Arial"/>
                </a:rPr>
                <a:t>Ideal bandlimited interpolation formula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2514600"/>
            <a:ext cx="5181480" cy="1547640"/>
            <a:chOff x="1905120" y="2514600"/>
            <a:chExt cx="5181480" cy="1547640"/>
          </a:xfrm>
        </p:grpSpPr>
        <p:graphicFrame>
          <p:nvGraphicFramePr>
            <p:cNvPr id="145" name=""/>
            <p:cNvGraphicFramePr/>
            <p:nvPr/>
          </p:nvGraphicFramePr>
          <p:xfrm>
            <a:off x="1905120" y="3048120"/>
            <a:ext cx="4897440" cy="1014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905120" y="3048120"/>
                      <a:ext cx="4897440" cy="101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7" name=""/>
            <p:cNvSpPr/>
            <p:nvPr/>
          </p:nvSpPr>
          <p:spPr>
            <a:xfrm flipH="1">
              <a:off x="5334120" y="2514600"/>
              <a:ext cx="1752480" cy="83808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419720" y="2590920"/>
              <a:ext cx="685800" cy="68580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F0A3-E2FE-411B-8A96-6B37963C515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0965E6-A105-4260-B737-436DE8147B0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380880"/>
            <a:ext cx="8204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hannon Sampling Theorem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“</a:t>
            </a:r>
            <a:r>
              <a:rPr b="1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SINC” Interpolation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is the idea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ERFECT RECONSTRUCTIO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f BANDLIMITED SIGNAL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2280" y="3414600"/>
            <a:ext cx="8763120" cy="29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F766-17CF-4403-A96D-CB534861B97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65130C-ABE4-40E6-B08D-69153B2FFD9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Reconstruction in Time-Domain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153" name="reconst_wave2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495680" cy="4800600"/>
          </a:xfrm>
          <a:prstGeom prst="rect">
            <a:avLst/>
          </a:prstGeom>
          <a:ln w="0">
            <a:noFill/>
          </a:ln>
        </p:spPr>
      </p:pic>
      <p:pic>
        <p:nvPicPr>
          <p:cNvPr id="154" name="reconst_wave" descr=""/>
          <p:cNvPicPr/>
          <p:nvPr/>
        </p:nvPicPr>
        <p:blipFill>
          <a:blip r:embed="rId2"/>
          <a:stretch/>
        </p:blipFill>
        <p:spPr>
          <a:xfrm>
            <a:off x="0" y="1614600"/>
            <a:ext cx="4568760" cy="47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D83D-8764-4FE9-918B-9DBA8ED8AED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E5D16E-93F9-466A-B6F2-383A0AB0399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Ideal C-to-D and D-to-C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8686800" cy="2438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"/>
          <p:cNvGraphicFramePr/>
          <p:nvPr/>
        </p:nvGraphicFramePr>
        <p:xfrm>
          <a:off x="1219320" y="4267080"/>
          <a:ext cx="1904760" cy="381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4267080"/>
                    <a:ext cx="1904760" cy="38124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4378320" y="3568680"/>
          <a:ext cx="4308480" cy="1155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378320" y="3568680"/>
                    <a:ext cx="4308480" cy="115560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1193400" y="4745160"/>
            <a:ext cx="18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Ideal Sample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619160" y="4745160"/>
            <a:ext cx="374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Ideal bandlimited interpolato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5257800" y="5313240"/>
          <a:ext cx="3809880" cy="401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257800" y="5313240"/>
                    <a:ext cx="3809880" cy="40176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152280" y="5257800"/>
          <a:ext cx="4572000" cy="887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52280" y="5257800"/>
                    <a:ext cx="4572000" cy="88740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DE4A-BBEB-4715-ACDB-252A8CE3A1A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E2A647-8805-42E7-9BD3-76155190090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DT Filtering of CT Signal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68" name=""/>
          <p:cNvSpPr/>
          <p:nvPr/>
        </p:nvSpPr>
        <p:spPr>
          <a:xfrm>
            <a:off x="3505320" y="1752480"/>
            <a:ext cx="1904760" cy="914400"/>
          </a:xfrm>
          <a:prstGeom prst="rect">
            <a:avLst/>
          </a:prstGeom>
          <a:solidFill>
            <a:srgbClr val="ffff66"/>
          </a:solidFill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400800" y="1752480"/>
            <a:ext cx="106668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ahoma"/>
              </a:rPr>
              <a:t>D-to-C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1752480"/>
            <a:ext cx="106668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C-to-D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14600" y="220968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10080" y="220968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67480" y="220968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220968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4920" y="1773360"/>
            <a:ext cx="59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x(t)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723800" y="177336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y(t)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591160" y="1773360"/>
            <a:ext cx="6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6600"/>
                </a:solidFill>
                <a:latin typeface="Tahoma"/>
              </a:rPr>
              <a:t>y[n]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95680" y="177336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6600"/>
                </a:solidFill>
                <a:latin typeface="Tahoma"/>
              </a:rPr>
              <a:t>x[n]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733920" y="1828800"/>
          <a:ext cx="142236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1828800"/>
                    <a:ext cx="14223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304920" y="2362320"/>
          <a:ext cx="952560" cy="34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2362320"/>
                    <a:ext cx="95256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7696080" y="2324160"/>
          <a:ext cx="914400" cy="342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96080" y="2324160"/>
                    <a:ext cx="91440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2438280" y="2514600"/>
          <a:ext cx="1067040" cy="457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38280" y="2514600"/>
                    <a:ext cx="10670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5435640" y="2514600"/>
          <a:ext cx="1015920" cy="457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35640" y="2514600"/>
                    <a:ext cx="10159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337680" y="3292560"/>
            <a:ext cx="835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ahoma"/>
              </a:rPr>
              <a:t>If no aliasing occurs in sampling x(t), then it follows tha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752480" y="3886200"/>
          <a:ext cx="5988240" cy="646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752480" y="3886200"/>
                    <a:ext cx="5988240" cy="64620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838080" y="4851360"/>
          <a:ext cx="7696440" cy="1778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38080" y="4851360"/>
                    <a:ext cx="7696440" cy="177804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3967920" y="5715000"/>
            <a:ext cx="2004840" cy="825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UNDEFINED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NOT   LTI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EF10-7158-4AA5-BE53-6C60E75471E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304A81-6F25-4CEA-953A-B4C6A7AE6A3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DTFT_filtering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6553080" cy="61056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DT Filtering of a CT Signal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0" y="2835360"/>
            <a:ext cx="1752480" cy="520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99"/>
                </a:solidFill>
                <a:latin typeface="Times New Roman"/>
              </a:rPr>
              <a:t>Spectrum of 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99"/>
                </a:solidFill>
                <a:latin typeface="Times New Roman"/>
              </a:rPr>
              <a:t>Discrete-Time Signal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0" y="3962520"/>
            <a:ext cx="1219320" cy="3070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99"/>
                </a:solidFill>
                <a:latin typeface="Times New Roman"/>
              </a:rPr>
              <a:t>Digital Filter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4724280" y="4952880"/>
            <a:ext cx="2286000" cy="30492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34320" y="4816440"/>
            <a:ext cx="1981080" cy="5202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99"/>
                </a:solidFill>
                <a:latin typeface="Times New Roman"/>
              </a:rPr>
              <a:t>Reconstruction Filter (Analog)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6553080" y="1523880"/>
                <a:ext cx="33048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6629400" y="4440240"/>
                <a:ext cx="2872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ω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6629400" y="3505320"/>
                <a:ext cx="2872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ω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6553080" y="5487840"/>
                <a:ext cx="33048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6858000" y="914400"/>
            <a:ext cx="1219320" cy="3070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99"/>
                </a:solidFill>
                <a:latin typeface="Times New Roman"/>
              </a:rPr>
              <a:t>Analog Input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0" y="6019920"/>
            <a:ext cx="1371600" cy="3070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99"/>
                </a:solidFill>
                <a:latin typeface="Times New Roman"/>
              </a:rPr>
              <a:t>Analog Output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B3F2-35E3-49CB-B1D1-66CC3541748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FC6CC5-3BE2-416B-861A-60135A81A3F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EFFECTIVE Freq. Respons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ssume NO Aliasing, the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NALOG FREQ &lt;--&gt; DIGITAL FREQ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o, we can plot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caled Freq. Axis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1752480" y="3200400"/>
                <a:ext cx="373392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wT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w</m:t>
                        </m:r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210" name=""/>
          <p:cNvGraphicFramePr/>
          <p:nvPr/>
        </p:nvGraphicFramePr>
        <p:xfrm>
          <a:off x="4800600" y="4621320"/>
          <a:ext cx="3505320" cy="78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4621320"/>
                    <a:ext cx="3505320" cy="78876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12" name=""/>
          <p:cNvSpPr/>
          <p:nvPr/>
        </p:nvSpPr>
        <p:spPr>
          <a:xfrm>
            <a:off x="6095880" y="4952880"/>
            <a:ext cx="152640" cy="838440"/>
          </a:xfrm>
          <a:prstGeom prst="upArrow">
            <a:avLst>
              <a:gd name="adj1" fmla="val 50000"/>
              <a:gd name="adj2" fmla="val 137323"/>
            </a:avLst>
          </a:prstGeom>
          <a:solidFill>
            <a:srgbClr val="ff66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001000" y="5410080"/>
            <a:ext cx="152280" cy="533520"/>
          </a:xfrm>
          <a:prstGeom prst="upArrow">
            <a:avLst>
              <a:gd name="adj1" fmla="val 50000"/>
              <a:gd name="adj2" fmla="val 87589"/>
            </a:avLst>
          </a:prstGeom>
          <a:solidFill>
            <a:srgbClr val="ff66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545080" y="5791320"/>
            <a:ext cx="2954520" cy="3988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NALOG FREQUENCY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927680" y="3809880"/>
            <a:ext cx="2768400" cy="990720"/>
          </a:xfrm>
          <a:custGeom>
            <a:avLst/>
            <a:gdLst/>
            <a:ahLst/>
            <a:rect l="l" t="t" r="r" b="b"/>
            <a:pathLst>
              <a:path w="1744" h="624">
                <a:moveTo>
                  <a:pt x="16" y="624"/>
                </a:moveTo>
                <a:cubicBezTo>
                  <a:pt x="8" y="544"/>
                  <a:pt x="0" y="464"/>
                  <a:pt x="112" y="432"/>
                </a:cubicBezTo>
                <a:cubicBezTo>
                  <a:pt x="224" y="400"/>
                  <a:pt x="456" y="440"/>
                  <a:pt x="688" y="432"/>
                </a:cubicBezTo>
                <a:cubicBezTo>
                  <a:pt x="920" y="424"/>
                  <a:pt x="1328" y="455"/>
                  <a:pt x="1504" y="384"/>
                </a:cubicBezTo>
                <a:cubicBezTo>
                  <a:pt x="1679" y="312"/>
                  <a:pt x="1711" y="156"/>
                  <a:pt x="1744" y="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876000" y="3429000"/>
            <a:ext cx="2158920" cy="3988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IGITAL FILTE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50F5-301A-4F14-9C6A-C2BCBF5E536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40FF0B-0AEE-4362-8D20-58C57668BFDB}" type="datetime1">
              <a:rPr lang="en-US"/>
              <a:t>07/29/2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65240" y="304920"/>
            <a:ext cx="8826480" cy="64260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755640" y="4084560"/>
            <a:ext cx="3629520" cy="45972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FFECTIVE RESPONS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581280" y="6629400"/>
            <a:ext cx="1752840" cy="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52680" y="3429000"/>
            <a:ext cx="152424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800600" y="1143000"/>
            <a:ext cx="152280" cy="152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800600" y="4343400"/>
            <a:ext cx="152280" cy="152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562720" y="5410080"/>
            <a:ext cx="152280" cy="152640"/>
          </a:xfrm>
          <a:prstGeom prst="ellipse">
            <a:avLst/>
          </a:prstGeom>
          <a:solidFill>
            <a:srgbClr val="99663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562720" y="2209680"/>
            <a:ext cx="152280" cy="152640"/>
          </a:xfrm>
          <a:prstGeom prst="ellipse">
            <a:avLst/>
          </a:prstGeom>
          <a:solidFill>
            <a:srgbClr val="99663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638680" y="2362320"/>
            <a:ext cx="0" cy="3047760"/>
          </a:xfrm>
          <a:prstGeom prst="line">
            <a:avLst/>
          </a:prstGeom>
          <a:ln w="38160">
            <a:solidFill>
              <a:srgbClr val="9966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127960" y="838080"/>
            <a:ext cx="2158920" cy="3988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IGITAL FILTE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2387520" y="1295280"/>
          <a:ext cx="1422360" cy="596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87520" y="1295280"/>
                    <a:ext cx="14223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838080" y="4648320"/>
          <a:ext cx="2170080" cy="741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8080" y="4648320"/>
                    <a:ext cx="2170080" cy="74124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7010280" y="3505320"/>
          <a:ext cx="1865520" cy="438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010280" y="3505320"/>
                    <a:ext cx="1865520" cy="43812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5943600" y="914400"/>
          <a:ext cx="1663560" cy="8888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943600" y="914400"/>
                    <a:ext cx="166356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BD29-F111-46F9-86D9-CB172D4BC2DE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68F63C-3939-4922-B48B-63FFB213CBA9}" type="datetime1">
              <a:rPr lang="en-US"/>
              <a:t>07/29/26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requency Response for Discrete-tim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nalog Frequency Respons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H</a:t>
            </a:r>
            <a:r>
              <a:rPr b="0" lang="en-US" sz="4000" spc="-1" strike="noStrike" baseline="-25000">
                <a:solidFill>
                  <a:srgbClr val="0000cc"/>
                </a:solidFill>
                <a:latin typeface="Arial Black"/>
              </a:rPr>
              <a:t>eff</a:t>
            </a: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 for 11-pt Averager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3954600" y="3581280"/>
                <a:ext cx="427500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=</m:t>
                    </m:r>
                    <m:r>
                      <m:t xml:space="preserve">ω</m:t>
                    </m:r>
                    <m:r>
                      <m:t xml:space="preserve">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ω</m:t>
                        </m:r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ω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990720" y="2306520"/>
                <a:ext cx="367344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 {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990720" y="5257800"/>
                <a:ext cx="371304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ω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00</m:t>
                            </m:r>
                          </m:den>
                        </m:f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ω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00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8C95-D0BB-439F-B14D-C2AA7EACEC3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C2BACA-74AF-4C0D-B5AD-4822A38EC176}" type="datetime1">
              <a:rPr lang="en-US"/>
              <a:t>07/29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POP QUIZ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iven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nd the output, y(t)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he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2673360" y="4514760"/>
                <a:ext cx="441324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000</m:t>
                    </m:r>
                    <m:r>
                      <m:t xml:space="preserve">p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3700440" y="2457360"/>
                <a:ext cx="1828800" cy="112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4" name=""/>
          <p:cNvSpPr/>
          <p:nvPr/>
        </p:nvSpPr>
        <p:spPr>
          <a:xfrm>
            <a:off x="6553080" y="2610000"/>
            <a:ext cx="106704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D-to-A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600200" y="2610000"/>
            <a:ext cx="106668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A-to-D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666880" y="306720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562720" y="3067200"/>
            <a:ext cx="99036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3067200"/>
            <a:ext cx="99036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9480" y="306720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09840" y="261000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x(t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848720" y="261000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y(t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716080" y="261000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y[n]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820960" y="26100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x[n]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1143000" y="5440320"/>
                <a:ext cx="251460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00</m:t>
                    </m:r>
                    <m: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5" name=""/>
          <p:cNvSpPr/>
          <p:nvPr/>
        </p:nvSpPr>
        <p:spPr>
          <a:xfrm>
            <a:off x="177840" y="3295800"/>
            <a:ext cx="1422360" cy="2438280"/>
          </a:xfrm>
          <a:custGeom>
            <a:avLst/>
            <a:gdLst/>
            <a:ahLst/>
            <a:rect l="l" t="t" r="r" b="b"/>
            <a:pathLst>
              <a:path w="896" h="1536">
                <a:moveTo>
                  <a:pt x="560" y="1536"/>
                </a:moveTo>
                <a:cubicBezTo>
                  <a:pt x="412" y="1528"/>
                  <a:pt x="264" y="1520"/>
                  <a:pt x="176" y="1344"/>
                </a:cubicBezTo>
                <a:cubicBezTo>
                  <a:pt x="88" y="1168"/>
                  <a:pt x="0" y="687"/>
                  <a:pt x="32" y="480"/>
                </a:cubicBezTo>
                <a:cubicBezTo>
                  <a:pt x="63" y="272"/>
                  <a:pt x="224" y="175"/>
                  <a:pt x="368" y="96"/>
                </a:cubicBezTo>
                <a:cubicBezTo>
                  <a:pt x="511" y="16"/>
                  <a:pt x="703" y="8"/>
                  <a:pt x="896" y="0"/>
                </a:cubicBezTo>
              </a:path>
            </a:pathLst>
          </a:custGeom>
          <a:noFill/>
          <a:ln w="38160">
            <a:solidFill>
              <a:srgbClr val="333399"/>
            </a:solidFill>
            <a:prstDash val="sysDot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18B4-962E-42EA-A6FA-26BC0AE47D5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6CF1D1-276C-463F-BC20-A0EADBC91C5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58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icense Info for SPFirst Slid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is work released under a </a:t>
            </a: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Creative Commons License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 with the following terms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ttribut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The licensor permits others to copy, distribute, display, and perform the work. In return, licensees must give the original authors credit.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on-Commercia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The licensor permits others to copy, distribute, display, and perform the work. In return, licensees may not use the work for commercial purposes—unless they get the licensor's permission.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hare Alik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The licensor permits others to distribute derivative works only under a license identical to the one that governs the licensor's work.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33"/>
                </a:solidFill>
                <a:uFillTx/>
                <a:latin typeface="Verdana"/>
                <a:hlinkClick r:id="rId2"/>
              </a:rPr>
              <a:t>Full Text of the License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6600"/>
                </a:solidFill>
                <a:latin typeface="Verdana"/>
              </a:rPr>
              <a:t>This (hidden) page should be kept with the presentation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6EB4-E2EC-42C6-B1FA-EA93C7C59B5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CC4201-2361-4EE1-B1BB-0145817CE173}" type="datetime1">
              <a:rPr lang="en-US"/>
              <a:t>07/29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POP QUIZ BECOM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iven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nd the output, y[n]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he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ecaus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2886120" y="4191120"/>
                <a:ext cx="417348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p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2438280" y="2057400"/>
                <a:ext cx="313560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3048120" y="5334120"/>
                <a:ext cx="527364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T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0</m:t>
                    </m:r>
                    <m:f>
                      <m:fPr>
                        <m:type m:val="lin"/>
                      </m:fPr>
                      <m:num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1" name=""/>
          <p:cNvSpPr/>
          <p:nvPr/>
        </p:nvSpPr>
        <p:spPr>
          <a:xfrm>
            <a:off x="1439280" y="5867280"/>
            <a:ext cx="1674360" cy="398880"/>
          </a:xfrm>
          <a:prstGeom prst="rect">
            <a:avLst/>
          </a:prstGeom>
          <a:solidFill>
            <a:srgbClr val="ffcc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O Aliasing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F122-46E0-4C20-ADB6-C92DA07DA36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01C5F8-E0CA-43D9-BFD1-5E61B0E87A3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1066680" y="3124080"/>
                <a:ext cx="6985080" cy="32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 </m:t>
                        </m:r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n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then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sup>
                        </m:sSup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n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  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z</m:t>
                            </m:r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</m:t>
                                </m:r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</m:sup>
                            </m:sSup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INUSOIDAL RESPONS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x[n] = SINUSOID =&gt; y[n] is SINUSOID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et MAGNITUDE &amp; PHASE from H(z)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6476760" y="2971800"/>
            <a:ext cx="609480" cy="243828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2971800"/>
            <a:ext cx="685800" cy="281952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5D3A-CABE-42FB-9E7F-046F633F566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F6430C-CF12-45DF-B544-DCDFA21BAC1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POP QUIZ INSIDE ANSWER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iven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e input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en y[n]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252960" y="3276720"/>
                <a:ext cx="37810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p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2438280" y="1828800"/>
                <a:ext cx="313560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3176640" y="4191120"/>
                <a:ext cx="51544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pn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420840" y="5033880"/>
                <a:ext cx="799128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p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  <m:r>
                              <m:t xml:space="preserve">p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  <m:r>
                              <m:t xml:space="preserve">p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52</m:t>
                        </m:r>
                        <m:r>
                          <m:t xml:space="preserve">p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3" name=""/>
          <p:cNvSpPr/>
          <p:nvPr/>
        </p:nvSpPr>
        <p:spPr>
          <a:xfrm flipH="1" flipV="1">
            <a:off x="4876560" y="4648320"/>
            <a:ext cx="1600200" cy="83808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7924680" y="4800600"/>
            <a:ext cx="0" cy="5335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6320" y="2438280"/>
            <a:ext cx="2286000" cy="3124440"/>
          </a:xfrm>
          <a:custGeom>
            <a:avLst/>
            <a:gdLst/>
            <a:ahLst/>
            <a:rect l="l" t="t" r="r" b="b"/>
            <a:pathLst>
              <a:path w="1440" h="1968">
                <a:moveTo>
                  <a:pt x="192" y="1968"/>
                </a:moveTo>
                <a:cubicBezTo>
                  <a:pt x="132" y="1884"/>
                  <a:pt x="72" y="1800"/>
                  <a:pt x="48" y="1632"/>
                </a:cubicBezTo>
                <a:cubicBezTo>
                  <a:pt x="24" y="1464"/>
                  <a:pt x="0" y="1175"/>
                  <a:pt x="48" y="960"/>
                </a:cubicBezTo>
                <a:cubicBezTo>
                  <a:pt x="95" y="744"/>
                  <a:pt x="104" y="495"/>
                  <a:pt x="336" y="336"/>
                </a:cubicBezTo>
                <a:cubicBezTo>
                  <a:pt x="567" y="176"/>
                  <a:pt x="1003" y="88"/>
                  <a:pt x="1440" y="0"/>
                </a:cubicBezTo>
              </a:path>
            </a:pathLst>
          </a:custGeom>
          <a:noFill/>
          <a:ln w="76320">
            <a:solidFill>
              <a:srgbClr val="333399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362D-ED24-4B69-BD2C-63BACE3CF00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B8435C-5BB6-458E-900B-183A7735823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POP QUIZ ANSWER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iven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Whe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e output i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2438280" y="3983040"/>
                <a:ext cx="441324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000</m:t>
                    </m:r>
                    <m:r>
                      <m:t xml:space="preserve">p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3700440" y="2286000"/>
                <a:ext cx="182880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0" name=""/>
          <p:cNvSpPr/>
          <p:nvPr/>
        </p:nvSpPr>
        <p:spPr>
          <a:xfrm>
            <a:off x="6553080" y="2438280"/>
            <a:ext cx="1067040" cy="914400"/>
          </a:xfrm>
          <a:prstGeom prst="rect">
            <a:avLst/>
          </a:prstGeom>
          <a:solidFill>
            <a:srgbClr val="ffcc00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D-to-A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600200" y="2438280"/>
            <a:ext cx="1066680" cy="914400"/>
          </a:xfrm>
          <a:prstGeom prst="rect">
            <a:avLst/>
          </a:prstGeom>
          <a:solidFill>
            <a:srgbClr val="ffcc00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A-to-D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666880" y="289548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562720" y="2895480"/>
            <a:ext cx="99036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620120" y="2895480"/>
            <a:ext cx="99036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9480" y="289548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840" y="243828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x(t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848720" y="243828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y(t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716080" y="243828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y[n]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820960" y="24382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x[n]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152280" y="3392640"/>
                <a:ext cx="198144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00</m:t>
                    </m:r>
                    <m: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685800" y="5486400"/>
                <a:ext cx="76392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000</m:t>
                    </m:r>
                    <m:r>
                      <m:t xml:space="preserve">pt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2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461F-30DD-46F3-8FE7-6C31882B5D8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A29AA0-9629-4769-9B30-82D6F618C3B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ANOTHER INPUT FREQ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iven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nd the output, y(t)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he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3700440" y="2590920"/>
                <a:ext cx="182880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5" name=""/>
          <p:cNvSpPr/>
          <p:nvPr/>
        </p:nvSpPr>
        <p:spPr>
          <a:xfrm>
            <a:off x="6553080" y="2743200"/>
            <a:ext cx="106704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D-to-A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600200" y="2743200"/>
            <a:ext cx="106668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A-to-D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666880" y="320040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562720" y="3200400"/>
            <a:ext cx="99036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620120" y="3200400"/>
            <a:ext cx="99036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9480" y="320040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9840" y="274320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x(t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848720" y="274320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y(t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716080" y="274320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y[n]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820960" y="27432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x[n]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1143000" y="5573880"/>
                <a:ext cx="251460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00</m:t>
                    </m:r>
                    <m: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6" name=""/>
          <p:cNvSpPr/>
          <p:nvPr/>
        </p:nvSpPr>
        <p:spPr>
          <a:xfrm>
            <a:off x="177840" y="3429000"/>
            <a:ext cx="1422360" cy="2438280"/>
          </a:xfrm>
          <a:custGeom>
            <a:avLst/>
            <a:gdLst/>
            <a:ahLst/>
            <a:rect l="l" t="t" r="r" b="b"/>
            <a:pathLst>
              <a:path w="896" h="1536">
                <a:moveTo>
                  <a:pt x="560" y="1536"/>
                </a:moveTo>
                <a:cubicBezTo>
                  <a:pt x="412" y="1528"/>
                  <a:pt x="264" y="1520"/>
                  <a:pt x="176" y="1344"/>
                </a:cubicBezTo>
                <a:cubicBezTo>
                  <a:pt x="88" y="1168"/>
                  <a:pt x="0" y="687"/>
                  <a:pt x="32" y="480"/>
                </a:cubicBezTo>
                <a:cubicBezTo>
                  <a:pt x="63" y="272"/>
                  <a:pt x="224" y="175"/>
                  <a:pt x="368" y="96"/>
                </a:cubicBezTo>
                <a:cubicBezTo>
                  <a:pt x="511" y="16"/>
                  <a:pt x="703" y="8"/>
                  <a:pt x="896" y="0"/>
                </a:cubicBezTo>
              </a:path>
            </a:pathLst>
          </a:custGeom>
          <a:noFill/>
          <a:ln w="38160">
            <a:solidFill>
              <a:srgbClr val="333399"/>
            </a:solidFill>
            <a:prstDash val="sysDot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5651640" y="5526000"/>
          <a:ext cx="2577960" cy="119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1640" y="5526000"/>
                    <a:ext cx="2577960" cy="1197000"/>
                  </a:xfrm>
                  <a:prstGeom prst="rect">
                    <a:avLst/>
                  </a:prstGeom>
                  <a:ln w="5724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09" name=""/>
          <p:cNvSpPr/>
          <p:nvPr/>
        </p:nvSpPr>
        <p:spPr>
          <a:xfrm flipH="1">
            <a:off x="3048120" y="2209680"/>
            <a:ext cx="457200" cy="6098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3429000" y="1752480"/>
                <a:ext cx="114300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2438280" y="4521240"/>
                <a:ext cx="548640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7500</m:t>
                    </m:r>
                    <m:r>
                      <m:t xml:space="preserve">)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A575-1F6F-47ED-B24E-1A6EB3FAB15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0B211C-2CAA-4FA1-A719-C4E1F98F897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2nd POP QUIZ ANSWER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iven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Whe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3700440" y="2590920"/>
                <a:ext cx="182880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5" name=""/>
          <p:cNvSpPr/>
          <p:nvPr/>
        </p:nvSpPr>
        <p:spPr>
          <a:xfrm>
            <a:off x="6553080" y="2743200"/>
            <a:ext cx="106704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D-to-A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2743200"/>
            <a:ext cx="106668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A-to-D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666880" y="320040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562720" y="3200400"/>
            <a:ext cx="99036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620120" y="3200400"/>
            <a:ext cx="99036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09480" y="320040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09840" y="274320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x(t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848720" y="274320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y(t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16080" y="274320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y[n]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820960" y="27432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x[n]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304920" y="5486400"/>
                <a:ext cx="213336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00</m:t>
                    </m:r>
                    <m: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26" name=""/>
          <p:cNvGraphicFramePr/>
          <p:nvPr/>
        </p:nvGraphicFramePr>
        <p:xfrm>
          <a:off x="5560920" y="5105520"/>
          <a:ext cx="2933640" cy="108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0920" y="5105520"/>
                    <a:ext cx="2933640" cy="1082520"/>
                  </a:xfrm>
                  <a:prstGeom prst="rect">
                    <a:avLst/>
                  </a:prstGeom>
                  <a:ln w="5724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28" name=""/>
          <p:cNvSpPr/>
          <p:nvPr/>
        </p:nvSpPr>
        <p:spPr>
          <a:xfrm>
            <a:off x="2438280" y="556272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66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029200" y="556272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66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3048120" y="2209680"/>
            <a:ext cx="457200" cy="6098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7848720" y="3505320"/>
          <a:ext cx="1090440" cy="46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3505320"/>
                    <a:ext cx="1090440" cy="465120"/>
                  </a:xfrm>
                  <a:prstGeom prst="rect">
                    <a:avLst/>
                  </a:prstGeom>
                  <a:ln w="5724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2209680" y="4114800"/>
                <a:ext cx="548640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7500</m:t>
                    </m:r>
                    <m:r>
                      <m:t xml:space="preserve">)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 rot="10800000">
                <a:off x="2514600" y="1715400"/>
                <a:ext cx="518148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7500</m:t>
                    </m:r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 rot="10800000">
                <a:off x="2971800" y="5257800"/>
                <a:ext cx="205740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8EF5-043C-479C-9EB9-9E1EB6F79BF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EFB877-FEE3-44FD-A6A1-45C90732022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IMPORTANT CONCEPT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956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LL Signals have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Frequency Conten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um of Sinusoid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mplex Exponential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mpulses, Square Pulse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FILTERS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alter the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Frequency Conten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mage Processing Example: Blur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Linear Time-Invariant Processing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3 Domains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for Analysi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9242-9146-4AEE-A972-95815A9DAA6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37F6BA-2B7E-450A-9E43-E0B87022425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uperficial Knowledg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77724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t depends how carefully you think about it.  If you don’t think very carefully it’s obvious; but if you think about it in depth, you’ll get confused and it won’t be obvious. 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non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C115-4C47-4D2F-ADD1-D66758FB77B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A4777B-5176-46FF-8DB8-94C23721F0CB}" type="datetime1">
              <a:rPr lang="en-US"/>
              <a:t>07/29/26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THREE DOMAIN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457200" y="1419120"/>
            <a:ext cx="8458200" cy="543888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 flipV="1">
            <a:off x="2438280" y="2057400"/>
            <a:ext cx="1828800" cy="2666880"/>
          </a:xfrm>
          <a:prstGeom prst="line">
            <a:avLst/>
          </a:prstGeom>
          <a:ln w="7632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255600" y="2001960"/>
                <a:ext cx="3325680" cy="12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k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l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4" name=""/>
          <p:cNvSpPr/>
          <p:nvPr/>
        </p:nvSpPr>
        <p:spPr>
          <a:xfrm>
            <a:off x="6248520" y="2514600"/>
            <a:ext cx="1371600" cy="2362320"/>
          </a:xfrm>
          <a:prstGeom prst="line">
            <a:avLst/>
          </a:prstGeom>
          <a:ln w="76320">
            <a:solidFill>
              <a:srgbClr val="ff66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6400800" y="2994120"/>
                <a:ext cx="1981080" cy="81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AEB1-7D86-4AEC-AE1A-CCAA847BA77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5F24CC-58C8-4176-93C7-972F1453E72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THE FUTUR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ircuits &amp;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Laplace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Transform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2514600" y="3048120"/>
            <a:ext cx="1295280" cy="1295280"/>
          </a:xfrm>
          <a:prstGeom prst="line">
            <a:avLst/>
          </a:prstGeom>
          <a:ln w="7632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3886200" y="2666880"/>
                <a:ext cx="91908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5943600" y="4267080"/>
                <a:ext cx="123660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1981080" y="4343400"/>
                <a:ext cx="74304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2" name=""/>
          <p:cNvSpPr/>
          <p:nvPr/>
        </p:nvSpPr>
        <p:spPr>
          <a:xfrm flipH="1">
            <a:off x="2743200" y="4495680"/>
            <a:ext cx="3200400" cy="0"/>
          </a:xfrm>
          <a:prstGeom prst="line">
            <a:avLst/>
          </a:prstGeom>
          <a:ln w="7632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76920" y="3124080"/>
            <a:ext cx="1143000" cy="1067040"/>
          </a:xfrm>
          <a:prstGeom prst="line">
            <a:avLst/>
          </a:prstGeom>
          <a:ln w="7632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400800" y="4876920"/>
            <a:ext cx="1676520" cy="82548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Frequency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Respons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37920" y="4952880"/>
            <a:ext cx="2646720" cy="82548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Implementation i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RLC-op-amp circui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208480" y="2514600"/>
            <a:ext cx="3647880" cy="45972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Polynomials: Poles &amp; Zero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7ADC-19A8-4DAF-AF75-DB74BA0B81C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762A6E-B8D8-414D-B78F-01F6033027B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ECTURE OBJECTIV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5345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Sampling Theorem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Revisited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ENERAL: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in the FREQUENCY DOMAI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ourier transform of sampled signa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construction from sampl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ffective Frequency Respons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mportant FT propertie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nvolution </a:t>
            </a:r>
            <a:r>
              <a:rPr b="0" lang="en-US" sz="2400" spc="-1" strike="noStrike">
                <a:solidFill>
                  <a:srgbClr val="333399"/>
                </a:solidFill>
                <a:latin typeface="Wingdings"/>
                <a:ea typeface="Wingdings"/>
              </a:rPr>
              <a:t>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multiplicat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requency shifting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433F-9465-4C68-A7A2-4A4B6ECA5C5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4E9342-F80E-4D60-89D3-F9F3A5F4911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Mathematical Eleganc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380880" y="1752480"/>
            <a:ext cx="7943040" cy="1198800"/>
            <a:chOff x="380880" y="1752480"/>
            <a:chExt cx="7943040" cy="1198800"/>
          </a:xfrm>
        </p:grpSpPr>
        <p:graphicFrame>
          <p:nvGraphicFramePr>
            <p:cNvPr id="360" name=""/>
            <p:cNvGraphicFramePr/>
            <p:nvPr/>
          </p:nvGraphicFramePr>
          <p:xfrm>
            <a:off x="380880" y="1752480"/>
            <a:ext cx="4572000" cy="1198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6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0880" y="1752480"/>
                      <a:ext cx="4572000" cy="1198800"/>
                    </a:xfrm>
                    <a:prstGeom prst="rect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362" name=""/>
            <p:cNvSpPr/>
            <p:nvPr/>
          </p:nvSpPr>
          <p:spPr>
            <a:xfrm>
              <a:off x="5291640" y="1905120"/>
              <a:ext cx="3032280" cy="825480"/>
            </a:xfrm>
            <a:prstGeom prst="rect">
              <a:avLst/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Tahoma"/>
                </a:rPr>
                <a:t>Fourier Synthesis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Tahoma"/>
                </a:rPr>
                <a:t>(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ahoma"/>
                </a:rPr>
                <a:t>Inverse</a:t>
              </a:r>
              <a:r>
                <a:rPr b="1" i="1" lang="en-US" sz="2400" spc="-1" strike="noStrike">
                  <a:solidFill>
                    <a:srgbClr val="333399"/>
                  </a:solidFill>
                  <a:latin typeface="Tahoma"/>
                </a:rPr>
                <a:t> Transform)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aphicFrame>
        <p:nvGraphicFramePr>
          <p:cNvPr id="363" name=""/>
          <p:cNvGraphicFramePr/>
          <p:nvPr/>
        </p:nvGraphicFramePr>
        <p:xfrm>
          <a:off x="380880" y="5105520"/>
          <a:ext cx="7467840" cy="12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5105520"/>
                    <a:ext cx="7467840" cy="121896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365" name="" descr=""/>
          <p:cNvPicPr/>
          <p:nvPr/>
        </p:nvPicPr>
        <p:blipFill>
          <a:blip r:embed="rId5"/>
          <a:stretch/>
        </p:blipFill>
        <p:spPr>
          <a:xfrm>
            <a:off x="6553080" y="1447920"/>
            <a:ext cx="2130480" cy="2590560"/>
          </a:xfrm>
          <a:prstGeom prst="rect">
            <a:avLst/>
          </a:prstGeom>
          <a:ln w="0">
            <a:noFill/>
          </a:ln>
        </p:spPr>
      </p:pic>
      <p:grpSp>
        <p:nvGrpSpPr>
          <p:cNvPr id="366" name=""/>
          <p:cNvGrpSpPr/>
          <p:nvPr/>
        </p:nvGrpSpPr>
        <p:grpSpPr>
          <a:xfrm>
            <a:off x="331920" y="3400560"/>
            <a:ext cx="7776000" cy="1400040"/>
            <a:chOff x="331920" y="3400560"/>
            <a:chExt cx="7776000" cy="1400040"/>
          </a:xfrm>
        </p:grpSpPr>
        <p:graphicFrame>
          <p:nvGraphicFramePr>
            <p:cNvPr id="367" name=""/>
            <p:cNvGraphicFramePr/>
            <p:nvPr/>
          </p:nvGraphicFramePr>
          <p:xfrm>
            <a:off x="331920" y="3400560"/>
            <a:ext cx="4392360" cy="14000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368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31920" y="3400560"/>
                      <a:ext cx="4392360" cy="1400040"/>
                    </a:xfrm>
                    <a:prstGeom prst="rect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369" name=""/>
            <p:cNvSpPr/>
            <p:nvPr/>
          </p:nvSpPr>
          <p:spPr>
            <a:xfrm>
              <a:off x="4944600" y="3936960"/>
              <a:ext cx="3163320" cy="825480"/>
            </a:xfrm>
            <a:prstGeom prst="rect">
              <a:avLst/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Tahoma"/>
                </a:rPr>
                <a:t>Fourier Analysis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Tahoma"/>
                </a:rPr>
                <a:t>(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ahoma"/>
                </a:rPr>
                <a:t>Forward</a:t>
              </a:r>
              <a:r>
                <a:rPr b="1" i="1" lang="en-US" sz="2400" spc="-1" strike="noStrike">
                  <a:solidFill>
                    <a:srgbClr val="333399"/>
                  </a:solidFill>
                  <a:latin typeface="Tahoma"/>
                </a:rPr>
                <a:t> Transform)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B078-1E7A-408B-8FB9-9186596D67F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964F5D-9453-416E-9FDF-8A5CA35544A1}" type="datetime1">
              <a:rPr lang="en-US"/>
              <a:t>07/29/26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Higher Education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76201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 primary goal of undergraduate education should be happy graduates; happy alums make better donors.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non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BB05-E216-4CE9-A879-4D9E69DA197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8781C6-191B-468C-9DC6-DB729A14E78B}" type="datetime1">
              <a:rPr lang="en-US"/>
              <a:t>07/29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sys_Reconstruct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229600" cy="32958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ampling: Freq. Domain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92" name=""/>
          <p:cNvSpPr/>
          <p:nvPr/>
        </p:nvSpPr>
        <p:spPr>
          <a:xfrm>
            <a:off x="6275520" y="3429000"/>
            <a:ext cx="2405880" cy="13737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XPECT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REQUENCY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HIFTING !!!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609480" y="4800600"/>
                <a:ext cx="7239240" cy="15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k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380880" y="3200400"/>
                <a:ext cx="396252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k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B0BA-AED3-4167-8975-CA6699F4C89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B7CF7B-2834-4F93-91A4-0989061CC14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aliased1_signal_trans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8839440" cy="16668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requency-Domain Representation of Sampling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600200" y="3222720"/>
          <a:ext cx="6172200" cy="1197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3222720"/>
                    <a:ext cx="6172200" cy="119700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380880" y="1736640"/>
            <a:ext cx="24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Typical”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bandlimited signal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00" name="aliased2_signal_trans" descr=""/>
          <p:cNvPicPr/>
          <p:nvPr/>
        </p:nvPicPr>
        <p:blipFill>
          <a:blip r:embed="rId4"/>
          <a:stretch/>
        </p:blipFill>
        <p:spPr>
          <a:xfrm>
            <a:off x="152280" y="4495680"/>
            <a:ext cx="8839440" cy="2379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8D4D-67CB-485A-9CD3-23C26AE857B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60F4D4-AC96-4F79-A210-C886465085E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Aliasing Distortion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3029040"/>
            <a:ext cx="81788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f </a:t>
            </a:r>
            <a:r>
              <a:rPr b="0" i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</a:t>
            </a:r>
            <a:r>
              <a:rPr b="0" i="1" lang="en-US" sz="32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&lt; 2</a:t>
            </a:r>
            <a:r>
              <a:rPr b="0" i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</a:t>
            </a:r>
            <a:r>
              <a:rPr b="0" i="1" lang="en-US" sz="3200" spc="-1" strike="noStrike" baseline="-25000">
                <a:solidFill>
                  <a:srgbClr val="333399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the copies of 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j</a:t>
            </a:r>
            <a:r>
              <a:rPr b="0" i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overlap, and we hav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liasing distortion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03" name="aliased3_signal_trans" descr=""/>
          <p:cNvPicPr/>
          <p:nvPr/>
        </p:nvPicPr>
        <p:blipFill>
          <a:blip r:embed="rId1"/>
          <a:stretch/>
        </p:blipFill>
        <p:spPr>
          <a:xfrm>
            <a:off x="304920" y="4343400"/>
            <a:ext cx="8686800" cy="2017800"/>
          </a:xfrm>
          <a:prstGeom prst="rect">
            <a:avLst/>
          </a:prstGeom>
          <a:ln w="0">
            <a:noFill/>
          </a:ln>
        </p:spPr>
      </p:pic>
      <p:pic>
        <p:nvPicPr>
          <p:cNvPr id="104" name="aliased1_signal_trans" descr=""/>
          <p:cNvPicPr/>
          <p:nvPr/>
        </p:nvPicPr>
        <p:blipFill>
          <a:blip r:embed="rId2"/>
          <a:stretch/>
        </p:blipFill>
        <p:spPr>
          <a:xfrm>
            <a:off x="304920" y="1333440"/>
            <a:ext cx="8686800" cy="16383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80880" y="1600200"/>
            <a:ext cx="24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Typical”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bandlimited signal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B193-7825-4FA8-B92B-7948308ACD8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0D90BE-CD31-442A-BE51-4A73A16C32E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sys_Reconstruct" descr=""/>
          <p:cNvPicPr/>
          <p:nvPr/>
        </p:nvPicPr>
        <p:blipFill>
          <a:blip r:embed="rId1"/>
          <a:srcRect l="0" t="0" r="0" b="37572"/>
          <a:stretch/>
        </p:blipFill>
        <p:spPr>
          <a:xfrm>
            <a:off x="457200" y="1219320"/>
            <a:ext cx="8229600" cy="20574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Reconstruction of </a:t>
            </a:r>
            <a:r>
              <a:rPr b="0" i="1" lang="en-US" sz="4000" spc="-1" strike="noStrike">
                <a:solidFill>
                  <a:srgbClr val="0000cc"/>
                </a:solidFill>
                <a:latin typeface="Arial Black"/>
              </a:rPr>
              <a:t>x</a:t>
            </a: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(</a:t>
            </a:r>
            <a:r>
              <a:rPr b="0" i="1" lang="en-US" sz="4000" spc="-1" strike="noStrike">
                <a:solidFill>
                  <a:srgbClr val="0000cc"/>
                </a:solidFill>
                <a:latin typeface="Arial Black"/>
              </a:rPr>
              <a:t>t</a:t>
            </a: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)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514600" y="3124080"/>
          <a:ext cx="4572000" cy="974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14600" y="3124080"/>
                    <a:ext cx="4572000" cy="97488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1676520" y="4343400"/>
          <a:ext cx="5486400" cy="1063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76520" y="4343400"/>
                    <a:ext cx="5486400" cy="10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1828800" y="5638680"/>
          <a:ext cx="5181480" cy="546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828800" y="5638680"/>
                    <a:ext cx="5181480" cy="54612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A003-BF90-43D8-AAF5-D2683CCE130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676BD0-9789-48C2-A228-D960C039A74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reconstruct_trans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5678280" cy="59436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 Black"/>
              </a:rPr>
              <a:t>Reconstruction: Frequency-Domain</a:t>
            </a:r>
            <a:endParaRPr b="0" lang="en-US" sz="3600" spc="-1" strike="noStrike">
              <a:solidFill>
                <a:srgbClr val="0000cc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638680" y="2743200"/>
                <a:ext cx="335304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&gt;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the copies of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do not overlap, so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17" name=""/>
          <p:cNvGrpSpPr/>
          <p:nvPr/>
        </p:nvGrpSpPr>
        <p:grpSpPr>
          <a:xfrm>
            <a:off x="304920" y="3276720"/>
            <a:ext cx="2286000" cy="761760"/>
            <a:chOff x="304920" y="3276720"/>
            <a:chExt cx="2286000" cy="761760"/>
          </a:xfrm>
        </p:grpSpPr>
        <p:sp>
          <p:nvSpPr>
            <p:cNvPr id="118" name=""/>
            <p:cNvSpPr/>
            <p:nvPr/>
          </p:nvSpPr>
          <p:spPr>
            <a:xfrm>
              <a:off x="1371600" y="3581280"/>
              <a:ext cx="1219320" cy="4572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graphicFrame>
          <p:nvGraphicFramePr>
            <p:cNvPr id="119" name=""/>
            <p:cNvGraphicFramePr/>
            <p:nvPr/>
          </p:nvGraphicFramePr>
          <p:xfrm>
            <a:off x="304920" y="3276720"/>
            <a:ext cx="1117440" cy="3682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2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04920" y="3276720"/>
                      <a:ext cx="1117440" cy="36828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7DD0-F6C7-4B51-B6B2-6B60CD59CC8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709542-CD7E-49AA-A5AF-9F3F917C9AC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ideal_BLht_Recon_Filter" descr=""/>
          <p:cNvPicPr/>
          <p:nvPr/>
        </p:nvPicPr>
        <p:blipFill>
          <a:blip r:embed="rId1"/>
          <a:stretch/>
        </p:blipFill>
        <p:spPr>
          <a:xfrm>
            <a:off x="1219320" y="4056120"/>
            <a:ext cx="6324480" cy="2589120"/>
          </a:xfrm>
          <a:prstGeom prst="rect">
            <a:avLst/>
          </a:prstGeom>
          <a:ln w="0">
            <a:noFill/>
          </a:ln>
        </p:spPr>
      </p:pic>
      <p:pic>
        <p:nvPicPr>
          <p:cNvPr id="122" name="ideal_BL_Recon_Filter" descr=""/>
          <p:cNvPicPr/>
          <p:nvPr/>
        </p:nvPicPr>
        <p:blipFill>
          <a:blip r:embed="rId2"/>
          <a:stretch/>
        </p:blipFill>
        <p:spPr>
          <a:xfrm>
            <a:off x="1600200" y="1371600"/>
            <a:ext cx="7467480" cy="24289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Ideal Reconstruction Filter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52280" y="4038480"/>
          <a:ext cx="2819520" cy="170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4038480"/>
                    <a:ext cx="2819520" cy="170676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304920" y="1447920"/>
          <a:ext cx="3289320" cy="1485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1447920"/>
                    <a:ext cx="3289320" cy="148572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28" name=""/>
          <p:cNvGrpSpPr/>
          <p:nvPr/>
        </p:nvGrpSpPr>
        <p:grpSpPr>
          <a:xfrm>
            <a:off x="4419720" y="4191120"/>
            <a:ext cx="2128680" cy="457200"/>
            <a:chOff x="4419720" y="4191120"/>
            <a:chExt cx="2128680" cy="457200"/>
          </a:xfrm>
        </p:grpSpPr>
        <p:graphicFrame>
          <p:nvGraphicFramePr>
            <p:cNvPr id="129" name=""/>
            <p:cNvGraphicFramePr/>
            <p:nvPr/>
          </p:nvGraphicFramePr>
          <p:xfrm>
            <a:off x="5181480" y="4191120"/>
            <a:ext cx="1366920" cy="399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3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181480" y="4191120"/>
                      <a:ext cx="1366920" cy="39996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31" name=""/>
            <p:cNvSpPr/>
            <p:nvPr/>
          </p:nvSpPr>
          <p:spPr>
            <a:xfrm flipH="1">
              <a:off x="4419720" y="4419720"/>
              <a:ext cx="761760" cy="2286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5028840" y="5280120"/>
            <a:ext cx="4115160" cy="914400"/>
            <a:chOff x="5028840" y="5280120"/>
            <a:chExt cx="4115160" cy="914400"/>
          </a:xfrm>
        </p:grpSpPr>
        <p:graphicFrame>
          <p:nvGraphicFramePr>
            <p:cNvPr id="133" name=""/>
            <p:cNvGraphicFramePr/>
            <p:nvPr/>
          </p:nvGraphicFramePr>
          <p:xfrm>
            <a:off x="5238720" y="5280120"/>
            <a:ext cx="3905280" cy="4143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34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238720" y="5280120"/>
                      <a:ext cx="3905280" cy="41436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35" name=""/>
            <p:cNvSpPr/>
            <p:nvPr/>
          </p:nvSpPr>
          <p:spPr>
            <a:xfrm flipH="1">
              <a:off x="5028840" y="5661000"/>
              <a:ext cx="228600" cy="5335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4270-48BE-4A73-B75D-41AAFA822A6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A6F185-671C-40D8-BFB7-5D5345EADE5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9T04:53:29Z</dcterms:created>
  <dc:creator>Jim McClellan</dc:creator>
  <dc:description/>
  <dc:language>en-US</dc:language>
  <cp:lastModifiedBy>Jim McClellan</cp:lastModifiedBy>
  <cp:lastPrinted>1999-11-02T00:50:16Z</cp:lastPrinted>
  <dcterms:modified xsi:type="dcterms:W3CDTF">2003-08-21T22:11:41Z</dcterms:modified>
  <cp:revision>486</cp:revision>
  <dc:subject/>
  <dc:title>SPFirst Lecture #26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users.ece.gatech.edu/mcclella</vt:lpwstr>
  </property>
  <property fmtid="{D5CDD505-2E9C-101B-9397-08002B2CF9AE}" pid="9" name="LinkColor">
    <vt:r8>16711782</vt:r8>
  </property>
  <property fmtid="{D5CDD505-2E9C-101B-9397-08002B2CF9AE}" pid="10" name="MailAddress">
    <vt:lpwstr>jim.mcclellan@ece.gatech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D: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