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5.png" ContentType="image/png"/>
  <Override PartName="/ppt/media/image12.wmf" ContentType="image/x-wmf"/>
  <Override PartName="/ppt/media/image54.wmf" ContentType="image/x-wmf"/>
  <Override PartName="/ppt/media/image51.wmf" ContentType="image/x-wmf"/>
  <Override PartName="/ppt/media/image50.wmf" ContentType="image/x-wmf"/>
  <Override PartName="/ppt/media/image28.png" ContentType="image/png"/>
  <Override PartName="/ppt/media/image52.wmf" ContentType="image/x-wmf"/>
  <Override PartName="/ppt/media/image49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71.png" ContentType="image/png"/>
  <Override PartName="/ppt/media/image29.wmf" ContentType="image/x-wmf"/>
  <Override PartName="/ppt/media/image68.png" ContentType="image/png"/>
  <Override PartName="/ppt/media/image31.png" ContentType="image/png"/>
  <Override PartName="/ppt/media/image1.png" ContentType="image/png"/>
  <Override PartName="/ppt/media/image17.png" ContentType="image/png"/>
  <Override PartName="/ppt/media/image20.wmf" ContentType="image/x-wmf"/>
  <Override PartName="/ppt/media/image56.wmf" ContentType="image/x-wmf"/>
  <Override PartName="/ppt/media/image19.wmf" ContentType="image/x-wmf"/>
  <Override PartName="/ppt/media/image21.wmf" ContentType="image/x-wmf"/>
  <Override PartName="/ppt/media/image60.png" ContentType="image/png"/>
  <Override PartName="/ppt/media/image24.wmf" ContentType="image/x-wmf"/>
  <Override PartName="/ppt/media/image23.png" ContentType="image/png"/>
  <Override PartName="/ppt/media/image63.wmf" ContentType="image/x-wmf"/>
  <Override PartName="/ppt/media/image22.wmf" ContentType="image/x-wmf"/>
  <Override PartName="/ppt/media/image61.png" ContentType="image/png"/>
  <Override PartName="/ppt/media/image74.png" ContentType="image/png"/>
  <Override PartName="/ppt/media/image5.wmf" ContentType="image/x-wmf"/>
  <Override PartName="/ppt/media/image35.wmf" ContentType="image/x-wmf"/>
  <Override PartName="/ppt/media/image62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7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66.png" ContentType="image/png"/>
  <Override PartName="/ppt/media/image27.wmf" ContentType="image/x-wmf"/>
  <Override PartName="/ppt/media/image65.wmf" ContentType="image/x-wmf"/>
  <Override PartName="/ppt/media/image25.png" ContentType="image/png"/>
  <Override PartName="/ppt/media/image64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58.png" ContentType="image/png"/>
  <Override PartName="/ppt/media/image3.wmf" ContentType="image/x-wmf"/>
  <Override PartName="/ppt/media/image15.wmf" ContentType="image/x-wmf"/>
  <Override PartName="/ppt/media/image40.wmf" ContentType="image/x-wmf"/>
  <Override PartName="/ppt/media/image26.png" ContentType="image/png"/>
  <Override PartName="/ppt/media/image11.wmf" ContentType="image/x-wmf"/>
  <Override PartName="/ppt/media/image48.wmf" ContentType="image/x-wmf"/>
  <Override PartName="/ppt/media/image7.png" ContentType="image/png"/>
  <Override PartName="/ppt/media/image41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9.wmf" ContentType="image/x-wmf"/>
  <Override PartName="/ppt/media/image39.wmf" ContentType="image/x-wmf"/>
  <Override PartName="/ppt/media/image13.wmf" ContentType="image/x-wmf"/>
  <Override PartName="/ppt/media/image30.wmf" ContentType="image/x-wmf"/>
  <Override PartName="/ppt/media/image73.png" ContentType="image/png"/>
  <Override PartName="/ppt/media/image33.png" ContentType="image/png"/>
  <Override PartName="/ppt/media/image37.wmf" ContentType="image/x-wmf"/>
  <Override PartName="/ppt/media/image3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FF9-4680-4A31-9FD9-F76A2C5B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D51-0E92-4139-9937-23E1E7C4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468-7638-45EF-96FB-F5B069BD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5EC-0CAB-4DE0-A88C-3202C42C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CEA5-242C-4CCB-97E3-107A478A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A3FF-67F1-4171-B470-1DFB90E0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09CB-1512-42C4-8C0B-BAD27692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D955-8C79-4F76-9820-AD779C2C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523E-A8F1-4743-8400-5BF2289A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8151-2F0C-4B02-A9F8-91D74CEB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8B62-C40F-4372-A349-4C5D4853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242-31D4-44A0-A67D-37CE0B49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D271-58B0-4258-B246-A57C3361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AD7E-8CE8-4D1C-8559-E19DF79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F307-C16F-4AC4-84E2-8B3BBC23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EF81-82DB-4B0C-942E-45C47102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6226-1C92-4752-B986-67B6A93A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041-79DA-4FCF-8619-B1CF0D4C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87F-F1AA-46D1-B5A2-65C4CF54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241-0DEB-42A1-8522-93C04A1F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D51-C92F-423B-87F5-62ECAF7C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088-CF53-4A8C-A02F-23AA097E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B93-93E6-4136-8E3C-4EF68F6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84C-1ECD-47D4-9E4C-B1C9418A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2EEB-CE30-4D06-AC27-9109141DD2C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4956-E1B9-4018-981F-A965B4838C4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AF43-A2BF-4648-A4E6-5ED843E9C32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DC98-B01F-4718-B7E6-0F22406F65A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2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wmf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360" y="3428640"/>
            <a:ext cx="6553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8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3-Domains for II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4DF3-415F-4676-BD04-857649E5A9D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28D4B3C-BC23-421C-A67C-F6CA239690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2nd ORDER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5334120"/>
          <a:ext cx="556596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334120"/>
                    <a:ext cx="5565960" cy="128736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98360" y="2438280"/>
          <a:ext cx="796284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360" y="2438280"/>
                    <a:ext cx="7962840" cy="120168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19240" y="3809880"/>
          <a:ext cx="8091360" cy="137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240" y="3809880"/>
                    <a:ext cx="8091360" cy="137340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52280" y="1614600"/>
                <a:ext cx="8839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627-BAA7-41FB-8A85-B8BCBB19E6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F7599-6A95-4CBD-A7B6-D17E78B969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[n]: Decays &amp; Oscillat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48320" y="5486400"/>
          <a:ext cx="335268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486400"/>
                    <a:ext cx="3352680" cy="10605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809880" y="4572000"/>
          <a:ext cx="5181840" cy="6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572000"/>
                    <a:ext cx="5181840" cy="68724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219320" y="1227240"/>
            <a:ext cx="7772400" cy="3116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0" y="4114800"/>
            <a:ext cx="3479760" cy="2668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302960" y="1523880"/>
            <a:ext cx="1617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”=6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9E7-36C1-4758-8B9D-03345C3E0CE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5F75B-DF65-4AB0-A358-A7AE456CED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50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2nd ORDER Z-transform PA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752480"/>
          <a:ext cx="4326120" cy="6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4326120" cy="68760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2895480" y="2514600"/>
          <a:ext cx="603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514600"/>
                    <a:ext cx="6037560" cy="137304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125280" y="4191120"/>
            <a:ext cx="8796600" cy="2135160"/>
            <a:chOff x="125280" y="4191120"/>
            <a:chExt cx="8796600" cy="2135160"/>
          </a:xfrm>
        </p:grpSpPr>
        <p:graphicFrame>
          <p:nvGraphicFramePr>
            <p:cNvPr id="155" name=""/>
            <p:cNvGraphicFramePr/>
            <p:nvPr/>
          </p:nvGraphicFramePr>
          <p:xfrm>
            <a:off x="125280" y="4191120"/>
            <a:ext cx="5437440" cy="687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280" y="4191120"/>
                      <a:ext cx="5437440" cy="687240"/>
                    </a:xfrm>
                    <a:prstGeom prst="rect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2286000" y="4952880"/>
            <a:ext cx="6635880" cy="1373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0" y="4952880"/>
                      <a:ext cx="6635880" cy="1373400"/>
                    </a:xfrm>
                    <a:prstGeom prst="rect">
                      <a:avLst/>
                    </a:prstGeom>
                    <a:ln w="572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59" name=""/>
          <p:cNvSpPr/>
          <p:nvPr/>
        </p:nvSpPr>
        <p:spPr>
          <a:xfrm>
            <a:off x="6111000" y="1371600"/>
            <a:ext cx="269676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GENERAL ENTRY fo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z-Transform TABL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33F-714D-4C62-A694-7A40C7839C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D4ACA-9B24-4541-ABC7-2D214C1CDC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2nd ORDER EX: n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666880" y="1752480"/>
          <a:ext cx="335304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752480"/>
                    <a:ext cx="3353040" cy="10605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8880" y="4038480"/>
            <a:ext cx="8288280" cy="222696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aa = [ 1, -0.9, 0.81 ]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bb = [ 1, -0.45 ]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nn = -2:19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hh = filter( bb, aa, (nn==0) )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HH = freqz( bb, aa, [-pi,pi/100:pi] );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" y="3200400"/>
          <a:ext cx="868680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200400"/>
                    <a:ext cx="8686800" cy="4888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0F7-2D77-40D5-8F94-7ECDB995A6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40533-692E-4BF3-AAEC-75C772643E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5930640" cy="463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6172200" y="2286000"/>
          <a:ext cx="2825640" cy="126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286000"/>
                    <a:ext cx="2825640" cy="1266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724280" y="4829040"/>
            <a:ext cx="4114800" cy="189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7CB-7EF0-4EE6-BF57-50CC81A5923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CBF1F-3939-48C7-9149-054108196DE8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UNIT CIRC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PPING BETWE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638680" y="2514600"/>
                <a:ext cx="25146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724280" y="4186080"/>
                <a:ext cx="419112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«</m:t>
                          </m:r>
                        </m:e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z</m:t>
                          </m:r>
                          <m:r>
                            <m:rPr>
                              <m:lit/>
                              <m:nor/>
                            </m:rPr>
                            <m:t xml:space="preserve">=-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«</m:t>
                          </m:r>
                        </m:e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j</m:t>
                          </m:r>
                        </m:e>
                        <m:e>
                          <m:r>
                            <m:t xml:space="preserve">«</m:t>
                          </m:r>
                        </m:e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2403360"/>
            <a:ext cx="4419720" cy="3997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 flipV="1">
            <a:off x="3962520" y="4343040"/>
            <a:ext cx="914400" cy="152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1371240" y="4343400"/>
            <a:ext cx="3429000" cy="838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666520" y="5638320"/>
            <a:ext cx="213372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040360" y="1600200"/>
                <a:ext cx="1741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and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B04-FB01-4E3F-A641-95A4AEE8AF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B0329-B8E9-4382-BB24-B9A8B06D76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609120"/>
            <a:ext cx="8508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om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652920" y="1884240"/>
          <a:ext cx="51861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2920" y="1884240"/>
                    <a:ext cx="5186160" cy="1309680"/>
                  </a:xfrm>
                  <a:prstGeom prst="rect">
                    <a:avLst/>
                  </a:prstGeom>
                  <a:ln w="7632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371600" y="3733920"/>
            <a:ext cx="6553080" cy="3017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04920" y="1460520"/>
            <a:ext cx="3200400" cy="25020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1981080" y="1905120"/>
            <a:ext cx="4419720" cy="4267080"/>
            <a:chOff x="1981080" y="1905120"/>
            <a:chExt cx="4419720" cy="4267080"/>
          </a:xfrm>
        </p:grpSpPr>
        <p:sp>
          <p:nvSpPr>
            <p:cNvPr id="186" name=""/>
            <p:cNvSpPr/>
            <p:nvPr/>
          </p:nvSpPr>
          <p:spPr>
            <a:xfrm>
              <a:off x="6172200" y="4648320"/>
              <a:ext cx="228600" cy="1523880"/>
            </a:xfrm>
            <a:prstGeom prst="upArrow">
              <a:avLst>
                <a:gd name="adj1" fmla="val 50000"/>
                <a:gd name="adj2" fmla="val 166654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1080" y="1905120"/>
              <a:ext cx="228600" cy="685800"/>
            </a:xfrm>
            <a:prstGeom prst="upArrow">
              <a:avLst>
                <a:gd name="adj1" fmla="val 50000"/>
                <a:gd name="adj2" fmla="val 75000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0F4-8E3D-4A3D-9AEC-3DBBD38BF5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ACC82-7E10-40D8-9723-E2154A9F8B52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[n]: Decays &amp; Oscillat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648320" y="5486400"/>
          <a:ext cx="335268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5486400"/>
                    <a:ext cx="3352680" cy="10605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809880" y="4572000"/>
          <a:ext cx="5181840" cy="6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4572000"/>
                    <a:ext cx="5181840" cy="68724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219320" y="1227240"/>
            <a:ext cx="7772400" cy="3116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0" y="4114800"/>
            <a:ext cx="3479760" cy="2668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302960" y="1523880"/>
            <a:ext cx="1617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”=6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666-973B-4247-ACEE-D0BF1546E78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2A143-3D5A-4C1E-B499-D714A3E8F3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343400" y="4724280"/>
          <a:ext cx="4003560" cy="12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4724280"/>
                    <a:ext cx="4003560" cy="1266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895480" y="1463760"/>
            <a:ext cx="6032520" cy="2811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3479760" cy="2668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666880" y="1981080"/>
            <a:ext cx="4191120" cy="2667240"/>
          </a:xfrm>
          <a:custGeom>
            <a:avLst/>
            <a:gdLst/>
            <a:ahLst/>
            <a:rect l="l" t="t" r="r" b="b"/>
            <a:pathLst>
              <a:path w="2496" h="1712">
                <a:moveTo>
                  <a:pt x="0" y="1536"/>
                </a:moveTo>
                <a:cubicBezTo>
                  <a:pt x="136" y="1624"/>
                  <a:pt x="272" y="1712"/>
                  <a:pt x="576" y="1536"/>
                </a:cubicBezTo>
                <a:cubicBezTo>
                  <a:pt x="880" y="1360"/>
                  <a:pt x="1504" y="735"/>
                  <a:pt x="1824" y="480"/>
                </a:cubicBezTo>
                <a:cubicBezTo>
                  <a:pt x="2143" y="224"/>
                  <a:pt x="2319" y="112"/>
                  <a:pt x="2496" y="0"/>
                </a:cubicBez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D94-BC25-41D5-8529-4112DE4194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00F9F-777C-45BB-BFF6-A5A9376AFC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[n]: Decays &amp; Oscillat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267080" y="5410080"/>
          <a:ext cx="437688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5410080"/>
                    <a:ext cx="4376880" cy="10605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629160" y="4495680"/>
          <a:ext cx="5438520" cy="6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9160" y="4495680"/>
                    <a:ext cx="5438520" cy="687600"/>
                  </a:xfrm>
                  <a:prstGeom prst="rect">
                    <a:avLst/>
                  </a:prstGeom>
                  <a:ln w="5724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1752480" y="1371600"/>
            <a:ext cx="7162920" cy="2859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8160" y="4081320"/>
            <a:ext cx="3390840" cy="2624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301160" y="1523880"/>
            <a:ext cx="175968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IOD”=1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790-95A8-4D82-AD9F-CD9696A996E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A5905-1B84-4773-9713-688E5077F8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8FE0-7B7C-4B56-89B0-E1DC0A1601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59594-D326-4913-903A-D8D6CE71C2DA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965320" y="1447920"/>
            <a:ext cx="6178680" cy="28368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4145040"/>
            <a:ext cx="3505320" cy="27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3962520" y="4648320"/>
          <a:ext cx="4876560" cy="11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4648320"/>
                    <a:ext cx="4876560" cy="11811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895480" y="1981080"/>
            <a:ext cx="3733920" cy="3200400"/>
          </a:xfrm>
          <a:custGeom>
            <a:avLst/>
            <a:gdLst/>
            <a:ahLst/>
            <a:rect l="l" t="t" r="r" b="b"/>
            <a:pathLst>
              <a:path w="2496" h="1712">
                <a:moveTo>
                  <a:pt x="0" y="1536"/>
                </a:moveTo>
                <a:cubicBezTo>
                  <a:pt x="136" y="1624"/>
                  <a:pt x="272" y="1712"/>
                  <a:pt x="576" y="1536"/>
                </a:cubicBezTo>
                <a:cubicBezTo>
                  <a:pt x="880" y="1360"/>
                  <a:pt x="1504" y="735"/>
                  <a:pt x="1824" y="480"/>
                </a:cubicBezTo>
                <a:cubicBezTo>
                  <a:pt x="2143" y="224"/>
                  <a:pt x="2319" y="112"/>
                  <a:pt x="2496" y="0"/>
                </a:cubicBez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958-08C7-41AB-BBD4-17DDFB7242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3C5D2-08BD-4A10-91A4-9894922180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96920" y="1600200"/>
            <a:ext cx="6948360" cy="4724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I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74520" y="1447920"/>
            <a:ext cx="18464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LE MOV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120" y="4648320"/>
            <a:ext cx="6624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[n]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28080" y="4191120"/>
            <a:ext cx="7110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54640" y="2209680"/>
            <a:ext cx="663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z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990720" y="1905120"/>
            <a:ext cx="2438280" cy="30456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00D-768E-4847-B2CF-737B596D97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EC286-9DEA-4A66-B2C5-5D81CA45C9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INPU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9880" y="1752480"/>
          <a:ext cx="2971800" cy="9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752480"/>
                    <a:ext cx="2971800" cy="9921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048120" y="2209680"/>
            <a:ext cx="7617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1680" y="2209680"/>
            <a:ext cx="7621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209680" y="3890880"/>
            <a:ext cx="5334120" cy="24336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2189160" y="4495680"/>
            <a:ext cx="54100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4D2-09DA-4B7F-B67E-BC0794DD09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5D20A-E9FB-4136-8E52-412D44390D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04920" y="5029200"/>
                <a:ext cx="825480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9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ANSW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input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n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252960" y="3276720"/>
          <a:ext cx="378108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3276720"/>
                    <a:ext cx="3781080" cy="60156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176640" y="4191120"/>
          <a:ext cx="515448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6640" y="4191120"/>
                    <a:ext cx="5154480" cy="60156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 flipH="1" flipV="1">
            <a:off x="4876560" y="4648320"/>
            <a:ext cx="1600200" cy="838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924680" y="4800600"/>
            <a:ext cx="0" cy="533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320" y="2438280"/>
            <a:ext cx="2286000" cy="312444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192" y="1968"/>
                </a:moveTo>
                <a:cubicBezTo>
                  <a:pt x="132" y="1884"/>
                  <a:pt x="72" y="1800"/>
                  <a:pt x="48" y="1632"/>
                </a:cubicBezTo>
                <a:cubicBezTo>
                  <a:pt x="24" y="1464"/>
                  <a:pt x="0" y="1175"/>
                  <a:pt x="48" y="960"/>
                </a:cubicBezTo>
                <a:cubicBezTo>
                  <a:pt x="95" y="744"/>
                  <a:pt x="104" y="495"/>
                  <a:pt x="336" y="336"/>
                </a:cubicBezTo>
                <a:cubicBezTo>
                  <a:pt x="567" y="176"/>
                  <a:pt x="1003" y="88"/>
                  <a:pt x="1440" y="0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438280" y="1752480"/>
          <a:ext cx="320040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1752480"/>
                    <a:ext cx="3200400" cy="10684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4CA-E835-4075-B43A-F7F52C360D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6D268-2A2C-477D-84E8-400F5C24F0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Starting at n=0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input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n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38280" y="1752480"/>
          <a:ext cx="3200400" cy="10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2480"/>
                    <a:ext cx="3200400" cy="10684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124080" y="3211560"/>
                <a:ext cx="4648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730600" y="4114800"/>
                <a:ext cx="62737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ℜ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t xml:space="preserve">∗</m:t>
                            </m:r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ℜ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n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33520" y="5638680"/>
                <a:ext cx="68799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3FB-4E18-4826-8E64-0F5D53B1A1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AE555-A843-4EB8-AD48-0FB9083F6D2E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Starting at n=0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39840" y="1720800"/>
                <a:ext cx="62751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ℜ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2440" y="2562120"/>
                <a:ext cx="73436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sup>
                        </m:s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33520" y="3857760"/>
                <a:ext cx="577512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010280" y="4048200"/>
                <a:ext cx="1782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 flipH="1" flipV="1">
            <a:off x="5638680" y="4190760"/>
            <a:ext cx="1371600" cy="1522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817-7AF4-4A3E-8C0A-41079BE9E7D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90888-5868-409F-8A23-42F8017A0370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Starting at n=0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33520" y="1600200"/>
                <a:ext cx="577512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010280" y="1790640"/>
                <a:ext cx="1782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 flipH="1" flipV="1">
            <a:off x="5638680" y="1933200"/>
            <a:ext cx="1371600" cy="1522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5680" y="4267080"/>
                <a:ext cx="84834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ℜ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4360" y="5140440"/>
                <a:ext cx="81201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1797840" y="5791320"/>
            <a:ext cx="140148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Transi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88800" y="5791320"/>
            <a:ext cx="17413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Steady-Stat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832-167C-42A8-B88A-DF7747D230B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DDA17-A5DB-433C-9447-FE7E26C0766C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ep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145280" cy="1068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8400" y="3124080"/>
            <a:ext cx="9007200" cy="1392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7837560" cy="542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405160" y="5291280"/>
            <a:ext cx="4470480" cy="10191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0920" y="2716200"/>
            <a:ext cx="29984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Partial Fraction Expans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8C4-8E5C-40C9-85D7-1F39DA2A72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EBF14-B089-4949-BDA6-B9AD29CFBD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ep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311560" y="1905120"/>
            <a:ext cx="4470120" cy="1536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943280" y="3733920"/>
            <a:ext cx="5295600" cy="9856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2397240" y="4876920"/>
            <a:ext cx="4308480" cy="98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3BC-539D-4815-B82C-987EF5F87A5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B2BB2-E909-4C40-9114-BAF5FEF26F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abil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c. &amp; suff. condi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84400" cy="1303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801720" y="3124080"/>
            <a:ext cx="7539120" cy="1190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58640" y="4724280"/>
            <a:ext cx="5081760" cy="1322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023880" y="4921200"/>
            <a:ext cx="2812680" cy="947160"/>
          </a:xfrm>
          <a:prstGeom prst="rect">
            <a:avLst/>
          </a:prstGeom>
          <a:solidFill>
            <a:srgbClr val="ffcc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Pole must be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Inside unit circle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E4C-2F2B-4DA2-B6A9-2FA998E578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B54ED-1003-4177-817A-7FF29AD635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8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8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ES &amp; ZERO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913-D3CA-4EAC-8D47-35F5E1AAF2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7A597-45F2-41C2-B900-4447F7CD97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starting at n=0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4582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’ll look at an example in MATLAB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s(0.2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le at –0.8, so a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(–0.8) 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re are two component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E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art-up region just after n=0;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(–0.8) 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ADY-STAT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ventually, y[n] looks sinusoidal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agnitude &amp; Phase from Frequency Respon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67E-5AB9-4A2B-B4D4-CA7823779D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8860A-3445-4242-9F11-1A72CA522B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58720" y="30240"/>
            <a:ext cx="7747200" cy="682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7543800" y="4448160"/>
          <a:ext cx="143820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4448160"/>
                    <a:ext cx="1438200" cy="8096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151920" y="1295280"/>
            <a:ext cx="18723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sine inpu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238880" y="2529000"/>
          <a:ext cx="114300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2529000"/>
                    <a:ext cx="1143000" cy="5094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0" y="1814400"/>
          <a:ext cx="2484360" cy="47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1814400"/>
                    <a:ext cx="2484360" cy="4716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166-C0F1-49D6-8B85-7380EF24DA88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73854-8FF4-4B41-8C38-DAAF125C10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ABIL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 Does the TRANSIENT DIE OUT 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35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3" name=""/>
          <p:cNvGraphicFramePr/>
          <p:nvPr/>
        </p:nvGraphicFramePr>
        <p:xfrm>
          <a:off x="6095880" y="5486400"/>
          <a:ext cx="269712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5486400"/>
                    <a:ext cx="2697120" cy="7650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B56-CDCB-41C6-B6E5-8B859473D6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B3D0A-287E-4FC9-9F09-45E575A3AF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ABILITY COND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LL POLES INSIDE the UNIT CIRC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STABLE EXAMPL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1464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296760" y="2514600"/>
            <a:ext cx="22273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E @ z=1.1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2895480"/>
            <a:ext cx="228600" cy="381240"/>
          </a:xfrm>
          <a:prstGeom prst="upArrow">
            <a:avLst>
              <a:gd name="adj1" fmla="val 50000"/>
              <a:gd name="adj2" fmla="val 41693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08120" y="3809880"/>
          <a:ext cx="3178080" cy="4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120" y="3809880"/>
                    <a:ext cx="3178080" cy="420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27E-44A0-4377-B2E2-EF1444EDB2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38CE2-3203-4C04-93B3-885506F223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ONUS QUES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input 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n find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438280" y="1676520"/>
          <a:ext cx="403884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038840" cy="1347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132000" y="3371760"/>
                <a:ext cx="5478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πn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733920" y="4800600"/>
                <a:ext cx="2057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5EF-B8D4-47E9-8ACE-B76AE22FA50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3C198-6250-470B-9549-89807627AD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ransient-SteadyState" descr=""/>
          <p:cNvPicPr/>
          <p:nvPr/>
        </p:nvPicPr>
        <p:blipFill>
          <a:blip r:embed="rId1"/>
          <a:stretch/>
        </p:blipFill>
        <p:spPr>
          <a:xfrm>
            <a:off x="685800" y="1128600"/>
            <a:ext cx="7858080" cy="55771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ransient &amp; Steady Stat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581360" y="3200400"/>
          <a:ext cx="1133640" cy="6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1360" y="3200400"/>
                    <a:ext cx="1133640" cy="6382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8153280" y="2590920"/>
                <a:ext cx="8510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E40-4F15-4615-8396-8E13C1F9BB2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23FF3-4438-45C6-B1C3-F936E7BD6013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LCULATE th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65240" y="1695600"/>
            <a:ext cx="8813520" cy="3466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 flipH="1">
            <a:off x="5028840" y="2590920"/>
            <a:ext cx="1676520" cy="1371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095880" y="2209680"/>
                <a:ext cx="12970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1749600" y="5289480"/>
            <a:ext cx="40957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se the Z-Transform Metho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PARTIAL FRACTION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432-AAAC-45D9-8D97-E8AB5B2C65E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2F243-7532-4A1C-9E41-B90EE1850F75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INVERSE 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1825560"/>
            <a:ext cx="9144000" cy="4270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876920" y="5715000"/>
            <a:ext cx="304560" cy="685800"/>
          </a:xfrm>
          <a:prstGeom prst="upArrow">
            <a:avLst>
              <a:gd name="adj1" fmla="val 50000"/>
              <a:gd name="adj2" fmla="val 56294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55440" y="5486400"/>
            <a:ext cx="1741320" cy="7034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pole)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41D-5D06-4171-B272-860665DA94D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DE169-0475-45E5-A736-04B37CE8D9E4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LIT  Y(z) to INVER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e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UM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Term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33200" y="2362320"/>
            <a:ext cx="8877600" cy="3936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581280" y="5334120"/>
            <a:ext cx="457200" cy="6858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90920" y="2209680"/>
            <a:ext cx="1143000" cy="30481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F8B-70AB-488B-A8AB-8DFA086996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C4D52-14A2-4D71-B779-CE895F8D724C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VERT Y(z) to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the Z-Transform Tab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4923000"/>
            <a:ext cx="9144000" cy="1096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454040" y="2514600"/>
            <a:ext cx="6235920" cy="153684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6019920" y="3352680"/>
            <a:ext cx="1828800" cy="1981440"/>
            <a:chOff x="6019920" y="3352680"/>
            <a:chExt cx="1828800" cy="1981440"/>
          </a:xfrm>
        </p:grpSpPr>
        <p:sp>
          <p:nvSpPr>
            <p:cNvPr id="332" name=""/>
            <p:cNvSpPr/>
            <p:nvPr/>
          </p:nvSpPr>
          <p:spPr>
            <a:xfrm flipH="1">
              <a:off x="6019920" y="3352680"/>
              <a:ext cx="304560" cy="17528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81680" y="3809880"/>
              <a:ext cx="1067040" cy="1524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209680" y="3200400"/>
            <a:ext cx="1752480" cy="2133720"/>
            <a:chOff x="2209680" y="3200400"/>
            <a:chExt cx="1752480" cy="2133720"/>
          </a:xfrm>
        </p:grpSpPr>
        <p:sp>
          <p:nvSpPr>
            <p:cNvPr id="335" name=""/>
            <p:cNvSpPr/>
            <p:nvPr/>
          </p:nvSpPr>
          <p:spPr>
            <a:xfrm flipH="1">
              <a:off x="2209680" y="3200400"/>
              <a:ext cx="990720" cy="17524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657240" y="3886200"/>
              <a:ext cx="304920" cy="144792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90A-B403-47B7-B628-F2A04AFC441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25CA4-A589-429B-B392-BE3F74D61F1F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ECOND-ORDE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IR FILT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WO FEEDBACK TER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(z) can hav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PLEX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OL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&amp; ZERO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REE-DOMAIN APPROAC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PFs have POLES NEAR THE UNIT CIRC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2895480"/>
          <a:ext cx="8255160" cy="12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255160" cy="1276560"/>
                  </a:xfrm>
                  <a:prstGeom prst="rect">
                    <a:avLst/>
                  </a:prstGeom>
                  <a:ln w="3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380-4A78-4106-8FD7-2822127853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9CEA0-C083-4C02-B90C-CA8FBDB1B7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WO PARTS of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95600"/>
            <a:ext cx="6324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TRANSI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ts Like (pole)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es out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|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|&lt;1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397400" y="2057400"/>
          <a:ext cx="4289400" cy="17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7400" y="2057400"/>
                    <a:ext cx="4289400" cy="17971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307040" y="5084640"/>
          <a:ext cx="4721040" cy="16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7040" y="5084640"/>
                    <a:ext cx="4721040" cy="16210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431640" y="3886200"/>
            <a:ext cx="81788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TEADY-STAT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pends on the inpu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.g., Sinusoida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EC6-8217-4BAA-89DB-CBDFF6B0E71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8A033-809A-460C-A95F-A2E859FDFBCB}" type="datetime1">
              <a:rPr lang="en-US"/>
              <a:t>07/29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EADY STATE HAPPE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 Transient dies o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mit as “n” approaches infin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Frequency Response to get Magnitude &amp; Phase for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2280" y="4419720"/>
          <a:ext cx="891540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419720"/>
                    <a:ext cx="8915400" cy="16318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6400800" y="4572000"/>
            <a:ext cx="1676520" cy="1371600"/>
          </a:xfrm>
          <a:prstGeom prst="ellipse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154-57CD-4321-97C4-3C89590DA1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62F8B-A2F9-4DF6-AF07-53F2F06364BA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NUMERICAL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39440" cy="43484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590920" y="5410080"/>
            <a:ext cx="60948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638680" y="6172200"/>
          <a:ext cx="21574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6172200"/>
                    <a:ext cx="2157480" cy="3160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4B6-0BBE-4D16-BB42-9271F437D65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DFA3D-9FBE-4B12-A387-2B7BF07FFAC3}" type="datetime1">
              <a:rPr lang="en-US"/>
              <a:t>07/29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LISTIC FIR BANDPAS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 = 24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=23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3 zero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6324840" cy="538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C36-E4E6-47DA-B98D-AD46A1A70F0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2EC24-52CB-4D4B-8E5C-1EBB5067AC26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BPF: 23 ZERO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828800" y="1434960"/>
            <a:ext cx="5931000" cy="53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B6E-75F2-4C98-B9E1-4BC9BCC95D9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B0EE2-C6BB-4287-A8BB-B79C3407FCF5}" type="datetime1">
              <a:rPr lang="en-US"/>
              <a:t>07/29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14400" y="1380960"/>
            <a:ext cx="5791320" cy="54770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 flipH="1">
            <a:off x="6324480" y="5486400"/>
            <a:ext cx="1067040" cy="838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858000" y="4572000"/>
                <a:ext cx="19810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78D-D760-480B-857B-3C66AD88CEE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A590C-AA7E-4D3F-AA02-604E0503F4E4}" type="datetime1">
              <a:rPr lang="en-US"/>
              <a:t>07/29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LES &amp; ZEROS of I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057400" y="1390680"/>
            <a:ext cx="5222880" cy="53150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867720" y="4267080"/>
            <a:ext cx="12535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POL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429-B669-4587-AA19-B1EF413CD03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33675-F087-4BCF-8F11-6CC8680CB1A1}" type="datetime1">
              <a:rPr lang="en-US"/>
              <a:t>07/29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IR Elliptic LPF  (N=3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066680" y="1395360"/>
            <a:ext cx="7353360" cy="5286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14640" y="3886200"/>
            <a:ext cx="12535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 POL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6A89-45E7-476E-8F4B-878B76FC14C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D2F91-D555-40C4-BC0C-E779CC5F7489}" type="datetime1">
              <a:rPr lang="en-US"/>
              <a:t>07/29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-D VIEW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-152280" y="531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692360" y="1239840"/>
            <a:ext cx="5943600" cy="56181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 flipV="1">
            <a:off x="1387440" y="5410080"/>
            <a:ext cx="1523880" cy="6098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0480" y="5943600"/>
            <a:ext cx="17931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IT CIRCL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6200" y="1828800"/>
            <a:ext cx="3256200" cy="10688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VALUATE H(z)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VERYWHER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172200" y="2286000"/>
          <a:ext cx="2825640" cy="126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286000"/>
                    <a:ext cx="2825640" cy="12668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007-B019-4DB2-9A21-F5E9C902F58D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611C3-DD27-467D-8FFE-4B9C317017A1}" type="datetime1">
              <a:rPr lang="en-US"/>
              <a:t>07/29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34080" cy="47703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LYING THRU Z-PLAN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245160" y="5105520"/>
            <a:ext cx="197460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LES CAUS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AKS in H(z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18240" y="2666880"/>
            <a:ext cx="7110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96840" y="3733920"/>
            <a:ext cx="663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z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34E-AA90-44D8-87A1-875E6A56F377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386DA-2D47-4E8C-B3A4-D48E0D0111FB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47840" y="3587760"/>
          <a:ext cx="24908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7840" y="3587760"/>
                    <a:ext cx="24908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514600" y="4800600"/>
            <a:ext cx="396252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514600" y="1676520"/>
            <a:ext cx="5888520" cy="3124080"/>
            <a:chOff x="2514600" y="1676520"/>
            <a:chExt cx="5888520" cy="3124080"/>
          </a:xfrm>
        </p:grpSpPr>
        <p:sp>
          <p:nvSpPr>
            <p:cNvPr id="99" name=""/>
            <p:cNvSpPr/>
            <p:nvPr/>
          </p:nvSpPr>
          <p:spPr>
            <a:xfrm>
              <a:off x="2669040" y="1676520"/>
              <a:ext cx="5734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: poles &amp; zero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9200" y="2131920"/>
              <a:ext cx="3124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03" name="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9040" y="1752480"/>
            <a:ext cx="2090160" cy="70380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se H(z) to g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req. Respons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858000" y="2819520"/>
                <a:ext cx="16765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0880" y="2590920"/>
                <a:ext cx="27925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5791320" y="4419720"/>
            <a:ext cx="3276360" cy="2415960"/>
            <a:chOff x="5791320" y="4419720"/>
            <a:chExt cx="3276360" cy="2415960"/>
          </a:xfrm>
        </p:grpSpPr>
        <p:sp>
          <p:nvSpPr>
            <p:cNvPr id="109" name=""/>
            <p:cNvSpPr/>
            <p:nvPr/>
          </p:nvSpPr>
          <p:spPr>
            <a:xfrm>
              <a:off x="65541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5791320" y="4910040"/>
                  <a:ext cx="3276360" cy="19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ℓ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ℓ</m:t>
                                  </m:r>
                                </m:sub>
                              </m:sSub>
                            </m:e>
                          </m:nary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  <m:r>
                                <m:t xml:space="preserve">ℓ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"/>
          <p:cNvSpPr/>
          <p:nvPr/>
        </p:nvSpPr>
        <p:spPr>
          <a:xfrm>
            <a:off x="229320" y="4479840"/>
            <a:ext cx="22305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ME-DOMAI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3360" y="5029200"/>
                <a:ext cx="50421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ℓ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ℓ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ℓ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C99-FC25-4D15-BEBF-058EAC7728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241B7-A6DF-456A-8848-24B934F503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TABL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5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C8B-5A94-4188-9FC4-C586398DD3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CB0F9-6540-40BA-A08A-0293E0E47E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ECOND-ORDER FILTER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wo FEEDBACK TE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2606760"/>
            <a:ext cx="8381880" cy="1355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52480" y="4402080"/>
            <a:ext cx="5732640" cy="15415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2438280" y="2209680"/>
            <a:ext cx="0" cy="3812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2209680"/>
            <a:ext cx="0" cy="3812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35D-432D-496F-8AB4-FC64986CDA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FB5E0-3792-4A77-8EF9-9FD767F662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ORE POL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nominator is QUADRATI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 Poles: RE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  COMPLEX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NJUGAT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4064040"/>
            <a:ext cx="9144000" cy="2260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00800" y="2286000"/>
            <a:ext cx="2590920" cy="12160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graphicFrame>
        <p:nvGraphicFramePr>
          <p:cNvPr id="125" name=""/>
          <p:cNvGraphicFramePr/>
          <p:nvPr/>
        </p:nvGraphicFramePr>
        <p:xfrm>
          <a:off x="228600" y="3714840"/>
          <a:ext cx="7924680" cy="13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14840"/>
                    <a:ext cx="7924680" cy="13143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C65-C82C-45AD-BA34-F733541888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DDD60-6A78-4EDD-8B4B-CE69030707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WO </a:t>
            </a: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COMPLEX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POL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Impulse Response 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 OSCILLATE vs. 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ONANCE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pends on Pole Loc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ose to the Unit Circle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ke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BANDPASS 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962520" y="2990880"/>
                <a:ext cx="4593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</m:e>
                              <m:sup>
                                <m:r>
                                  <m:t xml:space="preserve">jq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  <m:r>
                          <m:t xml:space="preserve">q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876920" y="2265480"/>
            <a:ext cx="3543120" cy="801720"/>
          </a:xfrm>
          <a:custGeom>
            <a:avLst/>
            <a:gdLst/>
            <a:ahLst/>
            <a:rect l="l" t="t" r="r" b="b"/>
            <a:pathLst>
              <a:path w="2328" h="505">
                <a:moveTo>
                  <a:pt x="0" y="217"/>
                </a:moveTo>
                <a:cubicBezTo>
                  <a:pt x="420" y="157"/>
                  <a:pt x="840" y="97"/>
                  <a:pt x="1200" y="73"/>
                </a:cubicBezTo>
                <a:cubicBezTo>
                  <a:pt x="1560" y="49"/>
                  <a:pt x="1991" y="0"/>
                  <a:pt x="2160" y="73"/>
                </a:cubicBezTo>
                <a:cubicBezTo>
                  <a:pt x="2328" y="145"/>
                  <a:pt x="2268" y="325"/>
                  <a:pt x="2208" y="50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257880" y="4681440"/>
          <a:ext cx="227664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7880" y="4681440"/>
                    <a:ext cx="2276640" cy="14335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562-6C89-46C0-B105-2FCA138855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B1438-9A39-4572-A855-31B4162935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8-11-30T13:48:12Z</cp:lastPrinted>
  <dcterms:modified xsi:type="dcterms:W3CDTF">2004-04-18T12:34:41Z</dcterms:modified>
  <cp:revision>376</cp:revision>
  <dc:subject/>
  <dc:title>SPFirst Lecture #1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