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51.wmf" ContentType="image/x-wmf"/>
  <Override PartName="/ppt/media/image48.png" ContentType="image/png"/>
  <Override PartName="/ppt/media/image46.wmf" ContentType="image/x-wmf"/>
  <Override PartName="/ppt/media/image45.wmf" ContentType="image/x-wmf"/>
  <Override PartName="/ppt/media/image44.png" ContentType="image/png"/>
  <Override PartName="/ppt/media/image43.wmf" ContentType="image/x-wmf"/>
  <Override PartName="/ppt/media/image42.wmf" ContentType="image/x-wmf"/>
  <Override PartName="/ppt/media/image14.wmf" ContentType="image/x-wmf"/>
  <Override PartName="/ppt/media/image18.wmf" ContentType="image/x-wmf"/>
  <Override PartName="/ppt/media/image20.wmf" ContentType="image/x-wmf"/>
  <Override PartName="/ppt/media/image57.wmf" ContentType="image/x-wmf"/>
  <Override PartName="/ppt/media/image58.wmf" ContentType="image/x-wmf"/>
  <Override PartName="/ppt/media/image21.wmf" ContentType="image/x-wmf"/>
  <Override PartName="/ppt/media/image19.wmf" ContentType="image/x-wmf"/>
  <Override PartName="/ppt/media/image61.wmf" ContentType="image/x-wmf"/>
  <Override PartName="/ppt/media/image22.wmf" ContentType="image/x-wmf"/>
  <Override PartName="/ppt/media/image59.wmf" ContentType="image/x-wmf"/>
  <Override PartName="/ppt/media/image23.png" ContentType="image/png"/>
  <Override PartName="/ppt/media/image63.wmf" ContentType="image/x-wmf"/>
  <Override PartName="/ppt/media/image1.png" ContentType="image/png"/>
  <Override PartName="/ppt/media/image71.wmf" ContentType="image/x-wmf"/>
  <Override PartName="/ppt/media/image29.wmf" ContentType="image/x-wmf"/>
  <Override PartName="/ppt/media/image72.wmf" ContentType="image/x-wmf"/>
  <Override PartName="/ppt/media/image2.png" ContentType="image/png"/>
  <Override PartName="/ppt/media/image16.wmf" ContentType="image/x-wmf"/>
  <Override PartName="/ppt/media/image70.png" ContentType="image/png"/>
  <Override PartName="/ppt/media/image68.wmf" ContentType="image/x-wmf"/>
  <Override PartName="/ppt/media/image31.wmf" ContentType="image/x-wmf"/>
  <Override PartName="/ppt/media/image69.wmf" ContentType="image/x-wmf"/>
  <Override PartName="/ppt/media/image32.wmf" ContentType="image/x-wmf"/>
  <Override PartName="/ppt/media/image67.wmf" ContentType="image/x-wmf"/>
  <Override PartName="/ppt/media/image27.png" ContentType="image/png"/>
  <Override PartName="/ppt/media/image30.wmf" ContentType="image/x-wmf"/>
  <Override PartName="/ppt/media/image28.wmf" ContentType="image/x-wmf"/>
  <Override PartName="/ppt/media/image65.wmf" ContentType="image/x-wmf"/>
  <Override PartName="/ppt/media/image64.wmf" ContentType="image/x-wmf"/>
  <Override PartName="/ppt/media/image66.wmf" ContentType="image/x-wmf"/>
  <Override PartName="/ppt/media/image26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10.wmf" ContentType="image/x-wmf"/>
  <Override PartName="/ppt/media/image47.wmf" ContentType="image/x-wmf"/>
  <Override PartName="/ppt/media/image15.wmf" ContentType="image/x-wmf"/>
  <Override PartName="/ppt/media/image6.png" ContentType="image/png"/>
  <Override PartName="/ppt/media/image40.wmf" ContentType="image/x-wmf"/>
  <Override PartName="/ppt/media/image41.wmf" ContentType="image/x-wmf"/>
  <Override PartName="/ppt/media/image7.png" ContentType="image/png"/>
  <Override PartName="/ppt/media/image3.png" ContentType="image/png"/>
  <Override PartName="/ppt/media/image33.png" ContentType="image/png"/>
  <Override PartName="/ppt/media/image54.png" ContentType="image/png"/>
  <Override PartName="/ppt/media/image11.wmf" ContentType="image/x-wmf"/>
  <Override PartName="/ppt/media/image8.wmf" ContentType="image/x-wmf"/>
  <Override PartName="/ppt/media/image17.png" ContentType="image/png"/>
  <Override PartName="/ppt/media/image5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60.wmf" ContentType="image/x-wmf"/>
  <Override PartName="/ppt/media/image3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0A0-9E60-44A7-80F1-E798B253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155-3EFA-47D0-B6B5-7E0BAEF7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B80-39FE-4C5B-8EEC-CE6E88BD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CA0-4A02-4D87-A5FB-BDD7B905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2863-39E6-4745-9E81-3F91A4BF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3645-348B-4CF5-B4FB-D91F393D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C718-B3A2-4BD9-8C00-E2ECDC3F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81E3-5FDC-4CA8-A69C-02061645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C878-671A-4F4F-8401-60002021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E647-CAFE-4317-B0FB-C55B5D50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A133-BEBC-4B9F-860A-73242EB6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9067-A754-4B07-B236-B43CF6B6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C856-3EF0-42C4-BF6D-D0277294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E2BB-EBF8-453B-98F2-6ACEAFE0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6546-07DE-45EC-975A-3F07E9AE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A0DB-7853-4524-B38F-793E2A14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9B19-D484-40C7-979D-E1C7EBAD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85B-4AC0-4DB3-9EFF-49BA41D1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58B-06B0-4E24-AB83-5F5D0C58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344-4F36-4CFE-80DA-AA7CEA4D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021F-F1B6-45BC-A684-8A08FB27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65C-B3AE-4D58-8C4C-A3E8106C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4383-0C59-4A90-9F57-15F326E0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6D8-DB45-4CA9-978C-490A5222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A565-AA47-4DCC-A162-59E720400A7D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0BE9-D8E4-4886-BEA6-79B18031EB64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5877-A461-4B52-ABA3-76DC5E217CBA}" type="datetime">
              <a:rPr b="0" lang="en-US" sz="12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EBE9-3B19-4CA5-9EA1-1C7AE38A903E}" type="slidenum">
              <a:rPr b="0" lang="en-US" sz="12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4.wmf"/><Relationship Id="rId1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1.0/" TargetMode="External"/><Relationship Id="rId2" Type="http://schemas.openxmlformats.org/officeDocument/2006/relationships/hyperlink" Target="http://creativecommons.org/licenses/by-nc-sa/1.0/legalcode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3.wmf"/><Relationship Id="rId1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2.wmf"/><Relationship Id="rId1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3.wmf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Processing Firs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057040" y="3352680"/>
            <a:ext cx="655308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2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ourier Transfor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perti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22BD-284D-4922-A2AF-0986D783D30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86DE2E2-9903-4039-BC56-F47536AD28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16" name="impulse_FT" descr=""/>
          <p:cNvPicPr/>
          <p:nvPr/>
        </p:nvPicPr>
        <p:blipFill>
          <a:blip r:embed="rId1"/>
          <a:stretch/>
        </p:blipFill>
        <p:spPr>
          <a:xfrm>
            <a:off x="914400" y="1198440"/>
            <a:ext cx="7696080" cy="5545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8600" y="152280"/>
                <a:ext cx="86868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04920" y="1905120"/>
                <a:ext cx="14317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30B-3E53-47D4-AD20-9766F20B181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1C22A-DD24-4554-861A-2CEE6EE353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Fourier Transform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16120" y="6008760"/>
                <a:ext cx="76658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838080" y="5029200"/>
                <a:ext cx="76201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838080" y="3449520"/>
                <a:ext cx="6934320" cy="14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2073240"/>
                <a:ext cx="64771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38080" y="890640"/>
                <a:ext cx="59756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3EB-4599-4627-A044-A7C48A2E0CC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D01E2-602E-44FD-B1DC-FC167D0686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26" name="cosine_FT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55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44440" y="304920"/>
                <a:ext cx="8766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01E-EF78-41F7-BC1D-0215AF6EB7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31FDB-FD4D-4083-9FA4-2B4CCE9A44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ourier Transform of a General Periodic Sign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(t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s periodic with period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333399"/>
                </a:solidFill>
                <a:latin typeface="Arial"/>
              </a:rPr>
              <a:t>0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2438280"/>
                <a:ext cx="739908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62120" y="4038480"/>
                <a:ext cx="75898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refore, since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⇔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δ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828800" y="5029200"/>
                <a:ext cx="566424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71A-9283-4C80-B6EC-B24AEA4F5E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DC89A-2C5B-4B52-91ED-89CC594799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quare Wave Signal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190476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685800" y="1523880"/>
            <a:ext cx="8128080" cy="1600200"/>
            <a:chOff x="685800" y="1523880"/>
            <a:chExt cx="8128080" cy="1600200"/>
          </a:xfrm>
        </p:grpSpPr>
        <p:graphicFrame>
          <p:nvGraphicFramePr>
            <p:cNvPr id="138" name=""/>
            <p:cNvGraphicFramePr/>
            <p:nvPr/>
          </p:nvGraphicFramePr>
          <p:xfrm>
            <a:off x="3733920" y="1523880"/>
            <a:ext cx="2171520" cy="38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33920" y="1523880"/>
                      <a:ext cx="2171520" cy="38124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"/>
            <p:cNvGraphicFramePr/>
            <p:nvPr/>
          </p:nvGraphicFramePr>
          <p:xfrm>
            <a:off x="6362640" y="2743200"/>
            <a:ext cx="34308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62640" y="2743200"/>
                      <a:ext cx="34308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685800" y="2743200"/>
            <a:ext cx="72396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5800" y="2743200"/>
                      <a:ext cx="72396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2514600" y="2743200"/>
            <a:ext cx="55872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514600" y="2743200"/>
                      <a:ext cx="558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8001000" y="2743200"/>
            <a:ext cx="53352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001000" y="2743200"/>
                      <a:ext cx="533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4572000" y="2743200"/>
            <a:ext cx="203040" cy="2793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72000" y="274320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8686800" y="2666880"/>
            <a:ext cx="127080" cy="241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8686800" y="2666880"/>
                      <a:ext cx="127080" cy="2415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2" name=""/>
          <p:cNvGraphicFramePr/>
          <p:nvPr/>
        </p:nvGraphicFramePr>
        <p:xfrm>
          <a:off x="838080" y="5214960"/>
          <a:ext cx="7543800" cy="1465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38080" y="5214960"/>
                    <a:ext cx="75438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914400" y="3695760"/>
          <a:ext cx="7543800" cy="1388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3695760"/>
                    <a:ext cx="754380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12B-9854-4E1C-B40E-44D07B33AF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BDB79-1736-4B9B-8F86-1287F66FBC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1762200"/>
            <a:ext cx="8686800" cy="48672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quare Wave Fourier Transfor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34120" y="3933720"/>
          <a:ext cx="380988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933720"/>
                    <a:ext cx="3809880" cy="8524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62" name=""/>
          <p:cNvGrpSpPr/>
          <p:nvPr/>
        </p:nvGrpSpPr>
        <p:grpSpPr>
          <a:xfrm>
            <a:off x="457200" y="1828800"/>
            <a:ext cx="8203680" cy="1600200"/>
            <a:chOff x="457200" y="1828800"/>
            <a:chExt cx="8203680" cy="1600200"/>
          </a:xfrm>
        </p:grpSpPr>
        <p:graphicFrame>
          <p:nvGraphicFramePr>
            <p:cNvPr id="163" name=""/>
            <p:cNvGraphicFramePr/>
            <p:nvPr/>
          </p:nvGraphicFramePr>
          <p:xfrm>
            <a:off x="457200" y="1828800"/>
            <a:ext cx="217152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1828800"/>
                      <a:ext cx="21715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"/>
            <p:cNvGraphicFramePr/>
            <p:nvPr/>
          </p:nvGraphicFramePr>
          <p:xfrm>
            <a:off x="5943240" y="3048120"/>
            <a:ext cx="34272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943240" y="3048120"/>
                      <a:ext cx="34272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723600" y="3048120"/>
            <a:ext cx="723600" cy="380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23600" y="3048120"/>
                      <a:ext cx="72360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2412720" y="3048120"/>
            <a:ext cx="558360" cy="380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412720" y="3048120"/>
                      <a:ext cx="55836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7543440" y="3048120"/>
            <a:ext cx="533160" cy="380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543440" y="3048120"/>
                      <a:ext cx="533160" cy="38088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"/>
            <p:cNvGraphicFramePr/>
            <p:nvPr/>
          </p:nvGraphicFramePr>
          <p:xfrm>
            <a:off x="4343040" y="3073320"/>
            <a:ext cx="203040" cy="2793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343040" y="3073320"/>
                      <a:ext cx="203040" cy="27936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8534160" y="3048120"/>
            <a:ext cx="126720" cy="2412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534160" y="3048120"/>
                      <a:ext cx="126720" cy="241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00B-B357-420A-BDE5-7767DF4756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4E473-7124-49A5-9503-739CA636FC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Table of Easy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3520" y="2057400"/>
          <a:ext cx="800100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001000" cy="5493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752480" y="3228840"/>
          <a:ext cx="5289840" cy="7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228840"/>
                    <a:ext cx="5289840" cy="733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676520" y="4572000"/>
          <a:ext cx="562752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572000"/>
                    <a:ext cx="5627520" cy="733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41080" y="2700360"/>
            <a:ext cx="2331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Delay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2240" y="4043520"/>
            <a:ext cx="29408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requency Shift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4720" y="1528920"/>
            <a:ext cx="278964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Linearity Property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76520" y="5638680"/>
          <a:ext cx="4647960" cy="7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638680"/>
                    <a:ext cx="4647960" cy="7002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10680" y="5415120"/>
            <a:ext cx="126432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F76-C919-4A57-82DE-586AF1C94EA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83C88-5EFB-4B0C-A619-8679C9A3E8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cal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82760" y="5505480"/>
                <a:ext cx="79516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hrinks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an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74720" y="2438280"/>
                <a:ext cx="7215120" cy="28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dλ</m:t>
                                </m:r>
                              </m:num>
                              <m:den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den>
                            </m:f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593800" y="1447920"/>
                <a:ext cx="3881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)</m:t>
                    </m:r>
                    <m:r>
                      <m:t xml:space="preserve">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E4FE-2351-4E2C-9080-48A5D98CEB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973BE-1CBD-4396-9616-71E3EEAD88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cal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3520" y="2257560"/>
            <a:ext cx="7772400" cy="44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362320" y="1219320"/>
                <a:ext cx="388116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)</m:t>
                    </m:r>
                    <m:r>
                      <m:t xml:space="preserve">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124080" y="4838760"/>
                <a:ext cx="2590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BC4-3170-4543-B0F7-8F8A804C2A5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E2439-01C2-4386-B7AB-A4C341882B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Uncertainty Princi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y to make x(t) shor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n X(j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 will get wide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rrow pulses have wide bandwidth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y to make X(j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 narrow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n x(t) will have longer dur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Cannot simultaneously reduce time duration and bandwidt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C0C-6E7D-485F-9591-C5C6008778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1EADD-CFF2-4313-A8AD-BD7E6FDD62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icense Info for SPFirst Slid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work released under a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reative Commons License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th the following term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ust give the original authors credit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copy, distribute, display, and perform the work. In return, licensees may not use the work for commercial purposes—unless they get the licensor's permiss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hare Alik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The licensor permits others to distribute derivative works only under a license identical to the one that governs the licensor's work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Full Text of the Licens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This (hidden) page should be kept with the presentat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717-C1D0-4FBC-82DB-5F5A8CB359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F8160-2120-48DB-8E3A-C4B663040C41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ificant FT Properti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43000" y="1752480"/>
          <a:ext cx="601992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6019920" cy="561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276720" y="3886200"/>
          <a:ext cx="480060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886200"/>
                    <a:ext cx="4800600" cy="6253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143000" y="2819520"/>
          <a:ext cx="6477120" cy="96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819520"/>
                    <a:ext cx="6477120" cy="9619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309960" y="5008680"/>
            <a:ext cx="5405040" cy="1620720"/>
            <a:chOff x="309960" y="5008680"/>
            <a:chExt cx="5405040" cy="1620720"/>
          </a:xfrm>
        </p:grpSpPr>
        <p:graphicFrame>
          <p:nvGraphicFramePr>
            <p:cNvPr id="210" name=""/>
            <p:cNvGraphicFramePr/>
            <p:nvPr/>
          </p:nvGraphicFramePr>
          <p:xfrm>
            <a:off x="1523880" y="5508720"/>
            <a:ext cx="4191120" cy="1120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3880" y="5508720"/>
                      <a:ext cx="4191120" cy="1120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309960" y="5008680"/>
              <a:ext cx="3587040" cy="459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Differentiation Property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441-2FAB-48CD-8A74-AB0ABB724F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BB2ED-1819-4CB2-BB3B-CBC7A09282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olution in the time-domai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rresponds to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MULTIPLIC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n the frequency-domai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35040" y="1523880"/>
            <a:ext cx="8280360" cy="204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1981080" y="4267080"/>
          <a:ext cx="4953240" cy="95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4267080"/>
                    <a:ext cx="4953240" cy="9590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724280" y="5972040"/>
          <a:ext cx="3962520" cy="42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5972040"/>
                    <a:ext cx="3962520" cy="4287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323040" y="1981080"/>
          <a:ext cx="2516040" cy="39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23040" y="1981080"/>
                    <a:ext cx="2516040" cy="3906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838080" y="1981080"/>
          <a:ext cx="609840" cy="352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1981080"/>
                    <a:ext cx="609840" cy="3524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334120" y="3124080"/>
          <a:ext cx="3504960" cy="37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34120" y="3124080"/>
                    <a:ext cx="3504960" cy="37800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838080" y="3124080"/>
          <a:ext cx="1143000" cy="411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8080" y="3124080"/>
                    <a:ext cx="1143000" cy="41112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661-0E7E-4E21-9893-B8DF909657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DF58D-62B1-479B-A379-14D8542C31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dlimited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pu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ign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nc” func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deal LPF (Lowpass Filter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(t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a “sinc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s Bandlimited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olve “sincs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37C-0162-4EF8-BAB0-D0ADFF47038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F6BE3-67E1-4BAF-B8B3-C81E8DB993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ly Bandlimited Signal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62120" y="1066680"/>
                <a:ext cx="723888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  <m:r>
                                <m:t xml:space="preserve">π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32" name="pulse_trans" descr=""/>
          <p:cNvPicPr/>
          <p:nvPr/>
        </p:nvPicPr>
        <p:blipFill>
          <a:blip r:embed="rId1"/>
          <a:stretch/>
        </p:blipFill>
        <p:spPr>
          <a:xfrm>
            <a:off x="1447920" y="2519280"/>
            <a:ext cx="6172200" cy="426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33520" y="3124080"/>
                <a:ext cx="16221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F13-D0BB-4B4E-BB41-B7143042BEC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971F7-0B97-4E23-AE4A-F81B6C314C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28600" y="4064040"/>
            <a:ext cx="8686800" cy="273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990720" y="2684520"/>
          <a:ext cx="5146560" cy="120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684520"/>
                    <a:ext cx="514656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676520" y="1693800"/>
          <a:ext cx="5532480" cy="51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1693800"/>
                    <a:ext cx="5532480" cy="5158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364440" y="2684520"/>
          <a:ext cx="2170080" cy="1201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64440" y="2684520"/>
                    <a:ext cx="217008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110-7369-4C82-9445-3816AAAF44D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E52AC-D026-434C-B977-A944AAAC6A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sine Input to LTI Syste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55680" y="1747800"/>
          <a:ext cx="8636040" cy="20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1747800"/>
                    <a:ext cx="863604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80880" y="4191120"/>
          <a:ext cx="8534520" cy="21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191120"/>
                    <a:ext cx="85345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752480" y="2209680"/>
            <a:ext cx="335304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37339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f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10B-B596-4BA4-8485-C244465613E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ABD19-4BE5-4163-BECE-64BEED4567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934040" cy="284004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2558880" y="2209680"/>
            <a:ext cx="5975640" cy="2286000"/>
            <a:chOff x="2558880" y="2209680"/>
            <a:chExt cx="5975640" cy="2286000"/>
          </a:xfrm>
        </p:grpSpPr>
        <p:grpSp>
          <p:nvGrpSpPr>
            <p:cNvPr id="252" name=""/>
            <p:cNvGrpSpPr/>
            <p:nvPr/>
          </p:nvGrpSpPr>
          <p:grpSpPr>
            <a:xfrm>
              <a:off x="2971440" y="2209680"/>
              <a:ext cx="3429360" cy="1828800"/>
              <a:chOff x="2971440" y="2209680"/>
              <a:chExt cx="3429360" cy="182880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2971800" y="2209680"/>
                <a:ext cx="0" cy="18288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6400800" y="2209680"/>
                <a:ext cx="0" cy="18288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2971440" y="2209680"/>
                <a:ext cx="342900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6" name=""/>
            <p:cNvGraphicFramePr/>
            <p:nvPr/>
          </p:nvGraphicFramePr>
          <p:xfrm>
            <a:off x="7010280" y="2209680"/>
            <a:ext cx="1524240" cy="540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10280" y="2209680"/>
                      <a:ext cx="1524240" cy="5400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58" name=""/>
            <p:cNvSpPr/>
            <p:nvPr/>
          </p:nvSpPr>
          <p:spPr>
            <a:xfrm flipH="1">
              <a:off x="6400440" y="2514600"/>
              <a:ext cx="609480" cy="304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259" name=""/>
            <p:cNvGraphicFramePr/>
            <p:nvPr/>
          </p:nvGraphicFramePr>
          <p:xfrm>
            <a:off x="6235560" y="4114800"/>
            <a:ext cx="546120" cy="38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35560" y="4114800"/>
                      <a:ext cx="5461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1" name=""/>
            <p:cNvGraphicFramePr/>
            <p:nvPr/>
          </p:nvGraphicFramePr>
          <p:xfrm>
            <a:off x="2558880" y="4114800"/>
            <a:ext cx="762120" cy="38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58880" y="4114800"/>
                      <a:ext cx="7621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3" name=""/>
          <p:cNvGraphicFramePr/>
          <p:nvPr/>
        </p:nvGraphicFramePr>
        <p:xfrm>
          <a:off x="2133720" y="4724280"/>
          <a:ext cx="5715000" cy="595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4724280"/>
                    <a:ext cx="57150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116080" y="5638680"/>
          <a:ext cx="5140440" cy="595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16080" y="5638680"/>
                    <a:ext cx="51404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097-E95C-4B07-A020-AD528C49B23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A3D11-A4BD-4AAD-9EB2-C652632010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rcRect l="0" t="42928" r="0" b="0"/>
          <a:stretch/>
        </p:blipFill>
        <p:spPr>
          <a:xfrm>
            <a:off x="380880" y="1530360"/>
            <a:ext cx="8077320" cy="25844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Ideal Lowpass Filter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3886200"/>
            <a:ext cx="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914400" y="4500720"/>
            <a:ext cx="6781680" cy="23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2529000" y="4114800"/>
          <a:ext cx="34779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9000" y="4114800"/>
                    <a:ext cx="3477960" cy="565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73" name=""/>
          <p:cNvGrpSpPr/>
          <p:nvPr/>
        </p:nvGrpSpPr>
        <p:grpSpPr>
          <a:xfrm>
            <a:off x="5943600" y="2463840"/>
            <a:ext cx="2895480" cy="1193760"/>
            <a:chOff x="5943600" y="2463840"/>
            <a:chExt cx="2895480" cy="1193760"/>
          </a:xfrm>
        </p:grpSpPr>
        <p:graphicFrame>
          <p:nvGraphicFramePr>
            <p:cNvPr id="274" name=""/>
            <p:cNvGraphicFramePr/>
            <p:nvPr/>
          </p:nvGraphicFramePr>
          <p:xfrm>
            <a:off x="6400800" y="2463840"/>
            <a:ext cx="2438280" cy="428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00800" y="2463840"/>
                      <a:ext cx="2438280" cy="428760"/>
                    </a:xfrm>
                    <a:prstGeom prst="rect">
                      <a:avLst/>
                    </a:prstGeom>
                    <a:ln w="936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76" name=""/>
            <p:cNvSpPr/>
            <p:nvPr/>
          </p:nvSpPr>
          <p:spPr>
            <a:xfrm flipH="1">
              <a:off x="5943600" y="2895480"/>
              <a:ext cx="425520" cy="762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819520" y="990720"/>
            <a:ext cx="6172200" cy="2666880"/>
            <a:chOff x="2819520" y="990720"/>
            <a:chExt cx="6172200" cy="2666880"/>
          </a:xfrm>
        </p:grpSpPr>
        <p:sp>
          <p:nvSpPr>
            <p:cNvPr id="278" name=""/>
            <p:cNvSpPr/>
            <p:nvPr/>
          </p:nvSpPr>
          <p:spPr>
            <a:xfrm flipV="1">
              <a:off x="2819520" y="2057040"/>
              <a:ext cx="0" cy="16002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9520" y="2057400"/>
              <a:ext cx="312408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43600" y="2057400"/>
              <a:ext cx="0" cy="16002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943240" y="1905120"/>
              <a:ext cx="762120" cy="6858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282" name=""/>
            <p:cNvGraphicFramePr/>
            <p:nvPr/>
          </p:nvGraphicFramePr>
          <p:xfrm>
            <a:off x="5715000" y="990720"/>
            <a:ext cx="3276720" cy="931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990720"/>
                      <a:ext cx="3276720" cy="931680"/>
                    </a:xfrm>
                    <a:prstGeom prst="rect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97A-D713-4028-9E49-1ADC67C3B19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751AE-61E4-4F24-826D-01D5EE8D20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ignal Multiplier (Modulator)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plication in the time-domain corresponds to convolution in the frequency-domain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391520" cy="229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"/>
          <p:cNvGraphicFramePr/>
          <p:nvPr/>
        </p:nvGraphicFramePr>
        <p:xfrm>
          <a:off x="5105520" y="2514600"/>
          <a:ext cx="377172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514600"/>
                    <a:ext cx="3771720" cy="6224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5410080" y="1828800"/>
          <a:ext cx="2286000" cy="38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1828800"/>
                    <a:ext cx="2286000" cy="3826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914400" y="2514600"/>
          <a:ext cx="1181160" cy="42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4400" y="2514600"/>
                    <a:ext cx="1181160" cy="4255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1066680" y="1905120"/>
          <a:ext cx="571680" cy="33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66680" y="1905120"/>
                    <a:ext cx="571680" cy="330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581280" y="3124080"/>
          <a:ext cx="5968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81280" y="3124080"/>
                    <a:ext cx="596880" cy="3430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1371600" y="5397480"/>
          <a:ext cx="6553080" cy="123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371600" y="5397480"/>
                    <a:ext cx="6553080" cy="12319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5CF-13B4-4344-A9F2-935A746E741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AA84E-CD08-4B72-A3C5-0478EC6365AA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Shifting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523880" y="1752480"/>
          <a:ext cx="5627880" cy="7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5627880" cy="733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189000" y="5486400"/>
          <a:ext cx="8574120" cy="11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000" y="5486400"/>
                    <a:ext cx="8574120" cy="11793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04920" y="2610000"/>
                <a:ext cx="8305560" cy="25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0E2-9F74-4DA3-845C-7C33ECC5156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D1799-F3F9-4874-96B2-20E9E213C3B3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READING ASSIGNMENT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Lecture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apter 11, Sects. 11-5 to 11-9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ables in Section 11-9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Reading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itation: Chapter 11, Sects. 11-1 to 11-9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xt Lectures: Chapter 12 (Application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5AA-45F0-49DB-8808-743CAB00BF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A8AE4-D4A2-4367-A057-85D71BB270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18600" cy="484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1025640" y="76320"/>
          <a:ext cx="7584840" cy="13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5640" y="76320"/>
                    <a:ext cx="7584840" cy="1326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09" name=""/>
          <p:cNvGrpSpPr/>
          <p:nvPr/>
        </p:nvGrpSpPr>
        <p:grpSpPr>
          <a:xfrm>
            <a:off x="2514600" y="1600200"/>
            <a:ext cx="5562720" cy="1218960"/>
            <a:chOff x="2514600" y="1600200"/>
            <a:chExt cx="5562720" cy="1218960"/>
          </a:xfrm>
        </p:grpSpPr>
        <p:sp>
          <p:nvSpPr>
            <p:cNvPr id="310" name=""/>
            <p:cNvSpPr/>
            <p:nvPr/>
          </p:nvSpPr>
          <p:spPr>
            <a:xfrm flipV="1">
              <a:off x="2514600" y="213336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629400" y="213336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600" y="2133720"/>
              <a:ext cx="4114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aphicFrame>
          <p:nvGraphicFramePr>
            <p:cNvPr id="313" name=""/>
            <p:cNvGraphicFramePr/>
            <p:nvPr/>
          </p:nvGraphicFramePr>
          <p:xfrm>
            <a:off x="7238880" y="1600200"/>
            <a:ext cx="838440" cy="484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238880" y="1600200"/>
                      <a:ext cx="838440" cy="48420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5" name=""/>
            <p:cNvSpPr/>
            <p:nvPr/>
          </p:nvSpPr>
          <p:spPr>
            <a:xfrm flipH="1">
              <a:off x="6629040" y="1828800"/>
              <a:ext cx="60948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065-AA1C-4BB1-8DF9-740876F6C06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E6B5D-E33D-471E-9E15-438A48359190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ifferentiation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609480" y="1752480"/>
          <a:ext cx="624852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6248520" cy="257184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04920" y="4495680"/>
          <a:ext cx="6095880" cy="16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495680"/>
                    <a:ext cx="6095880" cy="168768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21" name=""/>
          <p:cNvGrpSpPr/>
          <p:nvPr/>
        </p:nvGrpSpPr>
        <p:grpSpPr>
          <a:xfrm>
            <a:off x="6858000" y="3200400"/>
            <a:ext cx="2057400" cy="2790720"/>
            <a:chOff x="6858000" y="3200400"/>
            <a:chExt cx="2057400" cy="2790720"/>
          </a:xfrm>
        </p:grpSpPr>
        <p:graphicFrame>
          <p:nvGraphicFramePr>
            <p:cNvPr id="322" name=""/>
            <p:cNvGraphicFramePr/>
            <p:nvPr/>
          </p:nvGraphicFramePr>
          <p:xfrm>
            <a:off x="6858000" y="4800600"/>
            <a:ext cx="2057400" cy="1190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0" y="4800600"/>
                      <a:ext cx="2057400" cy="1190520"/>
                    </a:xfrm>
                    <a:prstGeom prst="rect">
                      <a:avLst/>
                    </a:prstGeom>
                    <a:ln w="93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24" name=""/>
            <p:cNvSpPr/>
            <p:nvPr/>
          </p:nvSpPr>
          <p:spPr>
            <a:xfrm>
              <a:off x="7772400" y="3200400"/>
              <a:ext cx="457200" cy="16765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961680" y="2685960"/>
            <a:ext cx="1985040" cy="459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Multiply by j</a:t>
            </a:r>
            <a:r>
              <a:rPr b="1" i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1280" y="2806560"/>
            <a:ext cx="3353040" cy="622440"/>
          </a:xfrm>
          <a:custGeom>
            <a:avLst/>
            <a:gdLst/>
            <a:ahLst/>
            <a:rect l="l" t="t" r="r" b="b"/>
            <a:pathLst>
              <a:path w="2112" h="392">
                <a:moveTo>
                  <a:pt x="2112" y="104"/>
                </a:moveTo>
                <a:cubicBezTo>
                  <a:pt x="1736" y="84"/>
                  <a:pt x="1360" y="64"/>
                  <a:pt x="1056" y="56"/>
                </a:cubicBezTo>
                <a:cubicBezTo>
                  <a:pt x="752" y="48"/>
                  <a:pt x="464" y="0"/>
                  <a:pt x="288" y="56"/>
                </a:cubicBezTo>
                <a:cubicBezTo>
                  <a:pt x="112" y="112"/>
                  <a:pt x="56" y="252"/>
                  <a:pt x="0" y="392"/>
                </a:cubicBezTo>
              </a:path>
            </a:pathLst>
          </a:custGeom>
          <a:noFill/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D6B-C342-47E9-8589-50BE70023CE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236DB-4CF3-4589-8DAA-7A74D63A77D8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304920" y="1676520"/>
          <a:ext cx="8485200" cy="11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48520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57200" y="3014640"/>
          <a:ext cx="817884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014640"/>
                    <a:ext cx="817884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04920" y="380880"/>
          <a:ext cx="8493120" cy="83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80880"/>
                    <a:ext cx="8493120" cy="831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344520" y="4278240"/>
          <a:ext cx="8723160" cy="143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4520" y="4278240"/>
                    <a:ext cx="872316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066680" y="5867280"/>
          <a:ext cx="7500960" cy="79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5867280"/>
                    <a:ext cx="7500960" cy="7905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6E2-5499-4914-811D-38C02ED518A5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31C41-02D2-430B-88C4-676DEFEB0557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Delay Property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797120" y="1600200"/>
          <a:ext cx="559440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7120" y="1600200"/>
                    <a:ext cx="5594400" cy="7761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228600" y="2790720"/>
          <a:ext cx="861048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790720"/>
                    <a:ext cx="861048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609480" y="5335560"/>
          <a:ext cx="7925040" cy="12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335560"/>
                    <a:ext cx="792504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AD93-0D87-43E1-83A9-A2FCAFD7C51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9B75F-EACA-402F-8295-7CE6FC9CA3B7}" type="datetime1">
              <a:rPr lang="en-US"/>
              <a:t>07/29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Strategy for using the FT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lop a set of known Fourier transform pairs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lop a set of “theorems” or properties of the Fourier transform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lop skill in formulating the problem in either the time-domain or the frequency-domain,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hich ever leads to the simplest soluti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863-A1FF-4391-A2BB-8323922B98E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910A9-B043-460A-AD8B-B266809EB3E8}" type="datetime1">
              <a:rPr lang="en-US"/>
              <a:t>07/29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T of Impulse Train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periodic impulse train 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143000" y="2362320"/>
          <a:ext cx="63882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62320"/>
                    <a:ext cx="63882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914400" y="3805200"/>
          <a:ext cx="7620120" cy="14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805200"/>
                    <a:ext cx="76201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1227240" y="5348160"/>
          <a:ext cx="6773760" cy="135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27240" y="5348160"/>
                    <a:ext cx="6773760" cy="13575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6669000" y="3276720"/>
          <a:ext cx="2475000" cy="52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9000" y="3276720"/>
                    <a:ext cx="2475000" cy="52704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087-A9EA-44D9-95BB-F217993B51E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DB4B9-C65C-4BE3-BDE5-02CC5ADC02E7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Convolution Example 2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458200" cy="51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"/>
          <p:cNvGraphicFramePr/>
          <p:nvPr/>
        </p:nvGraphicFramePr>
        <p:xfrm>
          <a:off x="5181480" y="1600200"/>
          <a:ext cx="3149640" cy="9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1600200"/>
                    <a:ext cx="3149640" cy="93996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6172200" y="3429000"/>
          <a:ext cx="2286000" cy="3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3429000"/>
                    <a:ext cx="2286000" cy="3556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838080" y="1752480"/>
          <a:ext cx="3175200" cy="343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1752480"/>
                    <a:ext cx="3175200" cy="343080"/>
                  </a:xfrm>
                  <a:prstGeom prst="rect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519-3E51-4B6E-B3A4-234EBBEDFA6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4A475-EEAB-4DAB-B982-6615562B58AA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LECTURE OBJECTIVES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Fourier transfor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re examples of  Fourier transform pai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sic properties of Fourier transfor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Convolu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proper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Multiplic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proper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476360" y="2211480"/>
                <a:ext cx="558324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30D-FC64-46DC-B1A5-9F66735E88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A7AC9-F5AE-448F-8744-0FDCEB74B6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ourier Transform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9480" y="3400560"/>
            <a:ext cx="7985880" cy="1577880"/>
            <a:chOff x="609480" y="3400560"/>
            <a:chExt cx="7985880" cy="1577880"/>
          </a:xfrm>
        </p:grpSpPr>
        <p:sp>
          <p:nvSpPr>
            <p:cNvPr id="96" name=""/>
            <p:cNvSpPr/>
            <p:nvPr/>
          </p:nvSpPr>
          <p:spPr>
            <a:xfrm>
              <a:off x="5415480" y="3587760"/>
              <a:ext cx="3179880" cy="8254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Fourier Analysi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Forward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 Transform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609480" y="3400560"/>
                  <a:ext cx="4419720" cy="157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" name=""/>
          <p:cNvGrpSpPr/>
          <p:nvPr/>
        </p:nvGrpSpPr>
        <p:grpSpPr>
          <a:xfrm>
            <a:off x="609480" y="1752480"/>
            <a:ext cx="8308440" cy="1476360"/>
            <a:chOff x="609480" y="1752480"/>
            <a:chExt cx="8308440" cy="1476360"/>
          </a:xfrm>
        </p:grpSpPr>
        <p:sp>
          <p:nvSpPr>
            <p:cNvPr id="99" name=""/>
            <p:cNvSpPr/>
            <p:nvPr/>
          </p:nvSpPr>
          <p:spPr>
            <a:xfrm>
              <a:off x="5873760" y="1911240"/>
              <a:ext cx="3044160" cy="82548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Fourier Synthesi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Inverse</a:t>
              </a:r>
              <a:r>
                <a:rPr b="1" i="1" lang="en-US" sz="2400" spc="-1" strike="noStrike">
                  <a:solidFill>
                    <a:srgbClr val="333399"/>
                  </a:solidFill>
                  <a:latin typeface="Arial"/>
                </a:rPr>
                <a:t> Transform)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609480" y="1752480"/>
                  <a:ext cx="4800600" cy="14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t xml:space="preserve">dω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20760" y="5210280"/>
                <a:ext cx="844236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ime-Domain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Frequency-Domai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E23-D540-426E-B808-D1CD722D1E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C5A5C-D051-42DB-994F-39B6AF51E5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304920"/>
            <a:ext cx="8508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 Black"/>
              </a:rPr>
              <a:t>WHY use the Fourier transform?</a:t>
            </a:r>
            <a:endParaRPr b="0" lang="en-US" sz="36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nipulate th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“Frequency Spectrum”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alog Communication Syste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: Amplitude Modulation;  F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are the “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Building Block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Abstract Layer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t implement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deal Filters: mostly BPF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quency Shift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ka Modulators, Mixers or Multipliers:   x(t)p(t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A55-E084-48C5-9E65-20CD6B316E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79652-0E7A-42CD-AB48-B5300AEA0E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Frequency Response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956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ier Transform of h(t)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 Frequency Respons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8305920" cy="161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143000" y="5029200"/>
                <a:ext cx="6553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343400" y="3048120"/>
                <a:ext cx="2209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264-96B0-4662-AD4E-89A3FE0C73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91964-D9C1-4D21-80A4-295FC44493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10" name="pulse_FT" descr=""/>
          <p:cNvPicPr/>
          <p:nvPr/>
        </p:nvPicPr>
        <p:blipFill>
          <a:blip r:embed="rId1"/>
          <a:stretch/>
        </p:blipFill>
        <p:spPr>
          <a:xfrm>
            <a:off x="1066680" y="1557360"/>
            <a:ext cx="6934320" cy="5224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49320"/>
                <a:ext cx="746748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T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ω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897-B6FF-4585-BE90-F43C35568B5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F5A7E-82CF-4675-AE17-32ADD4A1C2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cc"/>
              </a:solidFill>
              <a:latin typeface="Arial Black"/>
            </a:endParaRPr>
          </a:p>
        </p:txBody>
      </p:sp>
      <p:pic>
        <p:nvPicPr>
          <p:cNvPr id="113" name="pulse_trans" descr=""/>
          <p:cNvPicPr/>
          <p:nvPr/>
        </p:nvPicPr>
        <p:blipFill>
          <a:blip r:embed="rId1"/>
          <a:stretch/>
        </p:blipFill>
        <p:spPr>
          <a:xfrm>
            <a:off x="1219320" y="1701720"/>
            <a:ext cx="6629400" cy="5079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62120" y="76320"/>
                <a:ext cx="739116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3, JH McClellan &amp; RW Scha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DE6-CEA2-4771-9E60-A19E9D5DB5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85AC0-E764-4FAE-9981-692D47C6B8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9T04:53:29Z</dcterms:created>
  <dc:creator>Jim McClellan</dc:creator>
  <dc:description/>
  <dc:language>en-US</dc:language>
  <cp:lastModifiedBy>Jim McClellan</cp:lastModifiedBy>
  <cp:lastPrinted>1999-11-15T13:46:33Z</cp:lastPrinted>
  <dcterms:modified xsi:type="dcterms:W3CDTF">2004-03-27T21:38:56Z</dcterms:modified>
  <cp:revision>450</cp:revision>
  <dc:subject/>
  <dc:title>SPFirst Lecture #2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users.ece.gatech.edu/mcclella</vt:lpwstr>
  </property>
  <property fmtid="{D5CDD505-2E9C-101B-9397-08002B2CF9AE}" pid="9" name="LinkColor">
    <vt:r8>16711782</vt:r8>
  </property>
  <property fmtid="{D5CDD505-2E9C-101B-9397-08002B2CF9AE}" pid="10" name="MailAddress">
    <vt:lpwstr>jim.mcclellan@ece.gate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D: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