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0.wmf" ContentType="image/x-wmf"/>
  <Override PartName="/ppt/media/image2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24.png" ContentType="image/png"/>
  <Override PartName="/ppt/media/image12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2.wmf" ContentType="image/x-wmf"/>
  <Override PartName="/ppt/media/image31.wmf" ContentType="image/x-wmf"/>
  <Override PartName="/ppt/media/image36.wmf" ContentType="image/x-wmf"/>
  <Override PartName="/ppt/media/image41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13.wmf" ContentType="image/x-wmf"/>
  <Override PartName="/ppt/media/image37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374-0051-4A2F-951D-19C56C65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671-497D-4D6D-958D-2FE41DCF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203-A59D-4EA8-909C-CAB72E78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DD9-D9B9-49EF-9EBA-66675E89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9811-46D8-488F-BADE-4A70A107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CBEB-7C5F-48DB-96BF-65AAE0A6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9384-FCF8-47EE-A873-F94F91EE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FC98-CA80-46A5-8B2F-C5DDCAC9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EEC1-27F2-4DFC-90A2-021B9F43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6C3C-3C77-4302-98A3-D6E08EA7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A615-1B4B-4A88-B357-7FFD5151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6EE-AE83-4E81-AD07-C4C86B0D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2159-C77B-4044-87E1-2276111E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989D-9444-497B-AB13-25BE8D5A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845A-4891-4CA0-BFA1-20927166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3965-8C39-48EE-8AFA-8A45FB00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9652-0CCA-4EA2-9108-D5D4FFED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F10-FFA5-4350-8265-04A61663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F77-1F10-41F6-9DE2-F797C61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97F-E09F-472E-8527-586C232C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881-8077-4A17-AC36-F311CF1B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4CC-A73C-49F6-B1ED-B7E62E31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A83-A70C-4FE5-B9E1-67A258D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EE2-C15D-470B-AFDC-D48800FA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F628-05B0-4FBF-A2CF-6BD8BEB1A81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0385-FF00-4BEF-B366-18F32963AC3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55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06EF-1504-4863-9C8C-566947D0EAD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1B56-0B6F-445A-BBC7-209DDD0CEEA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4276-C462-46D6-8EE5-DB5109D301E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7EB3-CA97-46A2-935C-3DE505A999B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3428640"/>
            <a:ext cx="61722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IR Filters: Feedbac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d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6087-C397-458D-B2F4-2FBF7C06F02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E1E6-2E89-455C-A118-59F12289507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COEFFICI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EVIOU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UTPU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LAB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yy = filter([3,-2],[1,-0.8],xx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212840" y="2685960"/>
                <a:ext cx="7175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5" name="Group 15"/>
          <p:cNvGrpSpPr/>
          <p:nvPr/>
        </p:nvGrpSpPr>
        <p:grpSpPr>
          <a:xfrm>
            <a:off x="141120" y="3048120"/>
            <a:ext cx="7469640" cy="2743200"/>
            <a:chOff x="141120" y="3048120"/>
            <a:chExt cx="7469640" cy="2743200"/>
          </a:xfrm>
        </p:grpSpPr>
        <p:sp>
          <p:nvSpPr>
            <p:cNvPr id="186" name="Freeform 10"/>
            <p:cNvSpPr/>
            <p:nvPr/>
          </p:nvSpPr>
          <p:spPr>
            <a:xfrm>
              <a:off x="3124080" y="3120120"/>
              <a:ext cx="4265640" cy="1740960"/>
            </a:xfrm>
            <a:custGeom>
              <a:avLst/>
              <a:gdLst/>
              <a:ahLst/>
              <a:rect l="l" t="t" r="r" b="b"/>
              <a:pathLst>
                <a:path w="2447" h="1152">
                  <a:moveTo>
                    <a:pt x="1920" y="1152"/>
                  </a:moveTo>
                  <a:cubicBezTo>
                    <a:pt x="2063" y="1076"/>
                    <a:pt x="2207" y="1000"/>
                    <a:pt x="2256" y="864"/>
                  </a:cubicBezTo>
                  <a:cubicBezTo>
                    <a:pt x="2304" y="727"/>
                    <a:pt x="2447" y="431"/>
                    <a:pt x="2208" y="336"/>
                  </a:cubicBezTo>
                  <a:cubicBezTo>
                    <a:pt x="1968" y="240"/>
                    <a:pt x="1136" y="304"/>
                    <a:pt x="816" y="288"/>
                  </a:cubicBezTo>
                  <a:cubicBezTo>
                    <a:pt x="496" y="272"/>
                    <a:pt x="424" y="288"/>
                    <a:pt x="288" y="240"/>
                  </a:cubicBezTo>
                  <a:cubicBezTo>
                    <a:pt x="151" y="191"/>
                    <a:pt x="75" y="95"/>
                    <a:pt x="0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817600" y="3679560"/>
              <a:ext cx="1793160" cy="3682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IGN CHANGE</a:t>
              </a:r>
              <a:endParaRPr b="0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141120" y="3048120"/>
              <a:ext cx="5726160" cy="2743200"/>
            </a:xfrm>
            <a:custGeom>
              <a:avLst/>
              <a:gdLst/>
              <a:ahLst/>
              <a:rect l="l" t="t" r="r" b="b"/>
              <a:pathLst>
                <a:path w="3607" h="1815">
                  <a:moveTo>
                    <a:pt x="3504" y="1392"/>
                  </a:moveTo>
                  <a:cubicBezTo>
                    <a:pt x="3555" y="1532"/>
                    <a:pt x="3607" y="1672"/>
                    <a:pt x="3168" y="1728"/>
                  </a:cubicBezTo>
                  <a:cubicBezTo>
                    <a:pt x="2728" y="1783"/>
                    <a:pt x="1375" y="1815"/>
                    <a:pt x="864" y="1728"/>
                  </a:cubicBezTo>
                  <a:cubicBezTo>
                    <a:pt x="352" y="1640"/>
                    <a:pt x="191" y="1447"/>
                    <a:pt x="96" y="1200"/>
                  </a:cubicBezTo>
                  <a:cubicBezTo>
                    <a:pt x="0" y="952"/>
                    <a:pt x="192" y="440"/>
                    <a:pt x="288" y="240"/>
                  </a:cubicBezTo>
                  <a:cubicBezTo>
                    <a:pt x="384" y="40"/>
                    <a:pt x="608" y="39"/>
                    <a:pt x="672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Group 16"/>
          <p:cNvGrpSpPr/>
          <p:nvPr/>
        </p:nvGrpSpPr>
        <p:grpSpPr>
          <a:xfrm>
            <a:off x="765720" y="3200040"/>
            <a:ext cx="3362760" cy="907200"/>
            <a:chOff x="765720" y="3200040"/>
            <a:chExt cx="3362760" cy="907200"/>
          </a:xfrm>
        </p:grpSpPr>
        <p:sp>
          <p:nvSpPr>
            <p:cNvPr id="190" name="Line 13"/>
            <p:cNvSpPr/>
            <p:nvPr/>
          </p:nvSpPr>
          <p:spPr>
            <a:xfrm flipV="1">
              <a:off x="1981080" y="3200040"/>
              <a:ext cx="990720" cy="609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765720" y="3708360"/>
              <a:ext cx="336276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EEDBACK COEFFICIENT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EF2A-6467-4766-8222-0B504E40297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4B75-9A2E-4850-98FA-F8FB36AC34F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UTE OUT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96" name="Picture 3" descr="_x0016_input-to-1st-order.gif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1180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762120" y="1828800"/>
            <a:ext cx="4190760" cy="533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98" name="Group 9"/>
          <p:cNvGrpSpPr/>
          <p:nvPr/>
        </p:nvGrpSpPr>
        <p:grpSpPr>
          <a:xfrm>
            <a:off x="3657240" y="3124080"/>
            <a:ext cx="4114800" cy="2514600"/>
            <a:chOff x="3657240" y="3124080"/>
            <a:chExt cx="4114800" cy="2514600"/>
          </a:xfrm>
        </p:grpSpPr>
        <p:sp>
          <p:nvSpPr>
            <p:cNvPr id="199" name="Line 5"/>
            <p:cNvSpPr/>
            <p:nvPr/>
          </p:nvSpPr>
          <p:spPr>
            <a:xfrm flipH="1">
              <a:off x="3657240" y="3124080"/>
              <a:ext cx="1219320" cy="838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0" name="Line 6"/>
            <p:cNvSpPr/>
            <p:nvPr/>
          </p:nvSpPr>
          <p:spPr>
            <a:xfrm flipH="1">
              <a:off x="5714640" y="3200400"/>
              <a:ext cx="2057400" cy="8380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1" name="Freeform 8"/>
            <p:cNvSpPr/>
            <p:nvPr/>
          </p:nvSpPr>
          <p:spPr>
            <a:xfrm>
              <a:off x="4267080" y="3124080"/>
              <a:ext cx="1676520" cy="2514600"/>
            </a:xfrm>
            <a:custGeom>
              <a:avLst/>
              <a:gdLst/>
              <a:ahLst/>
              <a:rect l="l" t="t" r="r" b="b"/>
              <a:pathLst>
                <a:path w="1056" h="1584">
                  <a:moveTo>
                    <a:pt x="1056" y="0"/>
                  </a:moveTo>
                  <a:cubicBezTo>
                    <a:pt x="819" y="64"/>
                    <a:pt x="583" y="128"/>
                    <a:pt x="432" y="288"/>
                  </a:cubicBezTo>
                  <a:cubicBezTo>
                    <a:pt x="280" y="447"/>
                    <a:pt x="216" y="744"/>
                    <a:pt x="144" y="960"/>
                  </a:cubicBezTo>
                  <a:cubicBezTo>
                    <a:pt x="72" y="1176"/>
                    <a:pt x="36" y="1380"/>
                    <a:pt x="0" y="1584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E264-F00D-4EA9-A9A5-C8EF17D03AB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6ACE-83F1-4D81-9F04-2A1C79B937A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UTE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3920" y="1885680"/>
            <a:ext cx="81788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EEDBACK DIFFERENCE EQUA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029"/>
              <p:cNvSpPr txBox="1"/>
              <p:nvPr/>
            </p:nvSpPr>
            <p:spPr>
              <a:xfrm>
                <a:off x="2297160" y="2692440"/>
                <a:ext cx="5006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30"/>
              <p:cNvSpPr txBox="1"/>
              <p:nvPr/>
            </p:nvSpPr>
            <p:spPr>
              <a:xfrm>
                <a:off x="2008080" y="4800600"/>
                <a:ext cx="46324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Freeform 1032"/>
          <p:cNvSpPr/>
          <p:nvPr/>
        </p:nvSpPr>
        <p:spPr>
          <a:xfrm>
            <a:off x="2565360" y="4267080"/>
            <a:ext cx="2386080" cy="609840"/>
          </a:xfrm>
          <a:custGeom>
            <a:avLst/>
            <a:gdLst/>
            <a:ahLst/>
            <a:rect l="l" t="t" r="r" b="b"/>
            <a:pathLst>
              <a:path w="1503" h="384">
                <a:moveTo>
                  <a:pt x="64" y="0"/>
                </a:moveTo>
                <a:cubicBezTo>
                  <a:pt x="32" y="64"/>
                  <a:pt x="0" y="128"/>
                  <a:pt x="208" y="144"/>
                </a:cubicBezTo>
                <a:cubicBezTo>
                  <a:pt x="415" y="159"/>
                  <a:pt x="1120" y="56"/>
                  <a:pt x="1312" y="96"/>
                </a:cubicBezTo>
                <a:cubicBezTo>
                  <a:pt x="1503" y="135"/>
                  <a:pt x="1431" y="259"/>
                  <a:pt x="1360" y="384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0" name="Rectangle 1033"/>
          <p:cNvSpPr/>
          <p:nvPr/>
        </p:nvSpPr>
        <p:spPr>
          <a:xfrm>
            <a:off x="533520" y="3790800"/>
            <a:ext cx="81788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ED y[-1] to get started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E184-61AB-4E69-B3D6-24BAF3825F1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95E3-E4D6-4E5F-A2AA-13B656F90CB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T REST COND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[n] = 0,  for n&lt;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CAUSE x[n] = 0,  for n&lt;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6" name="Picture 7" descr="_x0016_at-rest-conditions.gif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3414600"/>
            <a:ext cx="90676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7F91-8EC0-45E8-8DCE-4AA5E19C00F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7933-3DD6-42B9-9ED1-34E6C7296DD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UTE y[0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STARTS THE RECURS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ME with MORE FEEDBACK TE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2" name="Picture 4" descr="&#13;eval-y[0].gif      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2666880"/>
            <a:ext cx="9124920" cy="128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1112760" y="5029200"/>
                <a:ext cx="7223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77E7-6B19-43B0-B277-D251B18AF41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0DCB-E1A8-4FC2-B95B-9B2DA754A3D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UTE MORE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TINUE THE RECURS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9" name="Picture 5" descr="&#13;eval-y[n].gif      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76320" y="2438280"/>
            <a:ext cx="9067680" cy="3900600"/>
          </a:xfrm>
          <a:prstGeom prst="rect">
            <a:avLst/>
          </a:prstGeom>
          <a:ln w="0">
            <a:noFill/>
          </a:ln>
        </p:spPr>
      </p:pic>
      <p:sp>
        <p:nvSpPr>
          <p:cNvPr id="230" name="Line 8"/>
          <p:cNvSpPr/>
          <p:nvPr/>
        </p:nvSpPr>
        <p:spPr>
          <a:xfrm flipV="1">
            <a:off x="609480" y="3504960"/>
            <a:ext cx="0" cy="152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3657600" y="3504960"/>
            <a:ext cx="0" cy="152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 flipV="1">
            <a:off x="2286000" y="3504960"/>
            <a:ext cx="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0DAE-0FE3-49F0-9F2A-1B1D202E2C7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1C80-7FCE-4B51-89EF-C2D3D8DC431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y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37" name="Picture 3" descr="_x000b_plot-yn.gif        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9294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3581280" y="1828800"/>
            <a:ext cx="5562720" cy="12193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BC32-3EC6-4C5C-A512-45B3BD77F2C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0D7A-2455-4DFB-8D18-4845667A097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42" name="Object 10"/>
          <p:cNvGraphicFramePr/>
          <p:nvPr/>
        </p:nvGraphicFramePr>
        <p:xfrm>
          <a:off x="1219320" y="1752480"/>
          <a:ext cx="411624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4116240" cy="5241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45" name="Picture 5" descr="_x0014_impulse-response.gif                                           000096D7_x0005_JKL-2                          B0CAADC9:"/>
          <p:cNvPicPr/>
          <p:nvPr/>
        </p:nvPicPr>
        <p:blipFill>
          <a:blip r:embed="rId3"/>
          <a:srcRect l="0" t="0" r="9922" b="0"/>
          <a:stretch/>
        </p:blipFill>
        <p:spPr>
          <a:xfrm>
            <a:off x="76320" y="2352600"/>
            <a:ext cx="8991360" cy="3514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6" name="Object 8"/>
              <p:cNvSpPr txBox="1"/>
              <p:nvPr/>
            </p:nvSpPr>
            <p:spPr>
              <a:xfrm>
                <a:off x="2057400" y="5943600"/>
                <a:ext cx="28954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n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" name="Object 9"/>
          <p:cNvGraphicFramePr/>
          <p:nvPr/>
        </p:nvGraphicFramePr>
        <p:xfrm>
          <a:off x="1219320" y="1752480"/>
          <a:ext cx="4116240" cy="5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1752480"/>
                    <a:ext cx="4116240" cy="5241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9" name="Object 12"/>
              <p:cNvSpPr txBox="1"/>
              <p:nvPr/>
            </p:nvSpPr>
            <p:spPr>
              <a:xfrm>
                <a:off x="5410080" y="5181480"/>
                <a:ext cx="3581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41CE-5ED1-4E28-84C0-3B9643B3A3B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4C56-893A-45F3-ABF1-A8AECFE176D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FFERENCE EQUA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 TIME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514680" y="5354640"/>
                <a:ext cx="919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Line 5"/>
          <p:cNvSpPr/>
          <p:nvPr/>
        </p:nvSpPr>
        <p:spPr>
          <a:xfrm>
            <a:off x="1995480" y="56386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4662360" y="56386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4748040" y="4952880"/>
                <a:ext cx="3419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1905120" y="5070600"/>
                <a:ext cx="91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9"/>
          <p:cNvSpPr/>
          <p:nvPr/>
        </p:nvSpPr>
        <p:spPr>
          <a:xfrm>
            <a:off x="3214800" y="5181480"/>
            <a:ext cx="1447560" cy="9144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 flipV="1">
            <a:off x="2133720" y="5791320"/>
            <a:ext cx="1218960" cy="380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380880" y="5791320"/>
            <a:ext cx="198144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2"/>
              <p:cNvSpPr txBox="1"/>
              <p:nvPr/>
            </p:nvSpPr>
            <p:spPr>
              <a:xfrm>
                <a:off x="2297160" y="2286000"/>
                <a:ext cx="5006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4" name="Object 13"/>
          <p:cNvGraphicFramePr/>
          <p:nvPr/>
        </p:nvGraphicFramePr>
        <p:xfrm>
          <a:off x="2771640" y="3352680"/>
          <a:ext cx="36291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352680"/>
                    <a:ext cx="3629160" cy="6685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6" name="Text Box 14"/>
          <p:cNvSpPr/>
          <p:nvPr/>
        </p:nvSpPr>
        <p:spPr>
          <a:xfrm>
            <a:off x="3581280" y="6172200"/>
            <a:ext cx="21337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TI 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8BA5-FB68-4AB0-B728-4967FA61EAC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E444-064B-49F1-952A-7430AE51353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779400" y="1859040"/>
          <a:ext cx="758196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1859040"/>
                    <a:ext cx="7581960" cy="84780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3" name="Picture 4" descr="_x0010_an-vs-n-form.gif                                               0000975C_x0005_JKL-2                          B0CAADC9:"/>
          <p:cNvPicPr/>
          <p:nvPr/>
        </p:nvPicPr>
        <p:blipFill>
          <a:blip r:embed="rId3"/>
          <a:stretch/>
        </p:blipFill>
        <p:spPr>
          <a:xfrm>
            <a:off x="279360" y="3048120"/>
            <a:ext cx="8864640" cy="309852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5"/>
          <p:cNvSpPr/>
          <p:nvPr/>
        </p:nvSpPr>
        <p:spPr>
          <a:xfrm>
            <a:off x="4038480" y="2590920"/>
            <a:ext cx="3886200" cy="1904760"/>
          </a:xfrm>
          <a:custGeom>
            <a:avLst/>
            <a:gdLst/>
            <a:ahLst/>
            <a:rect l="l" t="t" r="r" b="b"/>
            <a:pathLst>
              <a:path w="1655" h="1056">
                <a:moveTo>
                  <a:pt x="1008" y="0"/>
                </a:moveTo>
                <a:cubicBezTo>
                  <a:pt x="1331" y="128"/>
                  <a:pt x="1655" y="256"/>
                  <a:pt x="1488" y="432"/>
                </a:cubicBezTo>
                <a:cubicBezTo>
                  <a:pt x="1320" y="607"/>
                  <a:pt x="660" y="831"/>
                  <a:pt x="0" y="10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AD1D-892D-42D7-9E79-C276E04406B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BBC7-7F18-4042-BF74-F2D595C5475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0195-3463-4AA3-8043-0FC669A4C0D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C146-65B9-423F-8DFC-9A50B846D47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nfinite-Length Signal:  h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LYNOMIAL Represen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MPLIFY the SUMM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1530360" y="2222640"/>
          <a:ext cx="3276720" cy="113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2222640"/>
                    <a:ext cx="3276720" cy="1130040"/>
                  </a:xfrm>
                  <a:prstGeom prst="rect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Line 5"/>
          <p:cNvSpPr/>
          <p:nvPr/>
        </p:nvSpPr>
        <p:spPr>
          <a:xfrm flipH="1" flipV="1">
            <a:off x="4571640" y="2819520"/>
            <a:ext cx="1523880" cy="30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127560" y="2717640"/>
            <a:ext cx="169416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PPLIES to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y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1"/>
              <p:cNvSpPr txBox="1"/>
              <p:nvPr/>
            </p:nvSpPr>
            <p:spPr>
              <a:xfrm>
                <a:off x="487440" y="4648320"/>
                <a:ext cx="76978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64D0-79E1-4D3B-ACA7-F053793478C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1F36-44DB-4D17-A136-FA0BF5A8B63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rivation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call Sum of Geometric Sequenc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ields a COMPACT 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90" name="Object 1032"/>
          <p:cNvGraphicFramePr/>
          <p:nvPr/>
        </p:nvGraphicFramePr>
        <p:xfrm>
          <a:off x="6324480" y="2211480"/>
          <a:ext cx="205740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11480"/>
                    <a:ext cx="2057400" cy="1065240"/>
                  </a:xfrm>
                  <a:prstGeom prst="rect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" name="Object 1033"/>
              <p:cNvSpPr txBox="1"/>
              <p:nvPr/>
            </p:nvSpPr>
            <p:spPr>
              <a:xfrm>
                <a:off x="1295280" y="3505320"/>
                <a:ext cx="6627960" cy="28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&g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15D5-D420-446B-BF8B-CF52A618BE7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B607-6705-49BB-916F-9DA8E0F7977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= z-Transform{ h[n] }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-ORDER IIR FILTER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98" name="Object 9223"/>
          <p:cNvGraphicFramePr/>
          <p:nvPr/>
        </p:nvGraphicFramePr>
        <p:xfrm>
          <a:off x="2219400" y="2514600"/>
          <a:ext cx="54766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92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9400" y="2514600"/>
                    <a:ext cx="5476680" cy="69696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0" name="Object 9224"/>
          <p:cNvGraphicFramePr/>
          <p:nvPr/>
        </p:nvGraphicFramePr>
        <p:xfrm>
          <a:off x="1781280" y="4678200"/>
          <a:ext cx="332424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92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1280" y="4678200"/>
                    <a:ext cx="3324240" cy="132084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2" name="Object 9225"/>
              <p:cNvSpPr txBox="1"/>
              <p:nvPr/>
            </p:nvSpPr>
            <p:spPr>
              <a:xfrm>
                <a:off x="762120" y="3429000"/>
                <a:ext cx="41907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2CCA-5443-45E8-BFAB-E9E5AC2FAEA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EE67-FA3B-43C3-9266-9C8BFBC0F83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= z-Transform{ h[n] }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OTHER FIRST-ORDER IIR FILTER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8" name="Object 6"/>
          <p:cNvGraphicFramePr/>
          <p:nvPr/>
        </p:nvGraphicFramePr>
        <p:xfrm>
          <a:off x="1143000" y="2514600"/>
          <a:ext cx="723888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7238880" cy="63180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0" name="Object 7"/>
          <p:cNvGraphicFramePr/>
          <p:nvPr/>
        </p:nvGraphicFramePr>
        <p:xfrm>
          <a:off x="587520" y="4940280"/>
          <a:ext cx="779436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520" y="4940280"/>
                    <a:ext cx="7794360" cy="1384200"/>
                  </a:xfrm>
                  <a:prstGeom prst="rect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2" name="Object 8"/>
              <p:cNvSpPr txBox="1"/>
              <p:nvPr/>
            </p:nvSpPr>
            <p:spPr>
              <a:xfrm>
                <a:off x="189000" y="3328920"/>
                <a:ext cx="8526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"/>
              <p:cNvSpPr txBox="1"/>
              <p:nvPr/>
            </p:nvSpPr>
            <p:spPr>
              <a:xfrm>
                <a:off x="5105520" y="4343400"/>
                <a:ext cx="1817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s a shift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8A65-8B20-42B0-B6B6-A67B33E30C5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EC3F-587E-4692-BD22-E38A0648467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ICATION of z-TRANSFO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in TIME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Line 1028"/>
          <p:cNvSpPr/>
          <p:nvPr/>
        </p:nvSpPr>
        <p:spPr>
          <a:xfrm>
            <a:off x="1600200" y="32767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Line 1029"/>
          <p:cNvSpPr/>
          <p:nvPr/>
        </p:nvSpPr>
        <p:spPr>
          <a:xfrm>
            <a:off x="4267080" y="32767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030"/>
              <p:cNvSpPr txBox="1"/>
              <p:nvPr/>
            </p:nvSpPr>
            <p:spPr>
              <a:xfrm>
                <a:off x="4572000" y="2590920"/>
                <a:ext cx="3422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031"/>
              <p:cNvSpPr txBox="1"/>
              <p:nvPr/>
            </p:nvSpPr>
            <p:spPr>
              <a:xfrm>
                <a:off x="1447920" y="2666880"/>
                <a:ext cx="1044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32"/>
              <p:cNvSpPr txBox="1"/>
              <p:nvPr/>
            </p:nvSpPr>
            <p:spPr>
              <a:xfrm>
                <a:off x="3514680" y="5049720"/>
                <a:ext cx="919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Line 1033"/>
          <p:cNvSpPr/>
          <p:nvPr/>
        </p:nvSpPr>
        <p:spPr>
          <a:xfrm>
            <a:off x="1995480" y="53341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Line 1034"/>
          <p:cNvSpPr/>
          <p:nvPr/>
        </p:nvSpPr>
        <p:spPr>
          <a:xfrm>
            <a:off x="4662360" y="533412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035"/>
              <p:cNvSpPr txBox="1"/>
              <p:nvPr/>
            </p:nvSpPr>
            <p:spPr>
              <a:xfrm>
                <a:off x="4748040" y="4648320"/>
                <a:ext cx="3419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036"/>
              <p:cNvSpPr txBox="1"/>
              <p:nvPr/>
            </p:nvSpPr>
            <p:spPr>
              <a:xfrm>
                <a:off x="1905120" y="4765680"/>
                <a:ext cx="919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Rectangle 1037"/>
          <p:cNvSpPr/>
          <p:nvPr/>
        </p:nvSpPr>
        <p:spPr>
          <a:xfrm>
            <a:off x="2819520" y="2819520"/>
            <a:ext cx="1447560" cy="914400"/>
          </a:xfrm>
          <a:prstGeom prst="rect">
            <a:avLst/>
          </a:prstGeom>
          <a:solidFill>
            <a:srgbClr val="ffcc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9" name="Rectangle 1038"/>
          <p:cNvSpPr/>
          <p:nvPr/>
        </p:nvSpPr>
        <p:spPr>
          <a:xfrm>
            <a:off x="3214800" y="4876920"/>
            <a:ext cx="1447560" cy="9144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039"/>
              <p:cNvSpPr txBox="1"/>
              <p:nvPr/>
            </p:nvSpPr>
            <p:spPr>
              <a:xfrm>
                <a:off x="3048120" y="2971800"/>
                <a:ext cx="1085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Line 1040"/>
          <p:cNvSpPr/>
          <p:nvPr/>
        </p:nvSpPr>
        <p:spPr>
          <a:xfrm flipV="1">
            <a:off x="2133720" y="5486040"/>
            <a:ext cx="1371600" cy="685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Text Box 1041"/>
          <p:cNvSpPr/>
          <p:nvPr/>
        </p:nvSpPr>
        <p:spPr>
          <a:xfrm>
            <a:off x="380880" y="5791320"/>
            <a:ext cx="198144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DF10-FEAA-4EA6-8596-85DAF709C77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EB07-57F8-44B0-87D4-626A126AF3E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EP RESPONSE: x[n]=u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37" name="Picture 7" descr="_x0013_step-response-table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228600" y="1371600"/>
            <a:ext cx="8153280" cy="607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8" name="Object 8"/>
              <p:cNvSpPr txBox="1"/>
              <p:nvPr/>
            </p:nvSpPr>
            <p:spPr>
              <a:xfrm>
                <a:off x="5746680" y="2590920"/>
                <a:ext cx="3245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n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9"/>
          <p:cNvSpPr/>
          <p:nvPr/>
        </p:nvSpPr>
        <p:spPr>
          <a:xfrm>
            <a:off x="4191120" y="4495680"/>
            <a:ext cx="68580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5562720" y="4343400"/>
            <a:ext cx="990360" cy="4572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238B-A5B6-45E2-BF57-0E3C640A138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4E09-E30B-4CE5-B420-26B05FCAFCF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RIVE STEP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45" name="Picture 3" descr="_x0011_step-response.gif                                              000096D7_x0005_JKL-2                          B0CAADC9:"/>
          <p:cNvPicPr/>
          <p:nvPr/>
        </p:nvPicPr>
        <p:blipFill>
          <a:blip r:embed="rId1"/>
          <a:stretch/>
        </p:blipFill>
        <p:spPr>
          <a:xfrm>
            <a:off x="114480" y="1676520"/>
            <a:ext cx="8877240" cy="1562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_x0019_step-response-formula.gif                                      000096D7_x0005_JKL-2                          B0CAADC9:"/>
          <p:cNvPicPr/>
          <p:nvPr/>
        </p:nvPicPr>
        <p:blipFill>
          <a:blip r:embed="rId2"/>
          <a:stretch/>
        </p:blipFill>
        <p:spPr>
          <a:xfrm>
            <a:off x="76320" y="4952880"/>
            <a:ext cx="9067680" cy="1289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_x0011_geometric-sum.gif                                              000096D7_x0005_JKL-2                          B0CAADC9:"/>
          <p:cNvPicPr/>
          <p:nvPr/>
        </p:nvPicPr>
        <p:blipFill>
          <a:blip r:embed="rId3"/>
          <a:stretch/>
        </p:blipFill>
        <p:spPr>
          <a:xfrm>
            <a:off x="2908440" y="3352680"/>
            <a:ext cx="4711680" cy="148608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 flipH="1">
            <a:off x="3580920" y="2743200"/>
            <a:ext cx="403884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Freeform 8"/>
          <p:cNvSpPr/>
          <p:nvPr/>
        </p:nvSpPr>
        <p:spPr>
          <a:xfrm>
            <a:off x="3657600" y="4038480"/>
            <a:ext cx="2654280" cy="1447920"/>
          </a:xfrm>
          <a:custGeom>
            <a:avLst/>
            <a:gdLst/>
            <a:ahLst/>
            <a:rect l="l" t="t" r="r" b="b"/>
            <a:pathLst>
              <a:path w="1672" h="912">
                <a:moveTo>
                  <a:pt x="1440" y="0"/>
                </a:moveTo>
                <a:cubicBezTo>
                  <a:pt x="1556" y="151"/>
                  <a:pt x="1672" y="303"/>
                  <a:pt x="1584" y="432"/>
                </a:cubicBezTo>
                <a:cubicBezTo>
                  <a:pt x="1495" y="560"/>
                  <a:pt x="1175" y="688"/>
                  <a:pt x="912" y="768"/>
                </a:cubicBezTo>
                <a:cubicBezTo>
                  <a:pt x="648" y="847"/>
                  <a:pt x="324" y="879"/>
                  <a:pt x="0" y="912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7771-93EF-4B5B-ACBE-586BF287439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8B79-EE09-4A71-A888-90ACD4764B3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53" name="Picture 2" descr="_x0010_step_esample.gif                                               0000DCCD_x0005_JIM-2                          B29E03F8:"/>
          <p:cNvPicPr/>
          <p:nvPr/>
        </p:nvPicPr>
        <p:blipFill>
          <a:blip r:embed="rId1"/>
          <a:stretch/>
        </p:blipFill>
        <p:spPr>
          <a:xfrm>
            <a:off x="762120" y="797040"/>
            <a:ext cx="7315200" cy="60609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STEP RESPONSE</a:t>
            </a:r>
            <a:br>
              <a:rPr sz="4000"/>
            </a:b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609480" y="3505320"/>
            <a:ext cx="3048120" cy="380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56" name="Object 5"/>
          <p:cNvGraphicFramePr/>
          <p:nvPr/>
        </p:nvGraphicFramePr>
        <p:xfrm>
          <a:off x="4741920" y="3289320"/>
          <a:ext cx="4230720" cy="7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41920" y="3289320"/>
                    <a:ext cx="4230720" cy="7048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8" name="Object 6"/>
          <p:cNvGraphicFramePr/>
          <p:nvPr/>
        </p:nvGraphicFramePr>
        <p:xfrm>
          <a:off x="15840" y="3440160"/>
          <a:ext cx="3795840" cy="44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40" y="3440160"/>
                    <a:ext cx="3795840" cy="44604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D19B-A3CC-4457-AC4D-A6075435CEB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79EA-76B7-43DD-83DD-4049833BF40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63" name="Object 2"/>
          <p:cNvGraphicFramePr/>
          <p:nvPr/>
        </p:nvGraphicFramePr>
        <p:xfrm>
          <a:off x="0" y="2590920"/>
          <a:ext cx="909792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90979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H FORMULA for h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HIFTE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MPULSES to write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1066680" y="2971800"/>
            <a:ext cx="6447960" cy="2351520"/>
            <a:chOff x="1066680" y="2971800"/>
            <a:chExt cx="6447960" cy="2351520"/>
          </a:xfrm>
        </p:grpSpPr>
        <p:sp>
          <p:nvSpPr>
            <p:cNvPr id="368" name="Line 6"/>
            <p:cNvSpPr/>
            <p:nvPr/>
          </p:nvSpPr>
          <p:spPr>
            <a:xfrm flipH="1">
              <a:off x="5486400" y="2971800"/>
              <a:ext cx="1828800" cy="1143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1066680" y="4952880"/>
              <a:ext cx="60962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3733920" y="3962520"/>
              <a:ext cx="0" cy="1066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1" name="Line 9"/>
            <p:cNvSpPr/>
            <p:nvPr/>
          </p:nvSpPr>
          <p:spPr>
            <a:xfrm flipV="1">
              <a:off x="373392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2" name="Line 10"/>
            <p:cNvSpPr/>
            <p:nvPr/>
          </p:nvSpPr>
          <p:spPr>
            <a:xfrm>
              <a:off x="5638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3" name="Line 11"/>
            <p:cNvSpPr/>
            <p:nvPr/>
          </p:nvSpPr>
          <p:spPr>
            <a:xfrm>
              <a:off x="601992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4" name="Line 12"/>
            <p:cNvSpPr/>
            <p:nvPr/>
          </p:nvSpPr>
          <p:spPr>
            <a:xfrm>
              <a:off x="3352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5" name="Line 13"/>
            <p:cNvSpPr/>
            <p:nvPr/>
          </p:nvSpPr>
          <p:spPr>
            <a:xfrm>
              <a:off x="297180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259092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>
              <a:off x="2209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>
              <a:off x="182880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9" name="Text Box 17"/>
            <p:cNvSpPr/>
            <p:nvPr/>
          </p:nvSpPr>
          <p:spPr>
            <a:xfrm>
              <a:off x="3125880" y="39625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.2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0" name="Text Box 18"/>
            <p:cNvSpPr/>
            <p:nvPr/>
          </p:nvSpPr>
          <p:spPr>
            <a:xfrm>
              <a:off x="716472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 flipV="1">
              <a:off x="411480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 flipV="1">
              <a:off x="449568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 flipV="1">
              <a:off x="525780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 flipV="1">
              <a:off x="487692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85" name="Object 23"/>
            <p:cNvGraphicFramePr/>
            <p:nvPr/>
          </p:nvGraphicFramePr>
          <p:xfrm>
            <a:off x="3227400" y="3432240"/>
            <a:ext cx="811080" cy="45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6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27400" y="3432240"/>
                      <a:ext cx="81108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7" name="Text Box 24"/>
            <p:cNvSpPr/>
            <p:nvPr/>
          </p:nvSpPr>
          <p:spPr>
            <a:xfrm>
              <a:off x="3555360" y="4924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8" name="Text Box 25"/>
            <p:cNvSpPr/>
            <p:nvPr/>
          </p:nvSpPr>
          <p:spPr>
            <a:xfrm>
              <a:off x="5105520" y="48769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389" name="Object 26"/>
          <p:cNvGraphicFramePr/>
          <p:nvPr/>
        </p:nvGraphicFramePr>
        <p:xfrm>
          <a:off x="452520" y="5562720"/>
          <a:ext cx="28242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0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520" y="5562720"/>
                    <a:ext cx="28242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5930-AF50-4E49-8053-6023A60CC89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8395-5B48-443F-9C33-298009775D1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94" name="Object 2"/>
          <p:cNvGraphicFramePr/>
          <p:nvPr/>
        </p:nvGraphicFramePr>
        <p:xfrm>
          <a:off x="2209680" y="3943440"/>
          <a:ext cx="556272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943440"/>
                    <a:ext cx="556272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: Conv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tput = Convolution of x[n] &amp;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ATION:  y[n] = x[n]*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re is the FIR ca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4495680" y="3235320"/>
            <a:ext cx="3892680" cy="2974320"/>
            <a:chOff x="4495680" y="3235320"/>
            <a:chExt cx="3892680" cy="2974320"/>
          </a:xfrm>
        </p:grpSpPr>
        <p:sp>
          <p:nvSpPr>
            <p:cNvPr id="399" name="Text Box 6"/>
            <p:cNvSpPr/>
            <p:nvPr/>
          </p:nvSpPr>
          <p:spPr>
            <a:xfrm>
              <a:off x="6157800" y="3235320"/>
              <a:ext cx="2230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NITE LIMIT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 flipH="1">
              <a:off x="4495680" y="3505320"/>
              <a:ext cx="1524240" cy="685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5852880" y="5749920"/>
              <a:ext cx="2230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NITE LIMIT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2" name="Line 9"/>
            <p:cNvSpPr/>
            <p:nvPr/>
          </p:nvSpPr>
          <p:spPr>
            <a:xfrm flipH="1" flipV="1">
              <a:off x="4647960" y="5486400"/>
              <a:ext cx="106668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403" name="Group 10"/>
          <p:cNvGrpSpPr/>
          <p:nvPr/>
        </p:nvGrpSpPr>
        <p:grpSpPr>
          <a:xfrm>
            <a:off x="865440" y="5046840"/>
            <a:ext cx="4162320" cy="1281240"/>
            <a:chOff x="865440" y="5046840"/>
            <a:chExt cx="4162320" cy="1281240"/>
          </a:xfrm>
        </p:grpSpPr>
        <p:sp>
          <p:nvSpPr>
            <p:cNvPr id="404" name="Text Box 11"/>
            <p:cNvSpPr/>
            <p:nvPr/>
          </p:nvSpPr>
          <p:spPr>
            <a:xfrm>
              <a:off x="865440" y="5748480"/>
              <a:ext cx="2073960" cy="5796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Same as</a:t>
              </a:r>
              <a:r>
                <a:rPr b="0" lang="en-US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 b</a:t>
              </a:r>
              <a:r>
                <a:rPr b="1" lang="en-US" sz="2800" spc="-1" strike="noStrike" baseline="-25000">
                  <a:solidFill>
                    <a:srgbClr val="333399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5046840"/>
              <a:ext cx="2019600" cy="1179360"/>
            </a:xfrm>
            <a:custGeom>
              <a:avLst/>
              <a:gdLst/>
              <a:ahLst/>
              <a:rect l="l" t="t" r="r" b="b"/>
              <a:pathLst>
                <a:path w="1272" h="743">
                  <a:moveTo>
                    <a:pt x="0" y="672"/>
                  </a:moveTo>
                  <a:cubicBezTo>
                    <a:pt x="144" y="707"/>
                    <a:pt x="288" y="743"/>
                    <a:pt x="480" y="720"/>
                  </a:cubicBezTo>
                  <a:cubicBezTo>
                    <a:pt x="671" y="696"/>
                    <a:pt x="1032" y="648"/>
                    <a:pt x="1152" y="528"/>
                  </a:cubicBezTo>
                  <a:cubicBezTo>
                    <a:pt x="1272" y="408"/>
                    <a:pt x="1236" y="204"/>
                    <a:pt x="1200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292E-CA41-48D2-B8DD-9F58F54D271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4C01-B5A1-4071-8BF7-CA1AE811907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8, Sects. 8-1, 8-2 &amp; 8-3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8, Sects 8-1 thru 8-4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ES &amp; ZERO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8, Sects. 8-4 8-5 &amp; 8-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0CD9-F4AC-4425-BF10-9F71E42E95A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72C5-14A8-4C79-9D72-7AA38FFF48D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409" name="Object 2"/>
          <p:cNvGraphicFramePr/>
          <p:nvPr/>
        </p:nvGraphicFramePr>
        <p:xfrm>
          <a:off x="152280" y="1741320"/>
          <a:ext cx="358164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41320"/>
                    <a:ext cx="358164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3"/>
          <p:cNvGraphicFramePr/>
          <p:nvPr/>
        </p:nvGraphicFramePr>
        <p:xfrm>
          <a:off x="3701880" y="1754280"/>
          <a:ext cx="475632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1880" y="1754280"/>
                    <a:ext cx="475632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4"/>
          <p:cNvGraphicFramePr/>
          <p:nvPr/>
        </p:nvGraphicFramePr>
        <p:xfrm>
          <a:off x="874800" y="4419720"/>
          <a:ext cx="6411960" cy="6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4800" y="4419720"/>
                    <a:ext cx="64119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-pt RUNNING AVG 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779760" y="5257800"/>
            <a:ext cx="209196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ROS 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IT CIRC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417" name="Group 7"/>
          <p:cNvGrpSpPr/>
          <p:nvPr/>
        </p:nvGrpSpPr>
        <p:grpSpPr>
          <a:xfrm>
            <a:off x="2590560" y="2514600"/>
            <a:ext cx="6451920" cy="4010760"/>
            <a:chOff x="2590560" y="2514600"/>
            <a:chExt cx="6451920" cy="4010760"/>
          </a:xfrm>
        </p:grpSpPr>
        <p:sp>
          <p:nvSpPr>
            <p:cNvPr id="418" name="Line 8"/>
            <p:cNvSpPr/>
            <p:nvPr/>
          </p:nvSpPr>
          <p:spPr>
            <a:xfrm flipH="1" flipV="1">
              <a:off x="2590560" y="5029200"/>
              <a:ext cx="3809880" cy="9144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9" name="Freeform 9"/>
            <p:cNvSpPr/>
            <p:nvPr/>
          </p:nvSpPr>
          <p:spPr>
            <a:xfrm>
              <a:off x="8305920" y="2514600"/>
              <a:ext cx="736560" cy="2971800"/>
            </a:xfrm>
            <a:custGeom>
              <a:avLst/>
              <a:gdLst/>
              <a:ahLst/>
              <a:rect l="l" t="t" r="r" b="b"/>
              <a:pathLst>
                <a:path w="464" h="2232">
                  <a:moveTo>
                    <a:pt x="192" y="2232"/>
                  </a:moveTo>
                  <a:cubicBezTo>
                    <a:pt x="328" y="1476"/>
                    <a:pt x="464" y="720"/>
                    <a:pt x="432" y="360"/>
                  </a:cubicBezTo>
                  <a:cubicBezTo>
                    <a:pt x="400" y="0"/>
                    <a:pt x="200" y="36"/>
                    <a:pt x="0" y="72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0" name="Text Box 10"/>
            <p:cNvSpPr/>
            <p:nvPr/>
          </p:nvSpPr>
          <p:spPr>
            <a:xfrm>
              <a:off x="6323760" y="5334120"/>
              <a:ext cx="2494080" cy="11912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(z-1) in 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denominato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ancels k=0 ter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421" name="Object 11"/>
          <p:cNvGraphicFramePr/>
          <p:nvPr/>
        </p:nvGraphicFramePr>
        <p:xfrm>
          <a:off x="1133640" y="3355920"/>
          <a:ext cx="6029280" cy="6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33640" y="3355920"/>
                    <a:ext cx="60292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18D3-73A5-4835-BE6F-EA64167AC93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4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837A-9E73-4FB7-A1AA-FE2115AA064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26" name="Picture 2" descr="_x000c_PZ-10-20.gif                                                   0000DCF0_x0005_JIM-2                          B29E03F8:"/>
          <p:cNvPicPr/>
          <p:nvPr/>
        </p:nvPicPr>
        <p:blipFill>
          <a:blip r:embed="rId1"/>
          <a:stretch/>
        </p:blipFill>
        <p:spPr>
          <a:xfrm>
            <a:off x="152280" y="1523880"/>
            <a:ext cx="2971800" cy="48769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4326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DESIGN: CHANGE 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428" name="Picture 4" descr="_x000c_Hw-10-20.gif                                                   000073A8_x0003_JJ2                            B37C3755:"/>
          <p:cNvPicPr/>
          <p:nvPr/>
        </p:nvPicPr>
        <p:blipFill>
          <a:blip r:embed="rId2"/>
          <a:stretch/>
        </p:blipFill>
        <p:spPr>
          <a:xfrm>
            <a:off x="3352680" y="1523880"/>
            <a:ext cx="5715000" cy="485928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5"/>
          <p:cNvSpPr/>
          <p:nvPr/>
        </p:nvSpPr>
        <p:spPr>
          <a:xfrm>
            <a:off x="3997080" y="3962520"/>
            <a:ext cx="172296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ssban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rrow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L big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05B2-E14F-4B71-AD01-66478881AC3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6500-5FB5-4E0C-BCF0-1D0F22A2A28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(z) = z-Transform{ h[n] }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ST-ORDER CAS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35" name="Picture 4" descr="&#13;Hz-for-an.gif                                                  0000975C_x0005_JKL-2                          B0CAADC9:"/>
          <p:cNvPicPr/>
          <p:nvPr/>
        </p:nvPicPr>
        <p:blipFill>
          <a:blip r:embed="rId1"/>
          <a:stretch/>
        </p:blipFill>
        <p:spPr>
          <a:xfrm>
            <a:off x="304920" y="3009960"/>
            <a:ext cx="8420040" cy="33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5"/>
          <p:cNvGraphicFramePr/>
          <p:nvPr/>
        </p:nvGraphicFramePr>
        <p:xfrm>
          <a:off x="5646600" y="2325600"/>
          <a:ext cx="3243240" cy="79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46600" y="2325600"/>
                    <a:ext cx="3243240" cy="79848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8" name="Object 6"/>
          <p:cNvGraphicFramePr/>
          <p:nvPr/>
        </p:nvGraphicFramePr>
        <p:xfrm>
          <a:off x="5659560" y="1701720"/>
          <a:ext cx="2473200" cy="6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9560" y="1701720"/>
                    <a:ext cx="2473200" cy="60012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53DE-F3AB-4426-B62E-8AF7CE5447B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F510-CBA6-4F70-BDA9-FB783111FEF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ow how to compute the output y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RST-ORDER CASE (N=1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-transform: Impulse Response h[n]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H(z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1447920" y="3200400"/>
            <a:ext cx="6357960" cy="1386000"/>
            <a:chOff x="1447920" y="3200400"/>
            <a:chExt cx="6357960" cy="1386000"/>
          </a:xfrm>
        </p:grpSpPr>
        <p:graphicFrame>
          <p:nvGraphicFramePr>
            <p:cNvPr id="105" name="Object 4"/>
            <p:cNvGraphicFramePr/>
            <p:nvPr/>
          </p:nvGraphicFramePr>
          <p:xfrm>
            <a:off x="1447920" y="3352680"/>
            <a:ext cx="6357960" cy="123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3352680"/>
                      <a:ext cx="6357960" cy="1233720"/>
                    </a:xfrm>
                    <a:prstGeom prst="rect">
                      <a:avLst/>
                    </a:prstGeom>
                    <a:ln w="324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7" name="Line 5"/>
            <p:cNvSpPr/>
            <p:nvPr/>
          </p:nvSpPr>
          <p:spPr>
            <a:xfrm>
              <a:off x="3429000" y="3200400"/>
              <a:ext cx="304920" cy="609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08" name="Rectangle 6"/>
          <p:cNvSpPr/>
          <p:nvPr/>
        </p:nvSpPr>
        <p:spPr>
          <a:xfrm>
            <a:off x="380880" y="16765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FINITE IMPULSE RESPONSE FILTER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efin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  <a:ea typeface="ＭＳ Ｐゴシック"/>
              </a:rPr>
              <a:t>IIR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IGITAL Filter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av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  <a:ea typeface="ＭＳ Ｐゴシック"/>
              </a:rPr>
              <a:t>FEEDBACK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: use PREVIOUS OUTPUT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C052-4965-42E2-B35B-478C9661237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3262-5B77-41DF-A169-2E9AB58997C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13" name="Group 3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114" name="Text Box 4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5" name="Text Box 5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18" name="Line 8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5184720" y="4419720"/>
            <a:ext cx="3727440" cy="1865160"/>
            <a:chOff x="5184720" y="4419720"/>
            <a:chExt cx="3727440" cy="1865160"/>
          </a:xfrm>
        </p:grpSpPr>
        <p:sp>
          <p:nvSpPr>
            <p:cNvPr id="121" name="Text Box 11"/>
            <p:cNvSpPr/>
            <p:nvPr/>
          </p:nvSpPr>
          <p:spPr>
            <a:xfrm>
              <a:off x="64785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Object 12"/>
                <p:cNvSpPr txBox="1"/>
                <p:nvPr/>
              </p:nvSpPr>
              <p:spPr>
                <a:xfrm>
                  <a:off x="5184720" y="4970520"/>
                  <a:ext cx="37274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" name="Group 13"/>
          <p:cNvGrpSpPr/>
          <p:nvPr/>
        </p:nvGrpSpPr>
        <p:grpSpPr>
          <a:xfrm>
            <a:off x="152280" y="4479840"/>
            <a:ext cx="3581640" cy="1844640"/>
            <a:chOff x="152280" y="4479840"/>
            <a:chExt cx="3581640" cy="1844640"/>
          </a:xfrm>
        </p:grpSpPr>
        <p:sp>
          <p:nvSpPr>
            <p:cNvPr id="124" name="Text Box 14"/>
            <p:cNvSpPr/>
            <p:nvPr/>
          </p:nvSpPr>
          <p:spPr>
            <a:xfrm>
              <a:off x="229320" y="4479840"/>
              <a:ext cx="2230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TIME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15"/>
                <p:cNvSpPr txBox="1"/>
                <p:nvPr/>
              </p:nvSpPr>
              <p:spPr>
                <a:xfrm>
                  <a:off x="152280" y="5010120"/>
                  <a:ext cx="35816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Group 16"/>
          <p:cNvGrpSpPr/>
          <p:nvPr/>
        </p:nvGrpSpPr>
        <p:grpSpPr>
          <a:xfrm>
            <a:off x="2514600" y="3429000"/>
            <a:ext cx="3962520" cy="1371600"/>
            <a:chOff x="2514600" y="3429000"/>
            <a:chExt cx="3962520" cy="1371600"/>
          </a:xfrm>
        </p:grpSpPr>
        <p:sp>
          <p:nvSpPr>
            <p:cNvPr id="127" name="Line 17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Object 18"/>
                <p:cNvSpPr txBox="1"/>
                <p:nvPr/>
              </p:nvSpPr>
              <p:spPr>
                <a:xfrm>
                  <a:off x="3581280" y="3429000"/>
                  <a:ext cx="167652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266F-8157-4E49-B99E-2AA6C81A95A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D063-E81C-4E14-B2D0-C0699364BE1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Quick Review: Delay by n</a:t>
            </a:r>
            <a:r>
              <a:rPr b="0" lang="en-US" sz="4000" spc="-1" strike="noStrike" baseline="-25000">
                <a:solidFill>
                  <a:srgbClr val="0000cc"/>
                </a:solidFill>
                <a:latin typeface="Arial Black"/>
              </a:rPr>
              <a:t>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6600" y="2895480"/>
            <a:ext cx="32925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ULS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50440" y="3962520"/>
            <a:ext cx="30898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STEM FUNCTI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3733920" y="3886200"/>
                <a:ext cx="2519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1905120" y="1600200"/>
                <a:ext cx="358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Text Box 11"/>
          <p:cNvSpPr/>
          <p:nvPr/>
        </p:nvSpPr>
        <p:spPr>
          <a:xfrm>
            <a:off x="792720" y="5118120"/>
            <a:ext cx="38656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3"/>
              <p:cNvSpPr txBox="1"/>
              <p:nvPr/>
            </p:nvSpPr>
            <p:spPr>
              <a:xfrm>
                <a:off x="3733920" y="2819520"/>
                <a:ext cx="358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4"/>
              <p:cNvSpPr txBox="1"/>
              <p:nvPr/>
            </p:nvSpPr>
            <p:spPr>
              <a:xfrm>
                <a:off x="4724280" y="5105520"/>
                <a:ext cx="3400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D179-0EE9-4E48-9655-DC71A509530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2F48-E916-49F8-8DD7-0E480F774A6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43" name="Object 2"/>
          <p:cNvGraphicFramePr/>
          <p:nvPr/>
        </p:nvGraphicFramePr>
        <p:xfrm>
          <a:off x="2017800" y="1600200"/>
          <a:ext cx="37828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7800" y="1600200"/>
                    <a:ext cx="37828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Quick Review: L-pt Averag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399240" y="3048120"/>
            <a:ext cx="7144560" cy="1458720"/>
            <a:chOff x="399240" y="3048120"/>
            <a:chExt cx="7144560" cy="1458720"/>
          </a:xfrm>
        </p:grpSpPr>
        <p:sp>
          <p:nvSpPr>
            <p:cNvPr id="147" name="Text Box 6"/>
            <p:cNvSpPr/>
            <p:nvPr/>
          </p:nvSpPr>
          <p:spPr>
            <a:xfrm>
              <a:off x="399240" y="3048120"/>
              <a:ext cx="3292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IMPULSE RESPONS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48" name="Object 13"/>
            <p:cNvGraphicFramePr/>
            <p:nvPr/>
          </p:nvGraphicFramePr>
          <p:xfrm>
            <a:off x="3759120" y="3200400"/>
            <a:ext cx="3784680" cy="1306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59120" y="3200400"/>
                      <a:ext cx="3784680" cy="13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0" name="Group 22"/>
          <p:cNvGrpSpPr/>
          <p:nvPr/>
        </p:nvGrpSpPr>
        <p:grpSpPr>
          <a:xfrm>
            <a:off x="256680" y="4743360"/>
            <a:ext cx="6449040" cy="1428840"/>
            <a:chOff x="256680" y="4743360"/>
            <a:chExt cx="6449040" cy="1428840"/>
          </a:xfrm>
        </p:grpSpPr>
        <p:sp>
          <p:nvSpPr>
            <p:cNvPr id="151" name="Text Box 12"/>
            <p:cNvSpPr/>
            <p:nvPr/>
          </p:nvSpPr>
          <p:spPr>
            <a:xfrm>
              <a:off x="256680" y="4832280"/>
              <a:ext cx="308988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SYSTEM FUNCTIO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19"/>
                <p:cNvSpPr txBox="1"/>
                <p:nvPr/>
              </p:nvSpPr>
              <p:spPr>
                <a:xfrm>
                  <a:off x="3429000" y="4743360"/>
                  <a:ext cx="3276720" cy="14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L</m:t>
                              </m:r>
                            </m:den>
                          </m:f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B0CA-0043-4530-8B1A-1F92165DF8F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C7DB-0949-4639-90A9-49687B9E52F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OGICAL THREAD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IMPULSE RESPONSE,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INITELY LO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I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ilt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XPLOIT THREE DOMAIN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ow Relationship for IIR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2057400" y="5029200"/>
                <a:ext cx="66294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«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«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9" name="Group 11"/>
          <p:cNvGrpSpPr/>
          <p:nvPr/>
        </p:nvGrpSpPr>
        <p:grpSpPr>
          <a:xfrm>
            <a:off x="2743200" y="5410080"/>
            <a:ext cx="5486400" cy="1067040"/>
            <a:chOff x="2743200" y="5410080"/>
            <a:chExt cx="5486400" cy="1067040"/>
          </a:xfrm>
        </p:grpSpPr>
        <p:sp>
          <p:nvSpPr>
            <p:cNvPr id="160" name="AutoShape 7"/>
            <p:cNvSpPr/>
            <p:nvPr/>
          </p:nvSpPr>
          <p:spPr>
            <a:xfrm>
              <a:off x="2743200" y="5791320"/>
              <a:ext cx="228600" cy="533160"/>
            </a:xfrm>
            <a:prstGeom prst="upArrow">
              <a:avLst>
                <a:gd name="adj1" fmla="val 50000"/>
                <a:gd name="adj2" fmla="val 58307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>
              <a:off x="8001000" y="5410080"/>
              <a:ext cx="228600" cy="990720"/>
            </a:xfrm>
            <a:prstGeom prst="upArrow">
              <a:avLst>
                <a:gd name="adj1" fmla="val 50000"/>
                <a:gd name="adj2" fmla="val 108346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>
              <a:off x="5105520" y="5867280"/>
              <a:ext cx="228600" cy="609840"/>
            </a:xfrm>
            <a:prstGeom prst="upArrow">
              <a:avLst>
                <a:gd name="adj1" fmla="val 50000"/>
                <a:gd name="adj2" fmla="val 66693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163" name="Object 10"/>
          <p:cNvGraphicFramePr/>
          <p:nvPr/>
        </p:nvGraphicFramePr>
        <p:xfrm>
          <a:off x="4648320" y="2514600"/>
          <a:ext cx="350496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14600"/>
                    <a:ext cx="3504960" cy="1276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6874-C47F-49B6-8EB3-15166949C8E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F7F1-3A59-4FA6-814C-A379048C489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ONE FEEDBACK TER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4876560"/>
            <a:ext cx="8178840" cy="12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USAL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USING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UTUR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OUTPUTS or INPU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1206360" y="2666880"/>
                <a:ext cx="68580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" name="Group 13"/>
          <p:cNvGrpSpPr/>
          <p:nvPr/>
        </p:nvGrpSpPr>
        <p:grpSpPr>
          <a:xfrm>
            <a:off x="5056920" y="3327480"/>
            <a:ext cx="3485160" cy="811440"/>
            <a:chOff x="5056920" y="3327480"/>
            <a:chExt cx="3485160" cy="811440"/>
          </a:xfrm>
        </p:grpSpPr>
        <p:sp>
          <p:nvSpPr>
            <p:cNvPr id="172" name="Text Box 8"/>
            <p:cNvSpPr/>
            <p:nvPr/>
          </p:nvSpPr>
          <p:spPr>
            <a:xfrm>
              <a:off x="5056920" y="3327480"/>
              <a:ext cx="30780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IR PART of the FILTER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Text Box 9"/>
            <p:cNvSpPr/>
            <p:nvPr/>
          </p:nvSpPr>
          <p:spPr>
            <a:xfrm>
              <a:off x="6265800" y="3740040"/>
              <a:ext cx="22762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EED-FORWARD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1962360" y="3124080"/>
            <a:ext cx="2000880" cy="1319760"/>
            <a:chOff x="1962360" y="3124080"/>
            <a:chExt cx="2000880" cy="1319760"/>
          </a:xfrm>
        </p:grpSpPr>
        <p:sp>
          <p:nvSpPr>
            <p:cNvPr id="175" name="Line 6"/>
            <p:cNvSpPr/>
            <p:nvPr/>
          </p:nvSpPr>
          <p:spPr>
            <a:xfrm flipV="1">
              <a:off x="3429000" y="3124080"/>
              <a:ext cx="457200" cy="6098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2468880" y="3632040"/>
              <a:ext cx="149436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PREVIOUS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1962360" y="4044960"/>
              <a:ext cx="15966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FEEDBACK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78" name="Rectangle 11"/>
          <p:cNvSpPr/>
          <p:nvPr/>
        </p:nvSpPr>
        <p:spPr>
          <a:xfrm>
            <a:off x="457200" y="1828800"/>
            <a:ext cx="8178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EVIOU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UTPUT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9-10-15T00:17:22Z</cp:lastPrinted>
  <dcterms:modified xsi:type="dcterms:W3CDTF">2013-05-09T11:59:57Z</dcterms:modified>
  <cp:revision>328</cp:revision>
  <dc:subject/>
  <dc:title>SPFirst Lecture #1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