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717-64BE-4473-90C3-51B209F8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D3D-CEB2-4D47-BD17-91960B17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CAE-A64F-4A0E-A2D0-3D19FC89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693-4F87-4CE4-B8B0-BFBA890C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BE9D-51F3-4EC0-B690-718F73CF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DF2F-67F8-4469-815B-D18463E1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CD4B-9E61-4D2B-B93F-B835E23D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35A7-2E27-48BE-9709-CE3C3526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B270-CD24-4539-950C-38EBBA48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7EA5-9230-4A26-BD82-AE2E4F62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BFC4-4439-4EEE-AFAF-6047DF53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713-AF69-409D-AF6D-1373F0E1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DF4A-3648-48E8-BC2E-E8EE3A9E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3E49-5D20-48E0-8E3C-0EA58D2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B16D-5309-4478-80C8-8A105A7F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174F-245D-405C-9FC7-3BE5BB48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562B-FDE9-4941-847E-6FECC367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C94-0E51-4FC3-9AB5-19656886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196-650F-4455-9F1B-D20848E8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8D0-F4FE-4EE3-9949-470FAE02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6A8-91DD-4736-A169-E66A3275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DC0-4C0A-4636-842F-A475E56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9CD-73AB-44F8-8A6C-AA985C8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FA9-D39D-401A-81A1-D98AAF39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3136-F233-449F-AA15-2D7EBC968518}" type="datetime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DC03-9900-4FE6-B597-AF06015C395D}" type="slidenum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ED89-D077-4799-9448-35520F4D45F4}" type="datetime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3397-B878-40B5-9F1A-E813A9048B9E}" type="slidenum">
              <a:rPr b="0" lang="en-US" sz="12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504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inearity &amp; Time-Invari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volu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5124-E558-44D1-BDDF-39F5EC05BA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048B59F-F96E-4215-A2CF-62B87630B9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PECIAL INPUT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=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has only one NON-ZERO VALU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52480" y="4800600"/>
            <a:ext cx="6464160" cy="1374120"/>
            <a:chOff x="1752480" y="4800600"/>
            <a:chExt cx="6464160" cy="1374120"/>
          </a:xfrm>
        </p:grpSpPr>
        <p:sp>
          <p:nvSpPr>
            <p:cNvPr id="147" name=""/>
            <p:cNvSpPr/>
            <p:nvPr/>
          </p:nvSpPr>
          <p:spPr>
            <a:xfrm>
              <a:off x="1752480" y="5867280"/>
              <a:ext cx="60962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4876920"/>
              <a:ext cx="0" cy="1295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419720" y="51055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800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181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56272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943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324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70572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038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657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27672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89548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514600" y="5866920"/>
              <a:ext cx="0" cy="97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6616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50160" y="5715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57080" y="4572000"/>
            <a:ext cx="19897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IT-IMPUL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8280" y="1905120"/>
            <a:ext cx="32623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EQUENCY RESPONS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00600" y="3048120"/>
                <a:ext cx="327672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962-D775-4128-9607-D30703484C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3F2A1-8D7B-43D7-9DD4-4728BB63B2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IMPULSE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 = Filter Defini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lter Coeffs = Impulse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320" y="3005280"/>
            <a:ext cx="9067680" cy="179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09680" y="4876920"/>
                <a:ext cx="3810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09680" y="4876920"/>
                <a:ext cx="381024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1F7-DD10-4858-9BC0-9097EA6312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99B09-C574-45FF-A883-ED7838B133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95280" y="2541600"/>
                <a:ext cx="8124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H FORMULA for h[n]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HIF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MPULSES to write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486400" y="2971800"/>
            <a:ext cx="182880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66680" y="3200400"/>
            <a:ext cx="6464160" cy="2745720"/>
            <a:chOff x="1066680" y="3200400"/>
            <a:chExt cx="6464160" cy="2745720"/>
          </a:xfrm>
        </p:grpSpPr>
        <p:sp>
          <p:nvSpPr>
            <p:cNvPr id="176" name=""/>
            <p:cNvSpPr/>
            <p:nvPr/>
          </p:nvSpPr>
          <p:spPr>
            <a:xfrm>
              <a:off x="1066680" y="4952880"/>
              <a:ext cx="60962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962520"/>
              <a:ext cx="0" cy="1066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73392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8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9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52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1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092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0968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4952880"/>
              <a:ext cx="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80360" y="388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4360" y="48006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14800" y="4952880"/>
              <a:ext cx="0" cy="762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495680" y="3428640"/>
              <a:ext cx="0" cy="1523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57800" y="4191120"/>
              <a:ext cx="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6920" y="4952880"/>
              <a:ext cx="0" cy="762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55400" y="5486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–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1836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55720" y="4924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4876920"/>
              <a:ext cx="3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3333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743200" y="3505320"/>
                  <a:ext cx="7588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n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04920" y="5638680"/>
                <a:ext cx="32256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E8B-1B34-478A-B81A-3D5EB65204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57114-1379-4F61-8E0B-FFB119DF27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3949560"/>
                <a:ext cx="51814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: Convolution Su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Output = Convolution of x[n] &amp; h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re is the FIR cas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680" y="3246480"/>
            <a:ext cx="3892680" cy="2974320"/>
            <a:chOff x="4495680" y="3246480"/>
            <a:chExt cx="3892680" cy="2974320"/>
          </a:xfrm>
        </p:grpSpPr>
        <p:sp>
          <p:nvSpPr>
            <p:cNvPr id="202" name=""/>
            <p:cNvSpPr/>
            <p:nvPr/>
          </p:nvSpPr>
          <p:spPr>
            <a:xfrm>
              <a:off x="6157800" y="324648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495680" y="3505320"/>
              <a:ext cx="1524240" cy="6858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52880" y="5761080"/>
              <a:ext cx="2230560" cy="45972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INITE LIMITS</a:t>
              </a:r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647960" y="5486400"/>
              <a:ext cx="1066680" cy="5335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65080" y="5046840"/>
            <a:ext cx="4162680" cy="1292400"/>
            <a:chOff x="865080" y="5046840"/>
            <a:chExt cx="4162680" cy="1292400"/>
          </a:xfrm>
        </p:grpSpPr>
        <p:sp>
          <p:nvSpPr>
            <p:cNvPr id="207" name=""/>
            <p:cNvSpPr/>
            <p:nvPr/>
          </p:nvSpPr>
          <p:spPr>
            <a:xfrm>
              <a:off x="865080" y="5759640"/>
              <a:ext cx="2113200" cy="5796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Same as 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 b</a:t>
              </a:r>
              <a:r>
                <a:rPr b="1" lang="en-US" sz="2800" spc="-1" strike="noStrike" baseline="-25000">
                  <a:solidFill>
                    <a:srgbClr val="333399"/>
                  </a:solidFill>
                  <a:latin typeface="Arial"/>
                </a:rPr>
                <a:t>k</a:t>
              </a:r>
              <a:endParaRPr b="0" lang="en-US" sz="28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08160" y="5046840"/>
              <a:ext cx="2019600" cy="1179360"/>
            </a:xfrm>
            <a:custGeom>
              <a:avLst/>
              <a:gdLst/>
              <a:ahLst/>
              <a:rect l="l" t="t" r="r" b="b"/>
              <a:pathLst>
                <a:path w="1272" h="743">
                  <a:moveTo>
                    <a:pt x="0" y="672"/>
                  </a:moveTo>
                  <a:cubicBezTo>
                    <a:pt x="144" y="707"/>
                    <a:pt x="288" y="743"/>
                    <a:pt x="480" y="720"/>
                  </a:cubicBezTo>
                  <a:cubicBezTo>
                    <a:pt x="671" y="696"/>
                    <a:pt x="1032" y="648"/>
                    <a:pt x="1152" y="528"/>
                  </a:cubicBezTo>
                  <a:cubicBezTo>
                    <a:pt x="1272" y="408"/>
                    <a:pt x="1236" y="204"/>
                    <a:pt x="1200" y="0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05320" y="2332080"/>
                <a:ext cx="30351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0E6-32CE-4451-971C-B198BC4931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8EB6B-0635-4116-A30A-FA4549FEB1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00200" y="2735280"/>
          <a:ext cx="571500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35280"/>
                    <a:ext cx="5715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1654200"/>
                <a:ext cx="81248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33520" y="4114800"/>
                <a:ext cx="16239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66B-E0E3-45FE-A741-2678BE412EB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F4EBE-C2E7-48F0-AC9C-71FB78B8D7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18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LIDE a Length-L WINDOW over x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2279520"/>
            <a:ext cx="9296280" cy="3664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130640" y="5900760"/>
            <a:ext cx="706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77800" y="5900760"/>
            <a:ext cx="108000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-M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286000"/>
            <a:ext cx="304812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A5B-9DA7-42EB-946B-8E3957A334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43508-89AC-4EE9-AEAC-C2F8F97AE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CONVDEMO: MATLAB GUI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88840" y="1193760"/>
            <a:ext cx="7366320" cy="551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942-4560-49E1-88BE-4925BCCD8E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5E72D-4442-47D2-8A2F-1AD15A80D2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124080" y="5562720"/>
                <a:ext cx="41641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733040"/>
            <a:ext cx="81788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Filter is “FIRST DIFFERENCE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] =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] -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[n-1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PUT is “UNIT STEP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724280"/>
            <a:ext cx="817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5029200" cy="188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1280" y="3581280"/>
                <a:ext cx="27414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n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124080" y="5562720"/>
                <a:ext cx="54975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32A-2006-4857-9859-9A7B74DB54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1566F-DCB8-4D1B-A682-A0B5D4E68D3B}" type="datetime1">
              <a:rPr lang="en-US"/>
              <a:t>07/29/26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ARDWARE STRUCTUR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NTERNAL STRUCTUR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“FILTER”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COMPONENTS ARE NEEDED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DO WE “HOOK” THEM TOGETHER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GNAL FLOW GRAPH NO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1981080"/>
            <a:ext cx="190512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24382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3840" y="1981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7000" y="1981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800600" y="1828800"/>
                <a:ext cx="41148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9E0-F46C-4984-AE7C-632E2D4501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61773-304A-49E3-A289-608A0A1546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ARDWARE ATO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dd, Multiply &amp; Sto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320" y="2989440"/>
            <a:ext cx="6858000" cy="375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257800" y="1752480"/>
                <a:ext cx="350532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" y="4724280"/>
                <a:ext cx="209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β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26040" y="6172200"/>
                <a:ext cx="2286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019920" y="4425840"/>
                <a:ext cx="3003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D1F-C15D-48FE-B332-AE2901DF23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1B042-ED85-436D-B072-A8D120E8FD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A11-0B39-4717-80E9-4CEB2679DA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B184E-C242-47B6-A8D5-F3A7C5198117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IR STRUCTUR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or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320" y="3497400"/>
            <a:ext cx="9067680" cy="32083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42640" y="2743200"/>
            <a:ext cx="1920960" cy="70380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GN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LOW GRAP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4800600"/>
            <a:ext cx="609480" cy="83808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4724280"/>
            <a:ext cx="609840" cy="8384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4724280"/>
            <a:ext cx="609840" cy="8384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4724280"/>
            <a:ext cx="609840" cy="83844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752480"/>
                <a:ext cx="457200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B52-04F4-4CDA-A86F-EBCA5E3C62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B350C-E1A4-4F2A-9A00-F9881282E6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oore’s Law for TI DSP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6320" y="1166760"/>
            <a:ext cx="8839080" cy="5727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705720" y="4070520"/>
            <a:ext cx="228600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uble eve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8 months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07880" y="1752480"/>
            <a:ext cx="19576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G SCA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B43-A753-4076-876A-7865628775D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9C623-68D6-46E9-91F3-12B61012FE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YSTEM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ATHEMATICAL DESCRIP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TIME-INVARIAN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LINEAR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USAL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 output prior to input”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1905120"/>
            <a:ext cx="190476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3860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5176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CFE-05AD-49DF-B41E-315B2F3E543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529EB-DEE2-49CD-8412-36F0DD6665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IME-INVARI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DEA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me-Shifting the input will cause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time-shift in the output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QUIVALENTLY,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can prove th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time origin (n=0) is picked arbitrar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7EA-71AB-4DEE-9A30-771D6C2B99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5C83C-9C08-4A2A-B26C-5AED9E42E1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Time-Invari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435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779480" y="4038480"/>
            <a:ext cx="5383440" cy="2222640"/>
          </a:xfrm>
          <a:custGeom>
            <a:avLst/>
            <a:gdLst/>
            <a:ahLst/>
            <a:rect l="l" t="t" r="r" b="b"/>
            <a:pathLst>
              <a:path w="3391" h="1400">
                <a:moveTo>
                  <a:pt x="3176" y="768"/>
                </a:moveTo>
                <a:cubicBezTo>
                  <a:pt x="3283" y="932"/>
                  <a:pt x="3391" y="1096"/>
                  <a:pt x="3128" y="1200"/>
                </a:cubicBezTo>
                <a:cubicBezTo>
                  <a:pt x="2864" y="1303"/>
                  <a:pt x="2072" y="1400"/>
                  <a:pt x="1592" y="1392"/>
                </a:cubicBezTo>
                <a:cubicBezTo>
                  <a:pt x="1112" y="1384"/>
                  <a:pt x="495" y="1383"/>
                  <a:pt x="248" y="1152"/>
                </a:cubicBezTo>
                <a:cubicBezTo>
                  <a:pt x="0" y="920"/>
                  <a:pt x="52" y="460"/>
                  <a:pt x="10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265-7E92-4A45-950A-82ECB05B51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B9CD2-17D2-4729-846F-EC4AB032CC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NEAR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NEARITY = Two Properti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CAL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ubling x[n] will double y[n]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PERPOSI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ing two inputs gives an output that is the sum of the individual outputs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F35-90D2-48C0-A2D9-E8EF63A114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972AA-2737-4E01-B542-51F73E6568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ESTING LINEARI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2280" y="3581280"/>
            <a:ext cx="2286000" cy="25146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1676520"/>
            <a:ext cx="1904760" cy="25146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AAC-99E4-4296-ADBF-51F405C1B28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027B3-AD1D-4E15-AA2E-81368F4918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TI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TI: 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ear &amp;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varia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ETELY CHARACTERIZED b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MPULSE RESPONS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 y[n] = x[n]*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[n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“rule”defining the system can ALWAYS be re-written as convol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R Example: h[n] is same as 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B16-C841-408A-84BE-EE1E1344CD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C301A-8AF5-4754-9CE0-0C180DF430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733040"/>
            <a:ext cx="81788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R Filter is “FIRST DIFFERENCE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] =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] -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-1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rite output as a convol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ed impulse respon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482760" indent="-185760">
              <a:lnSpc>
                <a:spcPct val="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, another way to compute the output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724280"/>
            <a:ext cx="817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93880" y="3581280"/>
                <a:ext cx="34527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133720" y="4724280"/>
                <a:ext cx="4678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4F8-BD83-49E5-BD66-32D58BE78C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B5B75-E172-42A2-999C-AE91B1237C37}" type="datetime1">
              <a:rPr lang="en-US"/>
              <a:t>07/29/26</a:t>
            </a:fld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SYSTE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es the order of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&amp; 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atter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,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LTI SYSTEMS can be rearranged !!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ARE THE FILTER COEFFS?   {b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3898800"/>
            <a:ext cx="9144000" cy="21970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813760" y="4876920"/>
            <a:ext cx="5832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99960" y="4876920"/>
            <a:ext cx="583200" cy="648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3F6-ABFA-401F-B3EC-4AE2B4229C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AE802-F71B-44BC-83BB-EAE61B2DFFAA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5, Sections 5-5 and 5-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tion 5-4 will be covered, but not “in depth”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. 5, Sects 5-6, 5-7 &amp; 5-8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NVOL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: start Chapter 6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685-6C04-4D59-B457-EAF5BCEEA8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8447C-D35D-42BC-93AB-20C8A1DDAD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ASCADE EQUIVALEN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nd “overall” h[n] for a cascade 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2235240"/>
            <a:ext cx="8305920" cy="4622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829520" y="304812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01520" y="304812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20640" y="586728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4600" y="5867280"/>
            <a:ext cx="482400" cy="5101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3048120"/>
            <a:ext cx="2133720" cy="23619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981080" y="2819520"/>
            <a:ext cx="3353040" cy="26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81680" y="4572000"/>
            <a:ext cx="2057400" cy="380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426-7959-4A51-9399-C2971E1085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7295E-50BD-43CF-9D31-5A0FBFD96447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05D-9220-4801-AD42-063959041FA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FBE66-FAB0-40A6-A371-6C6CBC4E18B5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4266720"/>
            <a:ext cx="8178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LOCK DIAGRAM REPRESENT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onents for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Hardwa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onnec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ple Filters Together to Build More Complicated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44680" y="2514600"/>
            <a:ext cx="217728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TI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752480"/>
            <a:ext cx="81788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ENER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PROPERTIES of FILT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EAR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E-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VARIA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ONVOL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A06-16F1-4739-ABCD-BFDCF60736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B0B59-57C1-4A12-BD55-F0AA4348E6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ULSE RESPONSE, 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R case:  same a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 CLASS of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NEAR     and     TIME-INVARIA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LL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LTI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systems hav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] &amp; use convol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76720" y="3548160"/>
                <a:ext cx="3047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7800" y="1752480"/>
                <a:ext cx="851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2438280"/>
                <a:ext cx="8161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9C3-F574-41F1-99F4-DC77D5FCBC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25902-EFED-4226-AE80-28AF034264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NTRATE on the FILTER  (DSP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SCRETE-TIME SIGNAL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NCTIONS of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the “time index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PUT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PUT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GITAL FILTER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1905120"/>
            <a:ext cx="1904760" cy="914400"/>
          </a:xfrm>
          <a:prstGeom prst="rect">
            <a:avLst/>
          </a:prstGeom>
          <a:solidFill>
            <a:srgbClr val="ffcc00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1905120"/>
            <a:ext cx="12193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905120"/>
            <a:ext cx="12193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36232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3623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36232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5880" y="1905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58360" y="19051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3860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5176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2514600"/>
            <a:ext cx="838080" cy="1600200"/>
          </a:xfrm>
          <a:custGeom>
            <a:avLst/>
            <a:gdLst/>
            <a:ahLst/>
            <a:rect l="l" t="t" r="r" b="b"/>
            <a:pathLst>
              <a:path w="592" h="1104">
                <a:moveTo>
                  <a:pt x="0" y="1104"/>
                </a:moveTo>
                <a:cubicBezTo>
                  <a:pt x="196" y="1064"/>
                  <a:pt x="392" y="1024"/>
                  <a:pt x="480" y="912"/>
                </a:cubicBezTo>
                <a:cubicBezTo>
                  <a:pt x="568" y="800"/>
                  <a:pt x="592" y="584"/>
                  <a:pt x="528" y="432"/>
                </a:cubicBezTo>
                <a:cubicBezTo>
                  <a:pt x="464" y="280"/>
                  <a:pt x="168" y="72"/>
                  <a:pt x="96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D9B-EBEB-4820-ADAB-D26FDDDC5A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22913-9A99-4BBC-9670-FC5B8A8B5B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UILDING BLOCK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UILD UP COMPLICATED FILT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OM SIMPL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: FILTER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ODUL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MIGHT BE 3-pt FI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057400"/>
            <a:ext cx="13716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4382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4382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1512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7000" y="1905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057400"/>
            <a:ext cx="13716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276720"/>
            <a:ext cx="13716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438280"/>
            <a:ext cx="12952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3657600"/>
            <a:ext cx="236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438280"/>
            <a:ext cx="0" cy="12193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257440" y="3657600"/>
            <a:ext cx="1676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934320" y="2514240"/>
            <a:ext cx="0" cy="1143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23623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24382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3600" y="2514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080" y="2057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79800" y="2597040"/>
            <a:ext cx="78876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32320" y="1905120"/>
            <a:ext cx="101268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94B-9DAC-4159-809B-894C0DC726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CB161-7560-4EEF-86FF-D53113B660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GENERAL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LTER COEFFICIENTS {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INE THE FILT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r example,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029200" y="2286000"/>
                <a:ext cx="37339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4495680"/>
                <a:ext cx="7543800" cy="18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[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505320" y="3733920"/>
                <a:ext cx="25146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934320" y="17524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4191120"/>
            <a:ext cx="380880" cy="1600200"/>
          </a:xfrm>
          <a:custGeom>
            <a:avLst/>
            <a:gdLst/>
            <a:ahLst/>
            <a:rect l="l" t="t" r="r" b="b"/>
            <a:pathLst>
              <a:path w="535" h="1008">
                <a:moveTo>
                  <a:pt x="336" y="0"/>
                </a:moveTo>
                <a:cubicBezTo>
                  <a:pt x="435" y="60"/>
                  <a:pt x="535" y="120"/>
                  <a:pt x="480" y="288"/>
                </a:cubicBezTo>
                <a:cubicBezTo>
                  <a:pt x="424" y="455"/>
                  <a:pt x="212" y="731"/>
                  <a:pt x="0" y="1008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74C-F204-4267-BE4F-C3A8527508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5FF5A-0AF4-4997-8735-EE1C67BED1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LAB for FIR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urier New"/>
              </a:rPr>
              <a:t>yy = conv(bb,xx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ECTOR </a:t>
            </a:r>
            <a:r>
              <a:rPr b="1" lang="en-US" sz="3600" spc="-1" strike="noStrike">
                <a:solidFill>
                  <a:srgbClr val="ff6600"/>
                </a:solidFill>
                <a:latin typeface="Courier New"/>
              </a:rPr>
              <a:t>bb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ontains Filter Coeffici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SP-First:   </a:t>
            </a:r>
            <a:r>
              <a:rPr b="1" lang="en-US" sz="3600" spc="-1" strike="noStrike">
                <a:solidFill>
                  <a:srgbClr val="ff6600"/>
                </a:solidFill>
                <a:latin typeface="Courier New"/>
              </a:rPr>
              <a:t>yy = firfilt(bb,xx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LTER COEFFICIENTS 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{b</a:t>
            </a:r>
            <a:r>
              <a:rPr b="0" lang="en-US" sz="3600" spc="-1" strike="noStrike" baseline="-25000">
                <a:solidFill>
                  <a:srgbClr val="ff66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92200" y="4003560"/>
            <a:ext cx="1887480" cy="94716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urier New"/>
              </a:rPr>
              <a:t>conv2(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or imag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828800" y="4605480"/>
                <a:ext cx="426708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18A-26EC-4F68-8216-BE15D33487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1F9C7-6089-4226-BC06-17CCAE30BC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 </cp:lastModifiedBy>
  <cp:lastPrinted>1999-05-04T22:17:43Z</cp:lastPrinted>
  <dcterms:modified xsi:type="dcterms:W3CDTF">2005-02-18T22:31:56Z</dcterms:modified>
  <cp:revision>218</cp:revision>
  <dc:subject/>
  <dc:title>SPFirst Lecture #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