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6AE-59A8-4E65-AFF0-C1F8824C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D3C-AC3D-4A50-8C2D-5F294E62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A0D-F1B9-4BC7-8242-5572E8E7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962-CAC0-4FF9-8231-04D33860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CE59-56DF-4FD6-A631-6B8DC6AF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14E8-43D2-4701-800F-556B7F54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7566-9B9E-4C4F-BE51-3B00AD0C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3351-818C-4503-A0E6-363381BF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CFB8-71B9-451A-B677-502024B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8A25-0017-4A37-B2F3-F241866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BC39-F37A-48A1-B1B9-6C85079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C49-A7F5-4EDF-9519-A24117AB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8B14-E199-4608-97F3-DF64B3F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BC84-DD49-4EBB-9FE9-8C87FF3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448A-54C1-4989-A6BD-8A55077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70EA-9EC1-42F7-A7A9-730401DC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F254-67D0-40FA-A5B8-4EB4084E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601-D828-454A-BF65-CA46D0B7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53D-D51F-4A3E-B662-9E38C431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E31-E9A9-4259-B7B8-62F1AE2B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C74-BE7F-4A1D-95CF-F5ECD3F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261-62C3-4E70-BC5B-59EC6AAD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FE4-3961-48A1-9938-5165F2A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877-FF85-4714-BDBC-CE3BF0B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FB1F-9774-4BC3-8FB4-56A54DA20F49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2BDD-E43E-4025-86A0-B70A912DFA1D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538-C58A-418F-8A23-43D44919628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06C0-887C-4726-B94F-D4D6D37ACA8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276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2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equency Respon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FIR Filte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9996-CFDF-4F35-B0E3-5F47546A78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67A862-69CB-4E67-9001-71D0D9AACA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3-pt AVG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1514520"/>
            <a:ext cx="8991360" cy="5343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8120" y="4114800"/>
            <a:ext cx="24879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USE PAST VALU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71240" y="4495680"/>
            <a:ext cx="152280" cy="609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62120" y="1363680"/>
                <a:ext cx="7968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: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9B6-CA92-44D5-A7BA-898F0AF94D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D13E6-BECF-487A-81A6-6FD87B73C7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7-pt FIR EXAMPLE (AVG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1424160"/>
            <a:ext cx="8915400" cy="5433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560" y="3962520"/>
            <a:ext cx="27867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CAUSAL: Use Previo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895480"/>
            <a:ext cx="106668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362320"/>
            <a:ext cx="10670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24760" y="2438280"/>
            <a:ext cx="0" cy="3276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21200" y="6462720"/>
            <a:ext cx="218160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LONGER OUTPU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343400"/>
            <a:ext cx="68580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1295280"/>
                <a:ext cx="7968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: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73C-BA0C-4DBD-97AF-259F3EE7FB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3489-F687-4B21-B262-9CD1B2B724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:  x[n] =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UTPUT:  y[n] will also be a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fferent Amplitude and Ph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SAM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PLITUDE &amp; PHASE CHANG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C65-2889-4000-B121-96502A3666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D625B-441E-4C8E-8DAB-69D6696E4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CONVDEMO: MATLAB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3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B4B-E0B8-4971-B75E-24FBEE3D3B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EFB29-5B93-4824-A02C-0DA8BAE8FB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ONENTI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2120" y="3301920"/>
            <a:ext cx="7619760" cy="1897560"/>
            <a:chOff x="762120" y="3301920"/>
            <a:chExt cx="7619760" cy="18975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62120" y="3301920"/>
                  <a:ext cx="761976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x</m:t>
                          </m:r>
                          <m:r>
                            <m:t xml:space="preserve">[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1911240" y="4800600"/>
              <a:ext cx="37897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IR DIFFERENCE EQUATION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990720" y="2438280"/>
            <a:ext cx="2514600" cy="1295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676520"/>
            <a:ext cx="6781680" cy="1236960"/>
            <a:chOff x="685800" y="1676520"/>
            <a:chExt cx="6781680" cy="123696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85800" y="1676520"/>
                  <a:ext cx="678168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jϕ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n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r>
                        <m:t xml:space="preserve">n</m:t>
                      </m:r>
                      <m:r>
                        <m:t xml:space="preserve">&lt;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135880" y="2514600"/>
              <a:ext cx="528012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x[n] is the input signal—a complex exponential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219-5120-4F3B-A7EA-08B78951B3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52FF8-D217-4B38-A6E7-423D6E073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MPLEX EXP OUT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the FIR “Difference Equation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7400" y="5359320"/>
                <a:ext cx="43689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66680" y="2284560"/>
                <a:ext cx="70614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5120" y="3664080"/>
                <a:ext cx="502920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4B9-749D-430C-BF08-4A06F29F0E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D6893-7F8B-4D7C-8C10-63B4938921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8178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x-valued formula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s MAGNITUD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d PHASE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4120" y="2743200"/>
            <a:ext cx="2419200" cy="703800"/>
            <a:chOff x="5334120" y="2743200"/>
            <a:chExt cx="2419200" cy="703800"/>
          </a:xfrm>
        </p:grpSpPr>
        <p:sp>
          <p:nvSpPr>
            <p:cNvPr id="177" name=""/>
            <p:cNvSpPr/>
            <p:nvPr/>
          </p:nvSpPr>
          <p:spPr>
            <a:xfrm>
              <a:off x="5958720" y="2743200"/>
              <a:ext cx="1794600" cy="703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FREQUENCY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334120" y="3048120"/>
              <a:ext cx="6091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07960" y="1752480"/>
            <a:ext cx="81788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 each frequency, we c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19520" y="5597640"/>
                <a:ext cx="466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in place of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841400" y="2479680"/>
                <a:ext cx="332604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447920" y="2443320"/>
                <a:ext cx="36576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232-34CC-46EA-A0C0-1057FC049F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BE92C-A1DB-4CA5-AF61-6C141C0BF1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1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56320" y="2514600"/>
            <a:ext cx="3988800" cy="914400"/>
            <a:chOff x="4756320" y="2514600"/>
            <a:chExt cx="3988800" cy="914400"/>
          </a:xfrm>
        </p:grpSpPr>
        <p:sp>
          <p:nvSpPr>
            <p:cNvPr id="185" name=""/>
            <p:cNvSpPr/>
            <p:nvPr/>
          </p:nvSpPr>
          <p:spPr>
            <a:xfrm>
              <a:off x="6755400" y="2514600"/>
              <a:ext cx="19897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EXPLOIT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SYMMETR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56320" y="2666520"/>
              <a:ext cx="1981440" cy="304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137200" y="2971800"/>
              <a:ext cx="1600200" cy="457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03240" y="1752480"/>
                <a:ext cx="2311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81200" y="2516040"/>
                <a:ext cx="441324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47720" y="4373640"/>
                <a:ext cx="53913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Magnitude is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nd  Phase is  </m:t>
                    </m:r>
                    <m:r>
                      <m:t xml:space="preserve">∠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68F-859C-406F-85DF-BA4E3DC077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51B4F-35BB-4909-AD74-AEA4BCE15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LOT of FREQ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271440"/>
            <a:ext cx="8686800" cy="658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438280" y="3117960"/>
                <a:ext cx="385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6095520" y="1599840"/>
            <a:ext cx="2522520" cy="3657960"/>
            <a:chOff x="6095520" y="1599840"/>
            <a:chExt cx="2522520" cy="3657960"/>
          </a:xfrm>
        </p:grpSpPr>
        <p:sp>
          <p:nvSpPr>
            <p:cNvPr id="195" name=""/>
            <p:cNvSpPr/>
            <p:nvPr/>
          </p:nvSpPr>
          <p:spPr>
            <a:xfrm flipH="1" flipV="1">
              <a:off x="6095520" y="1599840"/>
              <a:ext cx="685800" cy="16002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95520" y="3581280"/>
              <a:ext cx="838440" cy="1676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3760" y="3200400"/>
              <a:ext cx="22042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RESPONSE at </a:t>
              </a:r>
              <a:r>
                <a:rPr b="1" lang="en-US" sz="2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/3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047000" y="685800"/>
                <a:ext cx="1868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62520" y="6432480"/>
                <a:ext cx="144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6226200"/>
                <a:ext cx="5922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458200" y="6242040"/>
                <a:ext cx="446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715240" y="2790720"/>
                <a:ext cx="352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D04-C530-4F6D-991B-F31362FDD9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EBFD4-549E-4B6A-9381-601865576D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57400" y="3657600"/>
            <a:ext cx="4572000" cy="1219320"/>
            <a:chOff x="2057400" y="3657600"/>
            <a:chExt cx="4572000" cy="1219320"/>
          </a:xfrm>
        </p:grpSpPr>
        <p:sp>
          <p:nvSpPr>
            <p:cNvPr id="205" name=""/>
            <p:cNvSpPr/>
            <p:nvPr/>
          </p:nvSpPr>
          <p:spPr>
            <a:xfrm>
              <a:off x="3352680" y="365760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2320" y="41148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57800" y="41148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1160" y="36576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6040" y="36576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8195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0481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59092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20040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438280" y="4647960"/>
              <a:ext cx="0" cy="228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29200" y="487692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91320" y="434340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199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62720" y="4724280"/>
              <a:ext cx="0" cy="152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17220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10080" y="4495320"/>
              <a:ext cx="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430440" y="3719520"/>
                  <a:ext cx="182268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44640" y="5343480"/>
                <a:ext cx="53802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93800" y="1676520"/>
                <a:ext cx="7251480" cy="16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E4B-4E81-4A66-B05C-37BACEC134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86926-04A5-486F-95E1-754E62139FB7}" type="datetime1">
              <a:rPr lang="en-US"/>
              <a:t>07/29/26</a:t>
            </a:fld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D4B-3FD7-4156-BC89-CF3F00FB86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5A5EE-EA61-4DA3-B0CE-A5AB6A65A2A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39840" y="1638360"/>
                <a:ext cx="83120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 6.2 (answ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03120" y="2637000"/>
                <a:ext cx="7472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One Step-evaluate 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H="1">
            <a:off x="7162560" y="2133720"/>
            <a:ext cx="609480" cy="685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6720" y="3486240"/>
                <a:ext cx="5380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8520" y="4275000"/>
                <a:ext cx="6154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 </m:t>
                    </m:r>
                    <m:r>
                      <m:t xml:space="preserve">@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52280" y="5176800"/>
                <a:ext cx="5678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j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21200" y="5181480"/>
                <a:ext cx="31705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j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0C8-3C2B-4E65-80CD-03270BFA51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22B6B-4E1D-4F24-B634-D0E8C91E6F5D}" type="datetime1">
              <a:rPr lang="en-US"/>
              <a:t>07/29/26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AMPLE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3680" y="1673280"/>
                <a:ext cx="814680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whe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44640" y="5321160"/>
                <a:ext cx="5380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2057400" y="3657600"/>
            <a:ext cx="4789440" cy="1509840"/>
            <a:chOff x="2057400" y="3657600"/>
            <a:chExt cx="4789440" cy="1509840"/>
          </a:xfrm>
        </p:grpSpPr>
        <p:grpSp>
          <p:nvGrpSpPr>
            <p:cNvPr id="237" name=""/>
            <p:cNvGrpSpPr/>
            <p:nvPr/>
          </p:nvGrpSpPr>
          <p:grpSpPr>
            <a:xfrm>
              <a:off x="2057400" y="3657600"/>
              <a:ext cx="4572000" cy="1219320"/>
              <a:chOff x="2057400" y="3657600"/>
              <a:chExt cx="4572000" cy="1219320"/>
            </a:xfrm>
          </p:grpSpPr>
          <p:sp>
            <p:nvSpPr>
              <p:cNvPr id="238" name=""/>
              <p:cNvSpPr/>
              <p:nvPr/>
            </p:nvSpPr>
            <p:spPr>
              <a:xfrm>
                <a:off x="3352680" y="365760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411480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57800" y="411480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11160" y="365760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16040" y="36576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[n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574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8195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0481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59092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20040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438280" y="4647960"/>
                <a:ext cx="0" cy="228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29200" y="4876920"/>
                <a:ext cx="16002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791320" y="4343400"/>
                <a:ext cx="0" cy="53352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562720" y="4724280"/>
                <a:ext cx="0" cy="1526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17220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410080" y="4495320"/>
                <a:ext cx="0" cy="3812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3430440" y="3711600"/>
                    <a:ext cx="182268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5812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553080" y="4800600"/>
                  <a:ext cx="29376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355-7D0A-4592-BFE6-B44EE907AF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CC18D-3C9F-4B0F-B735-7510425914AC}" type="datetime1">
              <a:rPr lang="en-US"/>
              <a:t>07/29/26</a:t>
            </a:fld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8360" y="2708280"/>
                <a:ext cx="843588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585800" y="4378320"/>
                <a:ext cx="6170760" cy="22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51200" y="4419720"/>
            <a:ext cx="130104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ineari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527-181D-4039-8713-8AE29D37052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BFC23-D414-4701-8E0F-EB7EAF213B54}" type="datetime1">
              <a:rPr lang="en-US"/>
              <a:t>07/29/26</a:t>
            </a:fld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X: COSINE INPUT (ans-2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560" y="1627200"/>
                <a:ext cx="8964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96840" y="3487680"/>
                <a:ext cx="89852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4280" y="5105520"/>
                <a:ext cx="70009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n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766880" y="2577960"/>
                <a:ext cx="553572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F43-4E7F-4625-AE99-075AA2F07B2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1EA86-F710-4976-A71B-8B8097F6FA10}" type="datetime1">
              <a:rPr lang="en-US"/>
              <a:t>07/29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LAB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urier New"/>
              </a:rPr>
              <a:t>HH = freqz(bb,1,ww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40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-First:   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HH = freekz(bb,1,ww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{b</a:t>
            </a:r>
            <a:r>
              <a:rPr b="0" lang="en-US" sz="32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125800" y="4683240"/>
                <a:ext cx="42829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F7F-72A6-42DB-9FC1-6692CDAA79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A8B3D-77DF-4AC9-88D5-A1DC8636BB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 Linear &amp; Time-I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REQUENCY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ULSE RESPONSE 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usoid IN -----&gt; Sinusoid O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At the SAME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37B-0120-4107-B114-CEBB571873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D685C-3413-4297-86AC-CC6B0EA4777B}" type="datetime1">
              <a:rPr lang="en-US"/>
              <a:t>07/29/26</a:t>
            </a:fld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 &amp; Frequency Rel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Frequency Response from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68120" y="3200400"/>
            <a:ext cx="8739360" cy="2822040"/>
            <a:chOff x="168120" y="3200400"/>
            <a:chExt cx="8739360" cy="28220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68120" y="3200400"/>
                  <a:ext cx="8047080" cy="16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  <m:r>
                            <m:t xml:space="preserve"> </m:t>
                          </m:r>
                        </m:e>
                      </m:nary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77" name=""/>
            <p:cNvGrpSpPr/>
            <p:nvPr/>
          </p:nvGrpSpPr>
          <p:grpSpPr>
            <a:xfrm>
              <a:off x="5657400" y="4419360"/>
              <a:ext cx="3250080" cy="1603080"/>
              <a:chOff x="5657400" y="4419360"/>
              <a:chExt cx="3250080" cy="160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5657400" y="5562720"/>
                <a:ext cx="325008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IMPULSE RESPON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6400440" y="4419360"/>
                <a:ext cx="304920" cy="114300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95480" y="4343400"/>
              <a:ext cx="4419720" cy="1066680"/>
            </a:xfrm>
            <a:custGeom>
              <a:avLst/>
              <a:gdLst/>
              <a:ahLst/>
              <a:rect l="l" t="t" r="r" b="b"/>
              <a:pathLst>
                <a:path w="2168" h="712">
                  <a:moveTo>
                    <a:pt x="1896" y="0"/>
                  </a:moveTo>
                  <a:cubicBezTo>
                    <a:pt x="2032" y="160"/>
                    <a:pt x="2168" y="320"/>
                    <a:pt x="2136" y="432"/>
                  </a:cubicBezTo>
                  <a:cubicBezTo>
                    <a:pt x="2104" y="544"/>
                    <a:pt x="2000" y="632"/>
                    <a:pt x="1704" y="672"/>
                  </a:cubicBezTo>
                  <a:cubicBezTo>
                    <a:pt x="1408" y="712"/>
                    <a:pt x="640" y="696"/>
                    <a:pt x="360" y="672"/>
                  </a:cubicBezTo>
                  <a:cubicBezTo>
                    <a:pt x="80" y="648"/>
                    <a:pt x="47" y="639"/>
                    <a:pt x="24" y="528"/>
                  </a:cubicBezTo>
                  <a:cubicBezTo>
                    <a:pt x="0" y="416"/>
                    <a:pt x="108" y="208"/>
                    <a:pt x="21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041-7F6B-4911-8DAE-C668CE82EC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EB9C6-3BC7-481C-BC05-58282E4064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LOCK DIAGRA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 Re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09680" y="2743200"/>
            <a:ext cx="4815000" cy="3382920"/>
            <a:chOff x="2209680" y="2743200"/>
            <a:chExt cx="4815000" cy="3382920"/>
          </a:xfrm>
        </p:grpSpPr>
        <p:sp>
          <p:nvSpPr>
            <p:cNvPr id="284" name=""/>
            <p:cNvSpPr/>
            <p:nvPr/>
          </p:nvSpPr>
          <p:spPr>
            <a:xfrm>
              <a:off x="3505320" y="274320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460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0080" y="32004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3440" y="274320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68320" y="27432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05320" y="4495680"/>
              <a:ext cx="190476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49528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49528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63440" y="44956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8320" y="44956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3583080" y="4557600"/>
                  <a:ext cx="18223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917880" y="2827440"/>
                  <a:ext cx="109368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4343400" y="3733920"/>
              <a:ext cx="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6673680" y="5686560"/>
                  <a:ext cx="351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ω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5181480" y="571500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43600" y="518148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72200" y="556236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15000" y="556236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2448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56272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716280" y="5715000"/>
                  <a:ext cx="322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w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2209680" y="5715000"/>
              <a:ext cx="1600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71800" y="5181480"/>
              <a:ext cx="0" cy="533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20040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743200" y="5334120"/>
              <a:ext cx="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352680" y="5486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90920" y="5486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62A-7D41-46CB-BBDD-7EF44A4C0C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2C458-4C4B-43A7-879B-3A6B5E4D7A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IT-DELAY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76520" y="2666880"/>
            <a:ext cx="3886200" cy="914400"/>
            <a:chOff x="1676520" y="2666880"/>
            <a:chExt cx="3886200" cy="914400"/>
          </a:xfrm>
        </p:grpSpPr>
        <p:sp>
          <p:nvSpPr>
            <p:cNvPr id="313" name=""/>
            <p:cNvSpPr/>
            <p:nvPr/>
          </p:nvSpPr>
          <p:spPr>
            <a:xfrm>
              <a:off x="2666880" y="2666880"/>
              <a:ext cx="190512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520" y="312408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312408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5360" y="266688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0240" y="26668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2712960" y="2751120"/>
                  <a:ext cx="18255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9" name=""/>
          <p:cNvGrpSpPr/>
          <p:nvPr/>
        </p:nvGrpSpPr>
        <p:grpSpPr>
          <a:xfrm>
            <a:off x="77760" y="3960720"/>
            <a:ext cx="7026480" cy="2224080"/>
            <a:chOff x="77760" y="3960720"/>
            <a:chExt cx="7026480" cy="2224080"/>
          </a:xfrm>
        </p:grpSpPr>
        <p:grpSp>
          <p:nvGrpSpPr>
            <p:cNvPr id="320" name=""/>
            <p:cNvGrpSpPr/>
            <p:nvPr/>
          </p:nvGrpSpPr>
          <p:grpSpPr>
            <a:xfrm>
              <a:off x="2438280" y="4648320"/>
              <a:ext cx="3886200" cy="1003320"/>
              <a:chOff x="2438280" y="4648320"/>
              <a:chExt cx="3886200" cy="1003320"/>
            </a:xfrm>
          </p:grpSpPr>
          <p:sp>
            <p:nvSpPr>
              <p:cNvPr id="321" name=""/>
              <p:cNvSpPr/>
              <p:nvPr/>
            </p:nvSpPr>
            <p:spPr>
              <a:xfrm>
                <a:off x="3429000" y="4660920"/>
                <a:ext cx="1905120" cy="914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38280" y="5118120"/>
                <a:ext cx="99072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5118120"/>
                <a:ext cx="99036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87480" y="466092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92360" y="46609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[</a:t>
                </a:r>
                <a:r>
                  <a:rPr b="1" i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6" name=""/>
                  <p:cNvSpPr txBox="1"/>
                  <p:nvPr/>
                </p:nvSpPr>
                <p:spPr>
                  <a:xfrm>
                    <a:off x="3570120" y="4648320"/>
                    <a:ext cx="1471680" cy="1003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27" name=""/>
            <p:cNvGrpSpPr/>
            <p:nvPr/>
          </p:nvGrpSpPr>
          <p:grpSpPr>
            <a:xfrm>
              <a:off x="77760" y="3960720"/>
              <a:ext cx="3960720" cy="866880"/>
              <a:chOff x="77760" y="3960720"/>
              <a:chExt cx="3960720" cy="866880"/>
            </a:xfrm>
          </p:grpSpPr>
          <mc:AlternateContent>
            <mc:Choice xmlns:a14="http://schemas.microsoft.com/office/drawing/2010/main" Requires="a14">
              <p:sp>
                <p:nvSpPr>
                  <p:cNvPr id="328" name=""/>
                  <p:cNvSpPr txBox="1"/>
                  <p:nvPr/>
                </p:nvSpPr>
                <p:spPr>
                  <a:xfrm>
                    <a:off x="77760" y="3960720"/>
                    <a:ext cx="182088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9" name=""/>
              <p:cNvSpPr/>
              <p:nvPr/>
            </p:nvSpPr>
            <p:spPr>
              <a:xfrm>
                <a:off x="1828800" y="3962520"/>
                <a:ext cx="2209680" cy="850680"/>
              </a:xfrm>
              <a:custGeom>
                <a:avLst/>
                <a:gdLst/>
                <a:ahLst/>
                <a:rect l="l" t="t" r="r" b="b"/>
                <a:pathLst>
                  <a:path w="1488" h="536">
                    <a:moveTo>
                      <a:pt x="0" y="296"/>
                    </a:moveTo>
                    <a:cubicBezTo>
                      <a:pt x="80" y="267"/>
                      <a:pt x="160" y="239"/>
                      <a:pt x="336" y="200"/>
                    </a:cubicBezTo>
                    <a:cubicBezTo>
                      <a:pt x="511" y="160"/>
                      <a:pt x="864" y="0"/>
                      <a:pt x="1056" y="56"/>
                    </a:cubicBezTo>
                    <a:cubicBezTo>
                      <a:pt x="1247" y="111"/>
                      <a:pt x="1367" y="323"/>
                      <a:pt x="1488" y="53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057400" y="5270400"/>
              <a:ext cx="5046840" cy="914400"/>
              <a:chOff x="2057400" y="5270400"/>
              <a:chExt cx="5046840" cy="914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057400" y="5270400"/>
                <a:ext cx="1846440" cy="914400"/>
                <a:chOff x="2057400" y="5270400"/>
                <a:chExt cx="184644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32" name=""/>
                    <p:cNvSpPr txBox="1"/>
                    <p:nvPr/>
                  </p:nvSpPr>
                  <p:spPr>
                    <a:xfrm>
                      <a:off x="3581640" y="5803920"/>
                      <a:ext cx="32220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33" name=""/>
                <p:cNvSpPr/>
                <p:nvPr/>
              </p:nvSpPr>
              <p:spPr>
                <a:xfrm>
                  <a:off x="2057400" y="5803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819520" y="5270400"/>
                  <a:ext cx="0" cy="5335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30481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25909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20040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243864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257800" y="5270400"/>
                <a:ext cx="1846440" cy="914400"/>
                <a:chOff x="5257800" y="5270400"/>
                <a:chExt cx="184644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40" name=""/>
                    <p:cNvSpPr txBox="1"/>
                    <p:nvPr/>
                  </p:nvSpPr>
                  <p:spPr>
                    <a:xfrm>
                      <a:off x="6782040" y="5803920"/>
                      <a:ext cx="322200" cy="38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w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41" name=""/>
                <p:cNvSpPr/>
                <p:nvPr/>
              </p:nvSpPr>
              <p:spPr>
                <a:xfrm>
                  <a:off x="5257800" y="5803920"/>
                  <a:ext cx="16002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6019920" y="5270400"/>
                  <a:ext cx="0" cy="53352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62485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5791320" y="5423040"/>
                  <a:ext cx="0" cy="3808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640080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5639040" y="557496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60360" y="1731960"/>
                <a:ext cx="7889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3394080"/>
                <a:ext cx="32004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F6D-CCAF-4202-9273-7DEAA9873E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FEA4C-1238-4547-8E67-834F75BB3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ST DIFFERENCE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11120" y="5194440"/>
            <a:ext cx="4341960" cy="901440"/>
            <a:chOff x="2211120" y="5194440"/>
            <a:chExt cx="4341960" cy="901440"/>
          </a:xfrm>
        </p:grpSpPr>
        <p:sp>
          <p:nvSpPr>
            <p:cNvPr id="351" name=""/>
            <p:cNvSpPr/>
            <p:nvPr/>
          </p:nvSpPr>
          <p:spPr>
            <a:xfrm>
              <a:off x="3276720" y="5334120"/>
              <a:ext cx="2286000" cy="76176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5727600"/>
              <a:ext cx="990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62720" y="572760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92040" y="51944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1120" y="52704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3613320" y="5308560"/>
                  <a:ext cx="176508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2035080" y="3446640"/>
            <a:ext cx="4975200" cy="896760"/>
            <a:chOff x="2035080" y="3446640"/>
            <a:chExt cx="4975200" cy="896760"/>
          </a:xfrm>
        </p:grpSpPr>
        <p:sp>
          <p:nvSpPr>
            <p:cNvPr id="358" name=""/>
            <p:cNvSpPr/>
            <p:nvPr/>
          </p:nvSpPr>
          <p:spPr>
            <a:xfrm>
              <a:off x="3124080" y="3505320"/>
              <a:ext cx="2895840" cy="83808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33720" y="390384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19920" y="3903840"/>
              <a:ext cx="99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3120" y="3446640"/>
              <a:ext cx="6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5080" y="344664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3352680" y="3657600"/>
                  <a:ext cx="251460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t xml:space="preserve">δ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"/>
          <p:cNvGrpSpPr/>
          <p:nvPr/>
        </p:nvGrpSpPr>
        <p:grpSpPr>
          <a:xfrm>
            <a:off x="100080" y="4483080"/>
            <a:ext cx="3938400" cy="851040"/>
            <a:chOff x="100080" y="4483080"/>
            <a:chExt cx="3938400" cy="851040"/>
          </a:xfrm>
        </p:grpSpPr>
        <p:sp>
          <p:nvSpPr>
            <p:cNvPr id="365" name=""/>
            <p:cNvSpPr/>
            <p:nvPr/>
          </p:nvSpPr>
          <p:spPr>
            <a:xfrm>
              <a:off x="1676520" y="4483080"/>
              <a:ext cx="2361960" cy="851040"/>
            </a:xfrm>
            <a:custGeom>
              <a:avLst/>
              <a:gdLst/>
              <a:ahLst/>
              <a:rect l="l" t="t" r="r" b="b"/>
              <a:pathLst>
                <a:path w="1488" h="536">
                  <a:moveTo>
                    <a:pt x="0" y="296"/>
                  </a:moveTo>
                  <a:cubicBezTo>
                    <a:pt x="80" y="267"/>
                    <a:pt x="160" y="239"/>
                    <a:pt x="336" y="200"/>
                  </a:cubicBezTo>
                  <a:cubicBezTo>
                    <a:pt x="511" y="160"/>
                    <a:pt x="864" y="0"/>
                    <a:pt x="1056" y="56"/>
                  </a:cubicBezTo>
                  <a:cubicBezTo>
                    <a:pt x="1247" y="111"/>
                    <a:pt x="1367" y="323"/>
                    <a:pt x="1488" y="53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100080" y="4503600"/>
                  <a:ext cx="177624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33520" y="1676520"/>
                <a:ext cx="7931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the Differe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:     </m:t>
                        </m:r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2B1-DF9E-45D3-859B-569A8485ED5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C2426-0622-406A-85C8-420825576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6, Sections 6-1, 6-2, 6-3, 6-4, &amp; 6-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RESPONSE EX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Chap. 6, Sects. 6-6, 6-7 &amp; 6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2E6-E2ED-4444-956C-6A984A8A76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C2C0-80D1-46C5-98F9-1D90EDA460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62120" y="10126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LTI Demo with Sinusoid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4875840" y="1752480"/>
            <a:ext cx="11271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4160" y="1600200"/>
            <a:ext cx="706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09800" y="1647720"/>
            <a:ext cx="6901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11A-6DBA-4DE0-98F9-95215CD4979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D8D1D-6F9F-4BE6-829D-0224CD21387B}" type="datetime1">
              <a:rPr lang="en-US"/>
              <a:t>07/29/26</a:t>
            </a:fld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FILTER COEFFS?   {b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is the overall FREQUENCY RESPONSE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0" t="0" r="0" b="20806"/>
          <a:stretch/>
        </p:blipFill>
        <p:spPr>
          <a:xfrm>
            <a:off x="0" y="44197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843280" y="532296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9480" y="5322960"/>
            <a:ext cx="5238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52280" y="5321160"/>
                <a:ext cx="712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26000" y="5321160"/>
                <a:ext cx="769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358040" y="5321160"/>
                <a:ext cx="170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752480" y="5168880"/>
                <a:ext cx="770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700600" y="5168880"/>
                <a:ext cx="798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4D0-2D91-4090-A95D-C1D60347EC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ADE47-BDD6-44E6-9DC8-0AF98D661DF4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LTIPL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52680" y="40384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4956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57800" y="4495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1160" y="403848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604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452760" y="4038480"/>
                <a:ext cx="1778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1752480" y="274320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5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808280" y="2743200"/>
                <a:ext cx="1866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4648320" y="274320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530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06440" y="274320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57680" y="2760840"/>
                <a:ext cx="19591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916360" y="5243400"/>
                <a:ext cx="6014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399960" y="5105520"/>
            <a:ext cx="222588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666880" y="4876920"/>
            <a:ext cx="60984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100-5FDB-4A8B-B438-8EB9C70D87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860A3-ADB9-40AC-B7B5-D505B380ECF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INUSOID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PUT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TERMINE the FIR FILTER OUTPU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RESPONS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 FI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OTTING vs. Frequenc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GNITUD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HASE vs.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038480" y="3732120"/>
            <a:ext cx="5105520" cy="2440080"/>
            <a:chOff x="4038480" y="3732120"/>
            <a:chExt cx="5105520" cy="2440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4038480" y="5237280"/>
                  <a:ext cx="510552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ω</m:t>
                              </m:r>
                            </m:e>
                          </m:acc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e>
                      </m:d>
                      <m:r>
                        <m:t xml:space="preserve">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∠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ω</m:t>
                                  </m:r>
                                </m:e>
                              </m:acc>
                            </m:sup>
                          </m:sSup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181480" y="4648320"/>
              <a:ext cx="0" cy="685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789240" y="3732120"/>
              <a:ext cx="1238400" cy="1602000"/>
              <a:chOff x="6789240" y="3732120"/>
              <a:chExt cx="1238400" cy="1602000"/>
            </a:xfrm>
          </p:grpSpPr>
          <p:sp>
            <p:nvSpPr>
              <p:cNvPr id="96" name=""/>
              <p:cNvSpPr/>
              <p:nvPr/>
            </p:nvSpPr>
            <p:spPr>
              <a:xfrm>
                <a:off x="7135200" y="3732120"/>
                <a:ext cx="89244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MAG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789240" y="4170240"/>
                <a:ext cx="330120" cy="116388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714080" y="4417920"/>
              <a:ext cx="1227600" cy="916200"/>
              <a:chOff x="7714080" y="4417920"/>
              <a:chExt cx="1227600" cy="916200"/>
            </a:xfrm>
          </p:grpSpPr>
          <p:sp>
            <p:nvSpPr>
              <p:cNvPr id="99" name=""/>
              <p:cNvSpPr/>
              <p:nvPr/>
            </p:nvSpPr>
            <p:spPr>
              <a:xfrm>
                <a:off x="7848720" y="4876920"/>
                <a:ext cx="228600" cy="4572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14080" y="4417920"/>
                <a:ext cx="1227600" cy="459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PHASE</a:t>
                </a:r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19B-3DAC-452D-A004-5B16D87632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F1BCF-CEF5-4FD5-AFB2-7BE6687C68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OMAINS: Time &amp; Frequenc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Time-Domain:  “n” = 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[n]    discrete-time signa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(t)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tinuous-time sign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Frequency Domain (sum of sinusoid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vs. f (Hz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OG vs. DIGIT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trum vs. omega-h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ve back and forth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QUICKL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CEB-8408-4576-9AD5-3E8AC08C34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D7037-170E-4052-8F4F-48CB447B9839}" type="datetime1">
              <a:rPr lang="en-US"/>
              <a:t>07/29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ar &amp;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y[n] = x[n]*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“rule”defining the system can ALWAYS be re-written as 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Example: h[n] is same as 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048-7580-49AB-8179-2B7C7B3FF5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17453-AFEE-47B4-BA79-6119F562AC9B}" type="datetime1">
              <a:rPr lang="en-US"/>
              <a:t>07/29/26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33400"/>
            <a:ext cx="81788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[n] = x[n] - x[n-1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 output as a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ed impulse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another way to compute the outpu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46520" y="4044960"/>
                <a:ext cx="3452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763640" y="5410080"/>
                <a:ext cx="4678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354-B818-4234-A663-AC2B3D3FCC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6BB94-CA5F-47CC-AE80-876BC6241332}" type="datetime1">
              <a:rPr lang="en-US"/>
              <a:t>07/29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“FILTERING”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128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NTRATE on the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PECTRU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USOIDAL INPU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x[n]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, OUTPUT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[n] = 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10666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905120"/>
            <a:ext cx="10666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560" y="19051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440" y="19051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3440" y="1905120"/>
            <a:ext cx="6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8320" y="1905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91320" y="3019320"/>
                <a:ext cx="351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19520" y="3095640"/>
                <a:ext cx="351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209680" y="312408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59056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0040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4320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289512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289512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312408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943600" y="2590560"/>
            <a:ext cx="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72200" y="2971440"/>
            <a:ext cx="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715000" y="2971440"/>
            <a:ext cx="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32448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7432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F22-B60E-42D6-8237-A438D66E2F4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50600-53F9-463F-B777-FE60DC28B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LTERING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-point AVERAG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moves cosi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y making its amplitude (A) small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960" y="4419720"/>
            <a:ext cx="8178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-point AVERA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nges A slightl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1981080"/>
                <a:ext cx="4038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76920" y="4343400"/>
                <a:ext cx="4000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37F-8B8C-4803-8EF9-0CB3A57A13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4CE52-C743-4E25-B743-A69A62F42946}" type="datetime1">
              <a:rPr lang="en-US"/>
              <a:t>07/29/26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2000-02-21T15:28:05Z</cp:lastPrinted>
  <dcterms:modified xsi:type="dcterms:W3CDTF">2005-02-25T19:37:45Z</dcterms:modified>
  <cp:revision>251</cp:revision>
  <dc:subject/>
  <dc:title>SPFirst Lecture #1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