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679-6618-4ADB-834A-2D35F2C4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044-DEF2-4FC9-A6F5-43C6B8E5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BD8-1FF7-4880-A99B-0918A324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C95-FDE7-4812-8416-B401F6CC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9BF5-9F70-496B-9831-7A846521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F15C-5855-4B91-A29E-4C37DBA0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D232-58AE-48C9-A6D1-469AFA7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F793-9D3F-4982-8E4D-7E1547A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B9C9-13F8-4BD3-A448-1A3D17A9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40ED-0BB8-4CDE-8EDE-D0D80030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A52-DCCA-4C23-AE57-3BEC8AC6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612-BB99-49E3-8E53-DCC55AA2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10A5-8014-4010-9EBE-8098CEC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D827-C425-42BE-8192-7C128F82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46E-6BDF-43F2-861F-A625ACEB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8679-C861-4C7C-9EDD-2BB7A396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B22-F954-4E4F-A771-E18007DB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4BE-8D02-446E-8011-E671E59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71C-3668-4F78-B935-8EE4C19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013-9287-45F9-95C5-30E7607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7BD-FEFD-40EF-8E7E-A3A28033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828-4A98-468C-A834-625409D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19E-8B5B-40BB-A559-895338E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3B9-6EBA-41E4-9721-0E29AE9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CCF-67CD-4AE0-A4CD-53BEDE36BAF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D665-2356-4F11-B698-02477682C15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8DF8-72BA-43D6-85F9-E009C108AF3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ABC-EB3E-41AC-A22F-DA7D4E25F4E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28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864A-97B0-479F-915B-94CF19DD736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1029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1030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E2E-AC99-4537-8B06-7187766CF60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9840" y="3457440"/>
            <a:ext cx="708660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Continuous-Tim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ACC5-5105-42A7-8FC1-89D80F9856D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F7A-2EF5-4AA9-9AA5-8DEB01E8298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711360" y="2438280"/>
                <a:ext cx="779760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a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bt</m:t>
                                      </m:r>
                                    </m:sup>
                                  </m:sSup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aτ</m:t>
                                          </m:r>
                                        </m:sup>
                                      </m:sSup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bτ</m:t>
                                          </m:r>
                                        </m:sup>
                                      </m:sSup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t</m:t>
                                          </m:r>
                                        </m:sup>
                                      </m:sSup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t</m:t>
                                          </m:r>
                                        </m:sup>
                                      </m:sSup>
                                    </m:num>
                                    <m:den>
                                      <m:r>
                                        <m:t xml:space="preserve">−</m:t>
                                      </m:r>
                                      <m:r>
                                        <m:t xml:space="preserve">a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611280" y="1676520"/>
                <a:ext cx="2155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440160" y="1676520"/>
                <a:ext cx="334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AAD1-56BA-4020-8278-9C86B428F22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2561-75EB-4A78-A5BF-13F2FA241BE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Case: u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762120" y="2362320"/>
                <a:ext cx="563868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774720" y="1676520"/>
                <a:ext cx="3340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5095800" y="1720800"/>
                <a:ext cx="160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838080" y="4800600"/>
                <a:ext cx="41911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FC4-81B6-43C1-84E7-F801366A59A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ABDB-3ED2-4088-BA99-F37CA40991F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ve Unit Ste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914400" y="2438280"/>
                <a:ext cx="5334120" cy="41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t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88272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657600" y="1720800"/>
                <a:ext cx="160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6"/>
          <p:cNvSpPr/>
          <p:nvPr/>
        </p:nvSpPr>
        <p:spPr>
          <a:xfrm>
            <a:off x="4917600" y="5715000"/>
            <a:ext cx="1704600" cy="45972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Unit Ramp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A7C0-9AC0-4954-B529-F4202952F90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BBE-29C0-410B-88EC-A41A92DD125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Commutativ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534520" cy="4438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380880" y="1523880"/>
                <a:ext cx="8534520" cy="451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τ</m:t>
                              </m:r>
                              <m:r>
                                <m:t xml:space="preserve">)</m:t>
                              </m:r>
                              <m:r>
                                <m:t xml:space="preserve">dτ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let </m:t>
                          </m:r>
                          <m:r>
                            <m:t xml:space="preserve">σ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τ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dσ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dτ</m:t>
                          </m:r>
                        </m:e>
                      </m:mr>
                      <m:m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σ</m:t>
                              </m:r>
                              <m:r>
                                <m:t xml:space="preserve">)</m:t>
                              </m:r>
                              <m:r>
                                <m:t xml:space="preserve">dσ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∗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6" name="Rectangle 5"/>
          <p:cNvSpPr/>
          <p:nvPr/>
        </p:nvSpPr>
        <p:spPr>
          <a:xfrm>
            <a:off x="304920" y="3809880"/>
            <a:ext cx="1904760" cy="533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010280" y="5105520"/>
            <a:ext cx="1905120" cy="5331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C01-60C6-499E-8AC6-8D1E6E7C87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7A3A-C902-4C9D-8EA6-ECB82D8005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of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2" name="Picture 3" descr="_x000e_fig10-15ab.GIF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728640" y="1449360"/>
            <a:ext cx="7805880" cy="540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762120" y="259092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3905280" y="259092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6845400" y="2590920"/>
                <a:ext cx="1854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"/>
              <p:cNvSpPr txBox="1"/>
              <p:nvPr/>
            </p:nvSpPr>
            <p:spPr>
              <a:xfrm>
                <a:off x="762120" y="5486400"/>
                <a:ext cx="647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3936960" y="54864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6858000" y="5486400"/>
                <a:ext cx="1854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1784520" y="3657600"/>
                <a:ext cx="5144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049D-AD81-4BE3-8968-FDD69787B9C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09D8-C24E-4F2B-853E-8082A3FF1F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stable if every bounded input produces a bounded outpu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continuous-tim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TI syste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stable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43200" y="4267080"/>
                <a:ext cx="32004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&lt;¥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C60-A7FB-45B5-87B1-14D84027D36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72A-4C72-46A8-80FF-B4EA698C050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usal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ystem is causal if and only 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y(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pends only on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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 LTI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is causal if and only if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209680" y="4408560"/>
                <a:ext cx="4724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for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E43A-1D5B-41BC-9CC7-2586D94ADC3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D5B-F95E-4412-8A77-6DDCEB09E7A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=a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+bx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Therefore, convolution is linear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29"/>
              <p:cNvSpPr txBox="1"/>
              <p:nvPr/>
            </p:nvSpPr>
            <p:spPr>
              <a:xfrm>
                <a:off x="1143000" y="2482920"/>
                <a:ext cx="7315200" cy="30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τ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Linea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028"/>
              <p:cNvSpPr txBox="1"/>
              <p:nvPr/>
            </p:nvSpPr>
            <p:spPr>
              <a:xfrm>
                <a:off x="4013280" y="2711520"/>
                <a:ext cx="11174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62F4-0B72-4DD9-BBE6-1F7216D8FD5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EDB2-A93B-494B-8752-6980F80F8D3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is Time-Invaria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bstitute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-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4" name="Object 1028"/>
          <p:cNvGraphicFramePr/>
          <p:nvPr/>
        </p:nvGraphicFramePr>
        <p:xfrm>
          <a:off x="1371600" y="2362320"/>
          <a:ext cx="541008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541008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6" name="Object 1029"/>
          <p:cNvGraphicFramePr/>
          <p:nvPr/>
        </p:nvGraphicFramePr>
        <p:xfrm>
          <a:off x="2286000" y="3924360"/>
          <a:ext cx="45338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924360"/>
                    <a:ext cx="4533840" cy="133344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Object 1030"/>
          <p:cNvGraphicFramePr/>
          <p:nvPr/>
        </p:nvGraphicFramePr>
        <p:xfrm>
          <a:off x="2324160" y="5448240"/>
          <a:ext cx="18669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4160" y="5448240"/>
                    <a:ext cx="1866960" cy="571680"/>
                  </a:xfrm>
                  <a:prstGeom prst="rect">
                    <a:avLst/>
                  </a:prstGeom>
                  <a:ln w="381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3230-AB90-41D3-B282-36A795515A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7AE0-EF69-4DFA-BE25-F701423D552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of Impulses, etc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two impul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of step and derivative of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33520" y="2819520"/>
                <a:ext cx="5190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5829480" y="2819520"/>
                <a:ext cx="3162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1905120" y="4978440"/>
                <a:ext cx="364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5715000" y="5105520"/>
                <a:ext cx="1035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164-4D2F-4064-89CF-1410907C38F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DD7-ECBE-4F87-A93C-824B408858E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. 9-6, 9-7, and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reading Chapter 1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D98C-FE58-4B21-BCED-E5BCA34A5E2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F7E-C54F-4366-A55B-A7408F8DCBB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arallel 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3" name="Picture 3" descr="_x000c_fig10-17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1577880" y="1370160"/>
            <a:ext cx="6499440" cy="55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781360" y="4724280"/>
                <a:ext cx="3238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1523880" y="3098880"/>
                <a:ext cx="648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181480" y="2286000"/>
                <a:ext cx="76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156280" y="3886200"/>
                <a:ext cx="812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553080" y="3124080"/>
                <a:ext cx="1930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0F61-5327-40A3-ABF1-E96D0906A9C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942-3F1A-4637-A7A7-2849663543D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80880" y="4327560"/>
                <a:ext cx="84121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44" name="Picture 4" descr="_x000c_fig10-12.GIF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066680" y="1606680"/>
            <a:ext cx="7321680" cy="25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5"/>
          <p:cNvGraphicFramePr/>
          <p:nvPr/>
        </p:nvGraphicFramePr>
        <p:xfrm>
          <a:off x="6958080" y="2187720"/>
          <a:ext cx="188100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8080" y="2187720"/>
                    <a:ext cx="188100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98C1-F155-4AD1-A512-3BE3898A633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8C2-C2F9-41D3-996F-90BAAA6567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009800" y="4038480"/>
                <a:ext cx="53910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53" name="Picture 5" descr="&#13;fig10-13a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838080" y="1371600"/>
            <a:ext cx="73407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4E3-B19F-4E84-BC86-B16847F41C6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D592-F074-4C8A-AE76-A3D9583D0BF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8120" y="1790640"/>
                <a:ext cx="92808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=1-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dt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nary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261" name="Picture 6" descr="&#13;fig10-13b.gif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3962520"/>
            <a:ext cx="7367760" cy="254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066680" y="5715000"/>
                <a:ext cx="2667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t&lt;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08D-2DE6-48AC-ABE8-7818A2093E8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5CD-7794-419E-932E-66E25844C95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7" name="Picture 3" descr="_x000c_fig10-10.GIF                                                   00005D72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622520"/>
            <a:ext cx="8004240" cy="485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772080" y="1676520"/>
                <a:ext cx="723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5"/>
          <p:cNvGraphicFramePr/>
          <p:nvPr/>
        </p:nvGraphicFramePr>
        <p:xfrm>
          <a:off x="3809880" y="3352680"/>
          <a:ext cx="3962520" cy="4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3352680"/>
                    <a:ext cx="3962520" cy="470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809880" y="4800600"/>
                <a:ext cx="4991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7"/>
          <p:cNvSpPr/>
          <p:nvPr/>
        </p:nvSpPr>
        <p:spPr>
          <a:xfrm>
            <a:off x="1055520" y="32004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1120" y="478476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6400800" y="6095880"/>
                <a:ext cx="266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5181480" y="6095880"/>
                <a:ext cx="7621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056F-A55D-4B2A-A677-6A71128AE09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2128-7012-447E-B72B-03B032EB21F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0" name="Picture 3" descr="_x000e_cconv-demo.gif                                                 0000E524_x0005_JIM-2                          B29E03F8:"/>
          <p:cNvPicPr/>
          <p:nvPr/>
        </p:nvPicPr>
        <p:blipFill>
          <a:blip r:embed="rId1"/>
          <a:stretch/>
        </p:blipFill>
        <p:spPr>
          <a:xfrm>
            <a:off x="914400" y="1295280"/>
            <a:ext cx="765180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5D19-3A71-4C32-8C52-329CCD1C61E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BA0-6083-48E1-907B-C3AA05BF1D3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Movi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5" name="Picture 3" descr="_x0008_demo.GIF                                                       000061DD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782720"/>
            <a:ext cx="615312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6B1-1909-41DE-8C70-37C97D3DDFD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5FF9-7AD3-45C6-AC8B-3E0A81AB72A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valuating convolu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m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bility and causa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scade and parallel conne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47F-DD3E-4A49-8461-E59DEAF5970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83F8-7E87-4104-BFF4-5B33397127C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143000" y="3462480"/>
                <a:ext cx="7010280" cy="16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DC4F-FBA8-4BAF-B7C1-6A32197ED94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B2C7-5001-4112-A7AD-4AD7C631F33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8" name="Picture 7" descr="F:\users\Ddrive\Courses\2025-s03\Lectures\Lect20xLect17\x_and_h.png"/>
          <p:cNvPicPr/>
          <p:nvPr/>
        </p:nvPicPr>
        <p:blipFill>
          <a:blip r:embed="rId1"/>
          <a:stretch/>
        </p:blipFill>
        <p:spPr>
          <a:xfrm>
            <a:off x="1295280" y="1828800"/>
            <a:ext cx="7086600" cy="2154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a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4267080"/>
                <a:ext cx="75438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6934320" y="1841400"/>
                <a:ext cx="1836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152280" y="1828800"/>
                <a:ext cx="1665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6676-F26D-4D34-B77B-57058B530C6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EBF-31AE-4473-A1FA-22A1B55772A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6" name="Picture 11" descr="F:\users\Ddrive\Courses\2025-s03\Lectures\Lect20xLect17\flipping.png"/>
          <p:cNvPicPr/>
          <p:nvPr/>
        </p:nvPicPr>
        <p:blipFill>
          <a:blip r:embed="rId1"/>
          <a:stretch/>
        </p:blipFill>
        <p:spPr>
          <a:xfrm>
            <a:off x="1219320" y="1220760"/>
            <a:ext cx="6629400" cy="541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ipping and Shift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657600" y="1143000"/>
                <a:ext cx="68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Object 5"/>
          <p:cNvGraphicFramePr/>
          <p:nvPr/>
        </p:nvGraphicFramePr>
        <p:xfrm>
          <a:off x="3657600" y="3187800"/>
          <a:ext cx="396252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187800"/>
                    <a:ext cx="3962520" cy="4698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657600" y="5092560"/>
                <a:ext cx="4991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7"/>
          <p:cNvSpPr/>
          <p:nvPr/>
        </p:nvSpPr>
        <p:spPr>
          <a:xfrm>
            <a:off x="309600" y="2971800"/>
            <a:ext cx="14702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31120" y="5019840"/>
            <a:ext cx="2997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lipping and shifting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791320" y="6477120"/>
                <a:ext cx="22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800600" y="6440400"/>
                <a:ext cx="685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DD5-6BB2-4894-9AA1-E8F069AB8D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2BAA-1990-436E-9613-56622273062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ing the Integr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057400" y="4429080"/>
                <a:ext cx="538812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t xml:space="preserve">τ</m:t>
                                      </m:r>
                                    </m:sup>
                                  </m:sSup>
                                  <m:r>
                                    <m:t xml:space="preserve">dτ</m:t>
                                  </m:r>
                                  <m:r>
                                    <m:t xml:space="preserve"> </m:t>
                                  </m:r>
                                </m:e>
                              </m:nary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2" name="Picture 7" descr="F:\users\Ddrive\Courses\2025-s03\Lectures\Lect20xLect17\eval_conv.png"/>
          <p:cNvPicPr/>
          <p:nvPr/>
        </p:nvPicPr>
        <p:blipFill>
          <a:blip r:embed="rId1"/>
          <a:stretch/>
        </p:blipFill>
        <p:spPr>
          <a:xfrm>
            <a:off x="1371600" y="1600200"/>
            <a:ext cx="67816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AD4-80E0-4B7B-A3A5-DDC5A9441CE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F174-4906-4D35-BA9B-2D35F4C7645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Picture 1032" descr="F:\users\Ddrive\Courses\2025-s03\Lectures\Lect20xLect17\yt_from_eval_conv.png"/>
          <p:cNvPicPr/>
          <p:nvPr/>
        </p:nvPicPr>
        <p:blipFill>
          <a:blip r:embed="rId1"/>
          <a:stretch/>
        </p:blipFill>
        <p:spPr>
          <a:xfrm>
            <a:off x="990720" y="3581280"/>
            <a:ext cx="7619760" cy="306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29"/>
              <p:cNvSpPr txBox="1"/>
              <p:nvPr/>
            </p:nvSpPr>
            <p:spPr>
              <a:xfrm>
                <a:off x="762120" y="5546880"/>
                <a:ext cx="2276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t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30"/>
              <p:cNvSpPr txBox="1"/>
              <p:nvPr/>
            </p:nvSpPr>
            <p:spPr>
              <a:xfrm>
                <a:off x="4483080" y="3232080"/>
                <a:ext cx="177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031"/>
              <p:cNvSpPr txBox="1"/>
              <p:nvPr/>
            </p:nvSpPr>
            <p:spPr>
              <a:xfrm>
                <a:off x="1523880" y="1569960"/>
                <a:ext cx="533412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/>
                        <m:e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r>
                                <m:t xml:space="preserve">dτ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τ</m:t>
                                  </m:r>
                                </m:sup>
                              </m:sSup>
                              <m:sSubSup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  <m:r>
                                <m:t xml:space="preserve"> </m:t>
                              </m:r>
                            </m:e>
                          </m:nary>
                        </m:e>
                      </m:mr>
                      <m:mr>
                        <m:e/>
                        <m:e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t</m:t>
                          </m:r>
                          <m:r>
                            <m:t xml:space="preserve">≥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781-D580-425B-978C-1368D2AB758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9D31-43A4-431C-8036-79573333EF7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6" name="Picture 1030" descr="F:\users\Ddrive\Courses\2025-s03\Lectures\Lect20xLect17\cconvdemo2.png"/>
          <p:cNvPicPr/>
          <p:nvPr/>
        </p:nvPicPr>
        <p:blipFill>
          <a:blip r:embed="rId1"/>
          <a:stretch/>
        </p:blipFill>
        <p:spPr>
          <a:xfrm>
            <a:off x="647640" y="990720"/>
            <a:ext cx="7962840" cy="583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8-11-30T13:48:12Z</cp:lastPrinted>
  <dcterms:modified xsi:type="dcterms:W3CDTF">2013-05-16T00:50:41Z</dcterms:modified>
  <cp:revision>365</cp:revision>
  <dc:subject/>
  <dc:title>SPFirst Lecture #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