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6.wmf" ContentType="image/x-wmf"/>
  <Override PartName="/ppt/media/image45.png" ContentType="image/png"/>
  <Override PartName="/ppt/media/image10.wmf" ContentType="image/x-wmf"/>
  <Override PartName="/ppt/media/image47.wmf" ContentType="image/x-wmf"/>
  <Override PartName="/ppt/media/image34.wmf" ContentType="image/x-wmf"/>
  <Override PartName="/ppt/media/image33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67.wmf" ContentType="image/x-wmf"/>
  <Override PartName="/ppt/media/image30.wmf" ContentType="image/x-wmf"/>
  <Override PartName="/ppt/media/image4.wmf" ContentType="image/x-wmf"/>
  <Override PartName="/ppt/media/image16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68.png" ContentType="image/png"/>
  <Override PartName="/ppt/media/image25.wmf" ContentType="image/x-wmf"/>
  <Override PartName="/ppt/media/image59.wmf" ContentType="image/x-wmf"/>
  <Override PartName="/ppt/media/image22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wmf" ContentType="image/x-wmf"/>
  <Override PartName="/ppt/media/image58.png" ContentType="image/png"/>
  <Override PartName="/ppt/media/image15.wmf" ContentType="image/x-wmf"/>
  <Override PartName="/ppt/media/image40.wmf" ContentType="image/x-wmf"/>
  <Override PartName="/ppt/media/image11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13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5.png" ContentType="image/png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C4F-51B7-4B27-A963-71C3881C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06B-3292-4342-BB0E-69197BB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470-95F2-4979-9DD4-57502CA0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365-2DB6-4765-B931-B03BC9BC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89EE-EEAF-4B65-97DD-068CE6A8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667-E6BD-486B-A09B-E591ECE0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9DFC-2290-47AC-B127-5A122B2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0CBF-71EF-4329-A4B1-E7C90817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B38-0436-4062-8189-E4D09C2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87E9-64CC-47CA-8BEE-2FD4CAF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E220-3180-4907-A0DA-943FAF40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9D9-F787-4280-B99F-5C9756B2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8953-C12F-4529-9CB6-D988292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7CE7-6C5D-40D5-ABB3-99296E0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E0B6-7910-4E77-8315-5F89C3FA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AC17-B7E1-4628-BDBA-C9C5DA3E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483-178E-49DB-8A71-5292BDF5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315-1650-44B2-B66E-5094611C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5ED-C7B9-49AF-9839-C54A607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290-2A2F-442F-BA11-0ED6BC5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66B-7C0A-4A33-B5BF-45D5342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104-0659-4A2B-B26E-E049851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8B6-F60A-4E0E-B218-A03E1BE5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098-7FE0-4536-BB03-0BFE272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B7C-F012-47A9-B8F6-B4741A2E1FE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E09-76B5-471C-8EB9-EAB35441E63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F958-D238-4B07-8672-3ADBF3CFCE7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8BB8-5699-4959-BF91-4A2694591C6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4.wmf"/><Relationship Id="rId2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7.wmf"/><Relationship Id="rId2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844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o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ystem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4321-2174-44CC-92FE-7422FB46DE7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A17C3A-E54F-4D0A-8D06-AE3E70948F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pose that h(t)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30556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495680" y="2155680"/>
          <a:ext cx="2590920" cy="6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155680"/>
                    <a:ext cx="25909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79440" y="3726000"/>
          <a:ext cx="7026480" cy="122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9440" y="3726000"/>
                    <a:ext cx="70264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14400" y="4952880"/>
          <a:ext cx="7794720" cy="131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4952880"/>
                    <a:ext cx="779472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66680" y="258840"/>
          <a:ext cx="6858000" cy="1265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258840"/>
                    <a:ext cx="6858000" cy="1265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480" y="2362320"/>
          <a:ext cx="1051200" cy="50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9480" y="2362320"/>
                    <a:ext cx="1051200" cy="50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28600" y="4724280"/>
          <a:ext cx="1017720" cy="454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4724280"/>
                    <a:ext cx="1017720" cy="454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E82-0AA6-49C9-A675-0EC4195916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40573-67D4-4A80-BAA5-581DC74AD9F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gnitude and Pha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2440" y="1925640"/>
            <a:ext cx="7988040" cy="4475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aphicFrame>
        <p:nvGraphicFramePr>
          <p:cNvPr id="137" name=""/>
          <p:cNvGraphicFramePr/>
          <p:nvPr/>
        </p:nvGraphicFramePr>
        <p:xfrm>
          <a:off x="5867280" y="2057400"/>
          <a:ext cx="26290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057400"/>
                    <a:ext cx="2629080" cy="965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38680" y="4495680"/>
          <a:ext cx="2921040" cy="34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4495680"/>
                    <a:ext cx="292104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8600" y="1676520"/>
          <a:ext cx="323532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676520"/>
                    <a:ext cx="3235320" cy="1201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52280" y="5956200"/>
          <a:ext cx="3870360" cy="67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956200"/>
                    <a:ext cx="3870360" cy="67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3CD-07E9-4C95-AAE1-E2D08285AA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9E8D8-5199-43B4-AD3F-C695E57B2B47}" type="datetime1">
              <a:rPr lang="en-US"/>
              <a:t>07/29/26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38088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Response of Integrator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t) = u(t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 a Stable Syste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es NOT exi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3809880"/>
          <a:ext cx="746136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7461360" cy="1111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454800" y="4952880"/>
            <a:ext cx="25369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eed another ter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9480" y="5353200"/>
            <a:ext cx="7377120" cy="1123920"/>
            <a:chOff x="609480" y="5353200"/>
            <a:chExt cx="7377120" cy="1123920"/>
          </a:xfrm>
        </p:grpSpPr>
        <p:graphicFrame>
          <p:nvGraphicFramePr>
            <p:cNvPr id="151" name=""/>
            <p:cNvGraphicFramePr/>
            <p:nvPr/>
          </p:nvGraphicFramePr>
          <p:xfrm>
            <a:off x="6781680" y="5715000"/>
            <a:ext cx="120492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5715000"/>
                      <a:ext cx="1204920" cy="4539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09480" y="5353200"/>
              <a:ext cx="601992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Leaky” Integrator  (a is small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Cannot build a perfect Integra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76C-D2DF-478D-AF69-FD483AC565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68E09-4D48-41F2-AE98-0273F38C6D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8960" y="4900680"/>
                <a:ext cx="70311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↦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t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533520"/>
          <a:ext cx="36576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33520"/>
                    <a:ext cx="3657600" cy="660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981080" y="3429000"/>
          <a:ext cx="4749840" cy="9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4749840" cy="98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9480" y="1600200"/>
          <a:ext cx="7772400" cy="16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600200"/>
                    <a:ext cx="77724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6662880" y="4724280"/>
            <a:ext cx="2252160" cy="1219320"/>
            <a:chOff x="6662880" y="4724280"/>
            <a:chExt cx="2252160" cy="1219320"/>
          </a:xfrm>
        </p:grpSpPr>
        <p:graphicFrame>
          <p:nvGraphicFramePr>
            <p:cNvPr id="164" name=""/>
            <p:cNvGraphicFramePr/>
            <p:nvPr/>
          </p:nvGraphicFramePr>
          <p:xfrm>
            <a:off x="6891120" y="4724280"/>
            <a:ext cx="2023920" cy="7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91120" y="4724280"/>
                      <a:ext cx="2023920" cy="7002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H="1">
              <a:off x="6662880" y="5410080"/>
              <a:ext cx="228240" cy="5335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914-E6CF-488C-A7C6-9EED0AF4FD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C1E85-D9E5-49C4-9AB7-E7D856D35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356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w/ Dela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7760" y="1658880"/>
          <a:ext cx="50277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1658880"/>
                    <a:ext cx="5027760" cy="1312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900360" y="3200400"/>
            <a:ext cx="7576920" cy="3047760"/>
            <a:chOff x="900360" y="3200400"/>
            <a:chExt cx="7576920" cy="3047760"/>
          </a:xfrm>
        </p:grpSpPr>
        <p:sp>
          <p:nvSpPr>
            <p:cNvPr id="171" name=""/>
            <p:cNvSpPr/>
            <p:nvPr/>
          </p:nvSpPr>
          <p:spPr>
            <a:xfrm>
              <a:off x="4419720" y="4038480"/>
              <a:ext cx="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073480" y="3276360"/>
              <a:ext cx="3308400" cy="990720"/>
              <a:chOff x="5073480" y="3276360"/>
              <a:chExt cx="3308400" cy="990720"/>
            </a:xfrm>
          </p:grpSpPr>
          <p:graphicFrame>
            <p:nvGraphicFramePr>
              <p:cNvPr id="173" name=""/>
              <p:cNvGraphicFramePr/>
              <p:nvPr/>
            </p:nvGraphicFramePr>
            <p:xfrm>
              <a:off x="5638680" y="3276360"/>
              <a:ext cx="2743200" cy="381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27636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75" name=""/>
              <p:cNvSpPr/>
              <p:nvPr/>
            </p:nvSpPr>
            <p:spPr>
              <a:xfrm flipH="1">
                <a:off x="5073480" y="365760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568520" y="3504960"/>
              <a:ext cx="6476760" cy="838440"/>
            </a:xfrm>
            <a:custGeom>
              <a:avLst/>
              <a:gdLst/>
              <a:ahLst/>
              <a:rect l="l" t="t" r="r" b="b"/>
              <a:pathLst>
                <a:path w="4080" h="528">
                  <a:moveTo>
                    <a:pt x="0" y="528"/>
                  </a:moveTo>
                  <a:lnTo>
                    <a:pt x="1152" y="528"/>
                  </a:lnTo>
                  <a:lnTo>
                    <a:pt x="1152" y="0"/>
                  </a:lnTo>
                  <a:lnTo>
                    <a:pt x="2160" y="0"/>
                  </a:lnTo>
                  <a:lnTo>
                    <a:pt x="2160" y="528"/>
                  </a:lnTo>
                  <a:lnTo>
                    <a:pt x="4080" y="528"/>
                  </a:lnTo>
                </a:path>
              </a:pathLst>
            </a:custGeom>
            <a:noFill/>
            <a:ln w="76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09800" y="37335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Magnitud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360" y="4876560"/>
              <a:ext cx="16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inear 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91120" y="3200400"/>
              <a:ext cx="0" cy="3047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6680" y="434340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920" y="4647960"/>
              <a:ext cx="6400800" cy="1524240"/>
            </a:xfrm>
            <a:custGeom>
              <a:avLst/>
              <a:gdLst/>
              <a:ahLst/>
              <a:rect l="l" t="t" r="r" b="b"/>
              <a:pathLst>
                <a:path w="4032" h="960">
                  <a:moveTo>
                    <a:pt x="0" y="480"/>
                  </a:moveTo>
                  <a:lnTo>
                    <a:pt x="1200" y="480"/>
                  </a:lnTo>
                  <a:lnTo>
                    <a:pt x="1200" y="0"/>
                  </a:lnTo>
                  <a:lnTo>
                    <a:pt x="2256" y="960"/>
                  </a:lnTo>
                  <a:lnTo>
                    <a:pt x="2256" y="480"/>
                  </a:lnTo>
                  <a:lnTo>
                    <a:pt x="3984" y="480"/>
                  </a:lnTo>
                  <a:lnTo>
                    <a:pt x="4032" y="48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8001000" y="4419360"/>
            <a:ext cx="399960" cy="328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01000" y="4419360"/>
                      <a:ext cx="399960" cy="328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077320" y="5486400"/>
            <a:ext cx="399960" cy="32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5486400"/>
                      <a:ext cx="399960" cy="3283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1B1-1971-433E-973E-B271AD8E00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F6610-0571-4737-9D46-8EA6E1F477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in Gives Sinusoid o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209080" cy="57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CF9-1622-4C58-AEC0-D6B2E5A251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821C9-4765-4010-8DCA-E83FB6A6DE70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Ideal Low 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66760" y="1703520"/>
          <a:ext cx="58183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03520"/>
                    <a:ext cx="5818320" cy="1649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52280" y="3733920"/>
                <a:ext cx="540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62720" y="3794040"/>
                <a:ext cx="3295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39680" y="4915080"/>
                <a:ext cx="8712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1BB-5164-4389-AD43-116816080A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FF1B3-5EFB-4BE9-8F7F-2D6CB3A6F6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04920" y="1747800"/>
          <a:ext cx="85341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47800"/>
                    <a:ext cx="85341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52280" y="3043080"/>
          <a:ext cx="868680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3080"/>
                    <a:ext cx="86868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38080" y="4417920"/>
          <a:ext cx="5334120" cy="6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7920"/>
                    <a:ext cx="533412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80880" y="5394240"/>
          <a:ext cx="8458200" cy="77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394240"/>
                    <a:ext cx="8458200" cy="777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E71-03C6-43E8-AF64-F4CC4A9341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27DA9-F7D8-47F3-B2E7-DB16E88B9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view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representation from th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orks for PERIODIC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L over one perio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28800" y="4495680"/>
          <a:ext cx="5334120" cy="18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495680"/>
                    <a:ext cx="5334120" cy="1868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283-68CE-4F85-8B2D-6DB6D55353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D582C-8A25-46C4-9180-FAE74C1BA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Periodic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3120" cy="20588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28880" y="1676520"/>
            <a:ext cx="7664400" cy="2133360"/>
            <a:chOff x="1028880" y="1676520"/>
            <a:chExt cx="7664400" cy="2133360"/>
          </a:xfrm>
        </p:grpSpPr>
        <p:graphicFrame>
          <p:nvGraphicFramePr>
            <p:cNvPr id="212" name=""/>
            <p:cNvGraphicFramePr/>
            <p:nvPr/>
          </p:nvGraphicFramePr>
          <p:xfrm>
            <a:off x="3429000" y="1676520"/>
            <a:ext cx="217188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29000" y="1676520"/>
                      <a:ext cx="21718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6019920" y="3429000"/>
            <a:ext cx="3427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19920" y="342900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1028880" y="3429000"/>
            <a:ext cx="72360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028880" y="342900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2711520" y="34290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11520" y="34290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524720" y="34290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524720" y="34290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4419720" y="34290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19720" y="34290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8566200" y="3429000"/>
            <a:ext cx="127080" cy="241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566200" y="3429000"/>
                      <a:ext cx="12708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1371600" y="3878280"/>
          <a:ext cx="3809880" cy="1303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71600" y="3878280"/>
                    <a:ext cx="3809880" cy="130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447920" y="5299200"/>
          <a:ext cx="3809880" cy="1330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47920" y="5299200"/>
                    <a:ext cx="3809880" cy="1330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715000" y="4699080"/>
          <a:ext cx="3048120" cy="1047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15000" y="4699080"/>
                    <a:ext cx="3048120" cy="1047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34" name=""/>
          <p:cNvGrpSpPr/>
          <p:nvPr/>
        </p:nvGrpSpPr>
        <p:grpSpPr>
          <a:xfrm>
            <a:off x="5181480" y="3962520"/>
            <a:ext cx="3322080" cy="520560"/>
            <a:chOff x="5181480" y="3962520"/>
            <a:chExt cx="3322080" cy="520560"/>
          </a:xfrm>
        </p:grpSpPr>
        <p:sp>
          <p:nvSpPr>
            <p:cNvPr id="235" name=""/>
            <p:cNvSpPr/>
            <p:nvPr/>
          </p:nvSpPr>
          <p:spPr>
            <a:xfrm>
              <a:off x="5704560" y="3962520"/>
              <a:ext cx="27990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Synthe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181480" y="419112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257800" y="5881680"/>
            <a:ext cx="3198600" cy="520560"/>
            <a:chOff x="5257800" y="5881680"/>
            <a:chExt cx="3198600" cy="520560"/>
          </a:xfrm>
        </p:grpSpPr>
        <p:sp>
          <p:nvSpPr>
            <p:cNvPr id="238" name=""/>
            <p:cNvSpPr/>
            <p:nvPr/>
          </p:nvSpPr>
          <p:spPr>
            <a:xfrm>
              <a:off x="5796000" y="5881680"/>
              <a:ext cx="2660400" cy="52056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ourier Analysis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257800" y="5943240"/>
              <a:ext cx="533520" cy="2286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BC9-FD6E-48EF-8BFD-92E0A3A0F9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4A795-8BC6-4C17-8ACE-49F45C14C7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CC1-BEC9-4B2A-9549-7AEBB83347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64D02-05DF-492E-A8FD-1A4E67B019BE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245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7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49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1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9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332-4DCA-412C-97DB-ACB1EC4661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08728-1651-49B4-B2DD-C9198FA9F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trum from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3201840"/>
            <a:ext cx="7937640" cy="327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1600200" y="1676520"/>
          <a:ext cx="6789600" cy="150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76520"/>
                    <a:ext cx="6789600" cy="1506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086600" y="3429000"/>
          <a:ext cx="18288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429000"/>
                    <a:ext cx="182880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408-3D77-4F07-84B3-B33BD49FA9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8E435-9661-45D9-9F1F-A510AD4D94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 with Periodic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 superposition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5040" y="160020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685800" y="2681280"/>
          <a:ext cx="1905120" cy="92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81280"/>
                    <a:ext cx="1905120" cy="92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4120" y="2765520"/>
          <a:ext cx="350496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765520"/>
                    <a:ext cx="3504960" cy="768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80880" y="4348080"/>
          <a:ext cx="8534520" cy="13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348080"/>
                    <a:ext cx="85345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38280" y="5904000"/>
          <a:ext cx="3810240" cy="74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5904000"/>
                    <a:ext cx="3810240" cy="7412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57360" y="3510000"/>
            <a:ext cx="37454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utput has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sam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2FE-056F-4A9C-BFAC-69AA59D169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80382-8C15-4F8A-AF44-E7881D9380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43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1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95280" y="4500720"/>
            <a:ext cx="678204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2909880" y="4114800"/>
          <a:ext cx="347832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9880" y="4114800"/>
                    <a:ext cx="347832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8" name=""/>
          <p:cNvGrpSpPr/>
          <p:nvPr/>
        </p:nvGrpSpPr>
        <p:grpSpPr>
          <a:xfrm>
            <a:off x="4038480" y="1295280"/>
            <a:ext cx="5105520" cy="2362320"/>
            <a:chOff x="4038480" y="1295280"/>
            <a:chExt cx="5105520" cy="2362320"/>
          </a:xfrm>
        </p:grpSpPr>
        <p:sp>
          <p:nvSpPr>
            <p:cNvPr id="289" name=""/>
            <p:cNvSpPr/>
            <p:nvPr/>
          </p:nvSpPr>
          <p:spPr>
            <a:xfrm flipV="1">
              <a:off x="40384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38480" y="2362320"/>
              <a:ext cx="13716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410080" y="2666880"/>
              <a:ext cx="3308400" cy="990720"/>
              <a:chOff x="5410080" y="2666880"/>
              <a:chExt cx="3308400" cy="99072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5975280" y="2666880"/>
              <a:ext cx="2743200" cy="381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975280" y="2666880"/>
                        <a:ext cx="2743200" cy="381240"/>
                      </a:xfrm>
                      <a:prstGeom prst="rect">
                        <a:avLst/>
                      </a:prstGeom>
                      <a:ln w="93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8" name=""/>
              <p:cNvSpPr/>
              <p:nvPr/>
            </p:nvSpPr>
            <p:spPr>
              <a:xfrm flipH="1">
                <a:off x="5410080" y="3048120"/>
                <a:ext cx="533520" cy="609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029-1BC9-45BD-BF66-B131CB2EA2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3A1E7-234E-4BA2-A79A-B0355D483C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152280"/>
            <a:ext cx="835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 (200 H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295280" y="4470480"/>
            <a:ext cx="6782040" cy="2387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143000" y="1316160"/>
            <a:ext cx="6781680" cy="279864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3276720" y="1295280"/>
            <a:ext cx="5867280" cy="2362320"/>
            <a:chOff x="3276720" y="1295280"/>
            <a:chExt cx="5867280" cy="2362320"/>
          </a:xfrm>
        </p:grpSpPr>
        <p:sp>
          <p:nvSpPr>
            <p:cNvPr id="304" name=""/>
            <p:cNvSpPr/>
            <p:nvPr/>
          </p:nvSpPr>
          <p:spPr>
            <a:xfrm>
              <a:off x="609588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276720" y="23623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6720" y="2362320"/>
              <a:ext cx="28191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5867280" y="1295280"/>
            <a:ext cx="3276720" cy="9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1295280"/>
                      <a:ext cx="3276720" cy="932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 flipH="1">
              <a:off x="5333760" y="1752480"/>
              <a:ext cx="533160" cy="609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6673680" y="2666880"/>
            <a:ext cx="1994040" cy="3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73680" y="2666880"/>
                      <a:ext cx="199404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2" name=""/>
            <p:cNvSpPr/>
            <p:nvPr/>
          </p:nvSpPr>
          <p:spPr>
            <a:xfrm flipH="1">
              <a:off x="6095880" y="3048120"/>
              <a:ext cx="533520" cy="60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1246320" y="4114800"/>
          <a:ext cx="680724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6320" y="4114800"/>
                    <a:ext cx="680724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A1C-DE77-439C-894A-B18C724111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FB78D-E167-417E-99E6-12856033D8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Band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9960" y="5334120"/>
          <a:ext cx="859176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334120"/>
                    <a:ext cx="8591760" cy="874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28600" y="1287360"/>
            <a:ext cx="8229600" cy="33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"/>
          <p:cNvGraphicFramePr/>
          <p:nvPr/>
        </p:nvGraphicFramePr>
        <p:xfrm>
          <a:off x="4952880" y="1281240"/>
          <a:ext cx="4038840" cy="104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281240"/>
                    <a:ext cx="4038840" cy="1044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 flipH="1">
            <a:off x="6095880" y="2895480"/>
            <a:ext cx="53352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1240" y="480060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ouput signal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180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4680" y="2514600"/>
            <a:ext cx="1194120" cy="368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ass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280" y="2819520"/>
            <a:ext cx="8763120" cy="1295280"/>
            <a:chOff x="152280" y="2819520"/>
            <a:chExt cx="8763120" cy="1295280"/>
          </a:xfrm>
        </p:grpSpPr>
        <p:sp>
          <p:nvSpPr>
            <p:cNvPr id="327" name=""/>
            <p:cNvSpPr/>
            <p:nvPr/>
          </p:nvSpPr>
          <p:spPr>
            <a:xfrm>
              <a:off x="320040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819520" y="2819520"/>
              <a:ext cx="0" cy="12952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2819520"/>
              <a:ext cx="380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867280" y="2819520"/>
              <a:ext cx="380880" cy="1295280"/>
              <a:chOff x="5867280" y="2819520"/>
              <a:chExt cx="380880" cy="1295280"/>
            </a:xfrm>
          </p:grpSpPr>
          <p:sp>
            <p:nvSpPr>
              <p:cNvPr id="331" name=""/>
              <p:cNvSpPr/>
              <p:nvPr/>
            </p:nvSpPr>
            <p:spPr>
              <a:xfrm>
                <a:off x="624816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867280" y="2819520"/>
                <a:ext cx="0" cy="129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7280" y="2819520"/>
                <a:ext cx="3808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20040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48520" y="4114800"/>
              <a:ext cx="26668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280" y="4114800"/>
              <a:ext cx="26672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362-CF3E-459B-95F5-792728B05B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F9899-BCAB-4D46-8605-EDE5104A6E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53880" y="4334040"/>
          <a:ext cx="835848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4334040"/>
                    <a:ext cx="835848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319040" y="3276720"/>
          <a:ext cx="6504120" cy="84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3276720"/>
                    <a:ext cx="6504120" cy="847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962520" y="344520"/>
          <a:ext cx="396216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44520"/>
                    <a:ext cx="3962160" cy="866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25600" y="1751040"/>
          <a:ext cx="8084880" cy="12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600" y="1751040"/>
                    <a:ext cx="80848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59040" y="5927760"/>
          <a:ext cx="4894200" cy="70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9040" y="5927760"/>
                    <a:ext cx="4894200" cy="701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6C3-C960-48DD-9AA3-3C998A5BA5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E90E-634B-47C9-80CE-DBADBD1FBB13}" type="datetime1">
              <a:rPr lang="en-US"/>
              <a:t>07/29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: Sinusoi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033560"/>
            <a:ext cx="8226360" cy="58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F36-C7F9-4677-A68E-FC12EB9B0B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4508D-094B-4D4F-813B-43519839618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0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10 all, start Ch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11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12F-3ABA-4BB6-80AB-2E3C113344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1C333-514E-42C7-9E34-6C255ABFA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peration for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T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 exponential input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ine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l part of complex exponent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Series thru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re Analog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90D-1BA8-42E1-AB9B-0E5B1A6812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F6589-BCD7-4FE9-8BA2-6798A7C701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defines an LTI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ponse to a complex exponential gives frequency respons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j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481040"/>
            <a:ext cx="8610480" cy="21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219320" y="4210200"/>
          <a:ext cx="579096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10200"/>
                    <a:ext cx="5790960" cy="1199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15B-F53D-434F-8374-5CCC559243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B601D-F380-454B-8941-AED330411F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—same weigh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DIFFERENT OUTPUT SIGNALS usually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NUSOID IN GIVES SINUSOID OUT”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y(t) is also a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erent Magnitudes and Pha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Sinusoidal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851-B352-4FD5-8E31-E11C9B01E8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4A41B-219C-442E-8454-629C0BB562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ought Process #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UPERPOSITION   (Linearity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x(t) a weighted sum of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ny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x(t) = weighted sum of sinusoid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HOW?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Use FOURIER ANALYSIS INTEG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o find the weights from x(t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changes each sinusoidal compon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487-EA56-49B8-B44B-7F55F58D15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BEA4-370A-4DCF-964F-C2C546A730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80880" y="1676520"/>
                <a:ext cx="8382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↦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057400" y="2438280"/>
                <a:ext cx="4419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2590920" y="1752480"/>
            <a:ext cx="6340320" cy="4965840"/>
            <a:chOff x="2590920" y="1752480"/>
            <a:chExt cx="6340320" cy="4965840"/>
          </a:xfrm>
        </p:grpSpPr>
        <p:sp>
          <p:nvSpPr>
            <p:cNvPr id="106" name=""/>
            <p:cNvSpPr/>
            <p:nvPr/>
          </p:nvSpPr>
          <p:spPr>
            <a:xfrm>
              <a:off x="7086600" y="5486400"/>
              <a:ext cx="184464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requenc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419720" y="4647960"/>
              <a:ext cx="0" cy="609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590920" y="5257800"/>
                  <a:ext cx="434340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sup>
                          </m:sSup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5486400" y="1752480"/>
              <a:ext cx="1447920" cy="6858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3733920"/>
                <a:ext cx="5004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835-0B1A-4364-A8FA-E4C180DD68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9030C-6341-490E-84FB-6843EEE4B6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en does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H(j</a:t>
            </a:r>
            <a:r>
              <a:rPr b="0" i="1" lang="en-US" sz="4000" spc="-1" strike="noStrike">
                <a:solidFill>
                  <a:srgbClr val="0000cc"/>
                </a:solidFill>
                <a:latin typeface="Symbol"/>
                <a:ea typeface="Symbol"/>
              </a:rPr>
              <a:t>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Exist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 is                            ?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the frequency response exists if the LTI system 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b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2514600"/>
          <a:ext cx="723924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23924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89520" y="3886200"/>
          <a:ext cx="40114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89520" y="3886200"/>
                    <a:ext cx="4011480" cy="1136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362320" y="1752480"/>
          <a:ext cx="2438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1752480"/>
                    <a:ext cx="2438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0D9-BCDD-4D0B-A155-97AF2F3526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221AB-3493-4CE4-B59E-C2C8FBF5CF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1T16:03:31Z</cp:lastPrinted>
  <dcterms:modified xsi:type="dcterms:W3CDTF">2006-04-03T14:46:28Z</dcterms:modified>
  <cp:revision>439</cp:revision>
  <dc:subject/>
  <dc:title>SPFirst Lecture #2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