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28.wmf" ContentType="image/x-wmf"/>
  <Override PartName="/ppt/media/image30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4.png" ContentType="image/png"/>
  <Override PartName="/ppt/media/image32.wmf" ContentType="image/x-wmf"/>
  <Override PartName="/ppt/media/image60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31.png" ContentType="image/png"/>
  <Override PartName="/ppt/media/image29.wmf" ContentType="image/x-wmf"/>
  <Override PartName="/ppt/media/image1.png" ContentType="image/png"/>
  <Override PartName="/ppt/media/image62.wmf" ContentType="image/x-wmf"/>
  <Override PartName="/ppt/media/image24.wmf" ContentType="image/x-wmf"/>
  <Override PartName="/ppt/media/image26.png" ContentType="image/png"/>
  <Override PartName="/ppt/media/image61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63.png" ContentType="image/png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19.png" ContentType="image/png"/>
  <Override PartName="/ppt/media/image41.wmf" ContentType="image/x-wmf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1F8-8409-4779-A99E-10780C28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366-7472-4260-90A1-CA2F7CAA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822-BDBF-4ADC-B43D-F5BC9780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BB2-23AE-4966-A720-669F5013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A33-D2EA-419B-8AFE-5FA5EF40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008-E4EB-485D-BF0C-278C8FE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4254-FDAA-4ECD-8F17-6A0EAF9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CB65-9B98-49E0-9690-E484F4B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3C6F-AE03-4CE5-AC4D-29787D3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FECA-CE4C-4F90-918C-6B400021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5F51-E93C-4A24-BE5A-2258DBE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488-E93F-4F21-B671-05F5397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86E8-D04C-4350-9B86-A805D48D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3128-D2A4-480F-809E-FC2FBC5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9ACC-03C7-47AA-8918-2736046F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A17-150D-4BE9-BD00-D514A12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30BE-E26F-4849-B372-8D90BCFE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0FA-1436-4363-BCCF-EAE51C1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3EE-244E-43CA-A4D8-CD116D6A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A0C-24A3-40B0-B8B8-1930A59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F14-77C9-4E8F-8D8C-81D295AA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EAB-C4E7-461F-BFE6-0AD025E8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646-04F1-4A9F-B050-0CBACBA0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8EFD-A1CC-435A-BEFC-1152AD4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F035-F4B4-4B60-9478-C73F70662E9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4470-66C4-4584-8B0B-26D83685C290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E4EF-0009-43AA-9D68-FFB040E4A30F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51A-8C0D-4835-B960-F2EB5646E69B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3.wmf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428640"/>
            <a:ext cx="6858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4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plitude Modulation (AM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14B-0320-4A6D-839B-E557F22EA5E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4B60DF-BDA5-4269-B841-B8F4CC4CA187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PF: Fourier Ser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169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173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25C-EBB6-4DD5-9E9D-006CCB6EE0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76308-5C71-476D-8729-056FDDC1F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he way communication systems work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00360" y="1376280"/>
            <a:ext cx="6581520" cy="5481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75120" y="3352680"/>
            <a:ext cx="4488840" cy="1013400"/>
            <a:chOff x="375120" y="3352680"/>
            <a:chExt cx="4488840" cy="1013400"/>
          </a:xfrm>
        </p:grpSpPr>
        <p:sp>
          <p:nvSpPr>
            <p:cNvPr id="182" name=""/>
            <p:cNvSpPr/>
            <p:nvPr/>
          </p:nvSpPr>
          <p:spPr>
            <a:xfrm>
              <a:off x="375120" y="3662280"/>
              <a:ext cx="2259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How do we share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bandwidth ?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743200" y="3352680"/>
              <a:ext cx="2120760" cy="6098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331-664B-4518-812D-3131F14429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8117E-A31E-4BD1-894B-10052E0D092C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92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35F-ADC4-4326-83AD-6035B82291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C7992-F789-41FB-8348-F2B7816C154B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40194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91E-744A-442E-BC0F-FBA6E878FB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CE46-F5AA-4E87-AFAE-96B328767F01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280" y="380880"/>
                <a:ext cx="8610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3505320"/>
                <a:ext cx="8153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π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58920" y="1752480"/>
                <a:ext cx="80229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5280120"/>
                <a:ext cx="8305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302-2C12-4230-ACF7-370D8530B89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414A0-9F35-48CA-A2C0-6363010FBEB5}" type="datetime1">
              <a:rPr lang="en-US"/>
              <a:t>07/29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Amplitude 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ulat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amplitude of the cosine wave.  The result in the frequency-domain is two shifted copies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8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078-4351-483E-9E36-50298141B5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7F5F0-6218-4084-AC6E-FFD2FC9CED7A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4920" y="190440"/>
                <a:ext cx="87613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47680" y="4237200"/>
                <a:ext cx="887724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" y="1954080"/>
                <a:ext cx="833292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CCE-E2E4-4C9A-8463-6F948328B01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4137B-3E5B-4EED-9F46-FC389B1BEC70}" type="datetime1">
              <a:rPr lang="en-US"/>
              <a:t>07/29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233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6858000" y="6095880"/>
          <a:ext cx="33012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6095880"/>
                    <a:ext cx="3301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828800" y="6095880"/>
          <a:ext cx="533520" cy="32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28800" y="6095880"/>
                    <a:ext cx="533520" cy="3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2298600" y="4595760"/>
            <a:ext cx="6756480" cy="426960"/>
            <a:chOff x="2298600" y="4595760"/>
            <a:chExt cx="6756480" cy="426960"/>
          </a:xfrm>
        </p:grpSpPr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29860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7250040" y="4595760"/>
                  <a:ext cx="1805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0160" y="185760"/>
                <a:ext cx="77122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FD6-0CED-4CC9-9DC0-77AF6B103BD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90A0-041A-44E3-894E-79491CB1FA40}" type="datetime1">
              <a:rPr lang="en-US"/>
              <a:t>07/29/26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4476600"/>
            <a:ext cx="8178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0 for |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the result in the frequency-domain is two shifted and sca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c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j</a:t>
            </a:r>
            <a:r>
              <a:rPr b="0" i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" y="1676520"/>
            <a:ext cx="8610480" cy="2516040"/>
            <a:chOff x="457200" y="1676520"/>
            <a:chExt cx="8610480" cy="251604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57200" y="1676520"/>
              <a:ext cx="8121600" cy="1989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graphicFrame>
          <p:nvGraphicFramePr>
            <p:cNvPr id="251" name=""/>
            <p:cNvGraphicFramePr/>
            <p:nvPr/>
          </p:nvGraphicFramePr>
          <p:xfrm>
            <a:off x="5486400" y="1752480"/>
            <a:ext cx="3052800" cy="42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6400" y="1752480"/>
                      <a:ext cx="305280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"/>
            <p:cNvGraphicFramePr/>
            <p:nvPr/>
          </p:nvGraphicFramePr>
          <p:xfrm>
            <a:off x="761760" y="2482920"/>
            <a:ext cx="1181160" cy="425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1760" y="2482920"/>
                      <a:ext cx="1181160" cy="42552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"/>
            <p:cNvGraphicFramePr/>
            <p:nvPr/>
          </p:nvGraphicFramePr>
          <p:xfrm>
            <a:off x="838080" y="1873080"/>
            <a:ext cx="571680" cy="33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1873080"/>
                      <a:ext cx="571680" cy="3304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"/>
            <p:cNvGraphicFramePr/>
            <p:nvPr/>
          </p:nvGraphicFramePr>
          <p:xfrm>
            <a:off x="2971800" y="3168720"/>
            <a:ext cx="12445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971800" y="3168720"/>
                      <a:ext cx="1244520" cy="3808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259" name=""/>
            <p:cNvGraphicFramePr/>
            <p:nvPr/>
          </p:nvGraphicFramePr>
          <p:xfrm>
            <a:off x="4343400" y="2470320"/>
            <a:ext cx="4724280" cy="172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2470320"/>
                      <a:ext cx="4724280" cy="172224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E57-AFB5-4B8B-9264-2BA3ABAEFF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71437-EE1F-4280-A18D-BCCFBD158A74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Wave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the time-domain, the “envelope” of sine-wave peaks follows |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0B9-F69D-4979-B3E3-B2262C34E8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D4A4-CB10-4BC5-B5BC-A92BFF847461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F9E-2E7F-4375-94B2-8A713CEAD5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7584D-3A91-4B49-9C15-D7A54F2F6B2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585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ouble Sideband AM (DSBA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0360" y="1676520"/>
            <a:ext cx="7980120" cy="4754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38080" y="1574640"/>
            <a:ext cx="20732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ypical”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nput signa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720" y="3911760"/>
            <a:ext cx="238896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Frequency-shifte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pi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645240" y="4292640"/>
            <a:ext cx="2178720" cy="1209240"/>
            <a:chOff x="6645240" y="4292640"/>
            <a:chExt cx="2178720" cy="1209240"/>
          </a:xfrm>
        </p:grpSpPr>
        <p:sp>
          <p:nvSpPr>
            <p:cNvPr id="270" name=""/>
            <p:cNvSpPr/>
            <p:nvPr/>
          </p:nvSpPr>
          <p:spPr>
            <a:xfrm>
              <a:off x="6720120" y="4292640"/>
              <a:ext cx="210384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Upp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645240" y="4740120"/>
              <a:ext cx="380880" cy="761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916080" y="4444920"/>
            <a:ext cx="2271960" cy="1285920"/>
            <a:chOff x="3916080" y="4444920"/>
            <a:chExt cx="2271960" cy="1285920"/>
          </a:xfrm>
        </p:grpSpPr>
        <p:sp>
          <p:nvSpPr>
            <p:cNvPr id="273" name=""/>
            <p:cNvSpPr/>
            <p:nvPr/>
          </p:nvSpPr>
          <p:spPr>
            <a:xfrm>
              <a:off x="3916080" y="4444920"/>
              <a:ext cx="2117880" cy="398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Lower sideband</a:t>
              </a:r>
              <a:endParaRPr b="0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6280" y="4892400"/>
              <a:ext cx="76176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DD0-951A-4584-9D75-AA3E7A51FA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2180-90D1-4C59-93DE-2467AF169298}" type="datetime1">
              <a:rPr lang="en-US"/>
              <a:t>07/29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</a:t>
            </a: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 Black"/>
              </a:rPr>
              <a:t>DE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 Black"/>
              </a:rPr>
              <a:t>modulato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74040" cy="26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417600" y="4195800"/>
          <a:ext cx="7851600" cy="7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600" y="4195800"/>
                    <a:ext cx="78516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47680" y="4946760"/>
          <a:ext cx="8667720" cy="6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4946760"/>
                    <a:ext cx="8667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057400" y="5861160"/>
          <a:ext cx="4419720" cy="463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5861160"/>
                    <a:ext cx="441972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952880" y="2209680"/>
          <a:ext cx="549360" cy="33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2209680"/>
                    <a:ext cx="54936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285040" y="2209680"/>
          <a:ext cx="478080" cy="33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85040" y="2209680"/>
                    <a:ext cx="47808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80960" y="2209680"/>
          <a:ext cx="501840" cy="3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960" y="2209680"/>
                    <a:ext cx="501840" cy="33192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1600200" y="3429000"/>
          <a:ext cx="1027080" cy="355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60020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724280" y="3429000"/>
          <a:ext cx="1027080" cy="355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24280" y="3429000"/>
                    <a:ext cx="102708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3962520" y="1371600"/>
            <a:ext cx="3962160" cy="274320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828800" y="2209680"/>
          <a:ext cx="2222640" cy="355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828800" y="2209680"/>
                    <a:ext cx="2222640" cy="3556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BEF-A59B-44FE-AE76-7D68DA035B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33CEE-5923-4E54-BD82-4E10BE5DE026}" type="datetime1">
              <a:rPr lang="en-US"/>
              <a:t>07/29/26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280" y="1149480"/>
            <a:ext cx="8763120" cy="5124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SBAM Demodulatio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8440" y="6302520"/>
          <a:ext cx="8693280" cy="40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6302520"/>
                    <a:ext cx="8693280" cy="403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5410080" y="3733920"/>
            <a:ext cx="3387960" cy="793800"/>
            <a:chOff x="5410080" y="3733920"/>
            <a:chExt cx="3387960" cy="793800"/>
          </a:xfrm>
        </p:grpSpPr>
        <p:sp>
          <p:nvSpPr>
            <p:cNvPr id="301" name=""/>
            <p:cNvSpPr/>
            <p:nvPr/>
          </p:nvSpPr>
          <p:spPr>
            <a:xfrm flipH="1">
              <a:off x="5410080" y="4114800"/>
              <a:ext cx="5335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5867280" y="3733920"/>
            <a:ext cx="2930760" cy="79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7280" y="3733920"/>
                      <a:ext cx="2930760" cy="79380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83D-5096-4D3B-B57A-818F74C63A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8F3AB-B6FA-4422-989D-E038F6882798}" type="datetime1">
              <a:rPr lang="en-US"/>
              <a:t>07/29/26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Multiplexing (FDM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ifting spectrum of signal to higher frequenc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its transmission of low-frequency signals with high-frequency EM wav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allocating a frequency band  to each signal multip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ndlimit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ignals can share the same chann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: 530-1620 kHz (1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M radio: 88.1-107.9 MHz (200 kHz band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6AA-7EAC-4EB3-9300-15E51EE785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2B85B-9D1E-4287-B297-645709FD0EBF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432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DM Block Diagram (Xmitte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00280" y="1371600"/>
            <a:ext cx="6681600" cy="527364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4191120" y="2666880"/>
            <a:ext cx="1122120" cy="2362320"/>
            <a:chOff x="4191120" y="2666880"/>
            <a:chExt cx="1122120" cy="2362320"/>
          </a:xfrm>
        </p:grpSpPr>
        <p:graphicFrame>
          <p:nvGraphicFramePr>
            <p:cNvPr id="309" name=""/>
            <p:cNvGraphicFramePr/>
            <p:nvPr/>
          </p:nvGraphicFramePr>
          <p:xfrm>
            <a:off x="4191120" y="266688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266688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4191120" y="4673520"/>
            <a:ext cx="1122120" cy="355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4673520"/>
                      <a:ext cx="11221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13" name=""/>
          <p:cNvGrpSpPr/>
          <p:nvPr/>
        </p:nvGrpSpPr>
        <p:grpSpPr>
          <a:xfrm>
            <a:off x="6527880" y="6426360"/>
            <a:ext cx="936720" cy="355320"/>
            <a:chOff x="6527880" y="6426360"/>
            <a:chExt cx="936720" cy="355320"/>
          </a:xfrm>
        </p:grpSpPr>
        <p:graphicFrame>
          <p:nvGraphicFramePr>
            <p:cNvPr id="314" name=""/>
            <p:cNvGraphicFramePr/>
            <p:nvPr/>
          </p:nvGraphicFramePr>
          <p:xfrm>
            <a:off x="6527880" y="6426360"/>
            <a:ext cx="406440" cy="355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27880" y="6426360"/>
                      <a:ext cx="40644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7010280" y="6426360"/>
            <a:ext cx="454320" cy="355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010280" y="6426360"/>
                      <a:ext cx="4543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18" name=""/>
          <p:cNvSpPr/>
          <p:nvPr/>
        </p:nvSpPr>
        <p:spPr>
          <a:xfrm>
            <a:off x="-2520" y="3505320"/>
            <a:ext cx="272592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pectrum of inpu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st be bandlimite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0" y="4351320"/>
          <a:ext cx="2768760" cy="44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351320"/>
                    <a:ext cx="2768760" cy="449280"/>
                  </a:xfrm>
                  <a:prstGeom prst="rect">
                    <a:avLst/>
                  </a:prstGeom>
                  <a:ln w="9360">
                    <a:solidFill>
                      <a:srgbClr val="ffff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AF0-B063-4409-85F6-DE0FAA925E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54C5F-1833-4F34-A863-307E2779D738}" type="datetime1">
              <a:rPr lang="en-US"/>
              <a:t>07/29/26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-Division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8600" y="1160640"/>
            <a:ext cx="8077320" cy="5601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4191120" y="4216320"/>
            <a:ext cx="1122120" cy="1930320"/>
            <a:chOff x="4191120" y="4216320"/>
            <a:chExt cx="1122120" cy="1930320"/>
          </a:xfrm>
        </p:grpSpPr>
        <p:graphicFrame>
          <p:nvGraphicFramePr>
            <p:cNvPr id="324" name=""/>
            <p:cNvGraphicFramePr/>
            <p:nvPr/>
          </p:nvGraphicFramePr>
          <p:xfrm>
            <a:off x="4191120" y="4216320"/>
            <a:ext cx="1098360" cy="355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216320"/>
                      <a:ext cx="109836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4191120" y="5791320"/>
            <a:ext cx="1122120" cy="355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5791320"/>
                      <a:ext cx="1122120" cy="35532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28" name=""/>
          <p:cNvGrpSpPr/>
          <p:nvPr/>
        </p:nvGrpSpPr>
        <p:grpSpPr>
          <a:xfrm>
            <a:off x="5918040" y="2463840"/>
            <a:ext cx="1089360" cy="355680"/>
            <a:chOff x="5918040" y="2463840"/>
            <a:chExt cx="1089360" cy="355680"/>
          </a:xfrm>
        </p:grpSpPr>
        <p:graphicFrame>
          <p:nvGraphicFramePr>
            <p:cNvPr id="329" name=""/>
            <p:cNvGraphicFramePr/>
            <p:nvPr/>
          </p:nvGraphicFramePr>
          <p:xfrm>
            <a:off x="5918040" y="2463840"/>
            <a:ext cx="406440" cy="355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18040" y="2463840"/>
                      <a:ext cx="40644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6553080" y="2463840"/>
            <a:ext cx="454320" cy="355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53080" y="2463840"/>
                      <a:ext cx="454320" cy="355680"/>
                    </a:xfrm>
                    <a:prstGeom prst="rect">
                      <a:avLst/>
                    </a:prstGeom>
                    <a:ln w="9360">
                      <a:solidFill>
                        <a:srgbClr val="ffff66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27A-8C95-4525-92EA-CE5BA91D4C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A2E1D-59B3-4875-956E-328FFC880564}" type="datetime1">
              <a:rPr lang="en-US"/>
              <a:t>07/29/26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Bandpass Filters for De-Mux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84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FDC-9A15-451B-B65A-3A929F68832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AE49A-6A8C-4F77-A101-6B7E4B50A613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Pop Quiz:  FT thru LPF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469960" y="1905120"/>
            <a:ext cx="3429360" cy="1828800"/>
            <a:chOff x="2469960" y="1905120"/>
            <a:chExt cx="3429360" cy="1828800"/>
          </a:xfrm>
        </p:grpSpPr>
        <p:sp>
          <p:nvSpPr>
            <p:cNvPr id="337" name=""/>
            <p:cNvSpPr/>
            <p:nvPr/>
          </p:nvSpPr>
          <p:spPr>
            <a:xfrm flipV="1">
              <a:off x="2470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899320" y="1905120"/>
              <a:ext cx="0" cy="1828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469960" y="1905120"/>
              <a:ext cx="342900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H="1">
            <a:off x="5898960" y="2209680"/>
            <a:ext cx="60948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3733920"/>
            <a:ext cx="80010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191120" y="1676520"/>
            <a:ext cx="0" cy="2133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1760" y="4268880"/>
                <a:ext cx="81327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4</m:t>
                        </m:r>
                        <m:r>
                          <m:t xml:space="preserve">π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82760" y="5638680"/>
                <a:ext cx="84326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the output is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hen find a value for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149560" y="1676520"/>
                <a:ext cx="288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656320" y="3657600"/>
                <a:ext cx="56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076480" y="3657600"/>
                <a:ext cx="799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477120" y="1868400"/>
                <a:ext cx="1752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8481960" y="3684600"/>
                <a:ext cx="357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9AE-FA25-4947-BC89-4ED75982B4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0DE02-2197-468B-BCA0-1DCA32BA984D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 of FT properti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volution &lt;--&gt; multiplic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equency shift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ewave Amplitude Modul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 radio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equency-division multiplex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D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ing: Chapter 12, Section 12-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569-EDD0-4CBE-9764-47E0FB506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98808-70DC-41D7-A401-AA8A5938E123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852-F58B-46E6-891C-79E60B56BF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54165-897F-4D4F-BA0F-2878DC0F0519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387036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87036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309960" y="4703760"/>
            <a:ext cx="5405040" cy="1620720"/>
            <a:chOff x="309960" y="4703760"/>
            <a:chExt cx="5405040" cy="1620720"/>
          </a:xfrm>
        </p:grpSpPr>
        <p:graphicFrame>
          <p:nvGraphicFramePr>
            <p:cNvPr id="111" name=""/>
            <p:cNvGraphicFramePr/>
            <p:nvPr/>
          </p:nvGraphicFramePr>
          <p:xfrm>
            <a:off x="1523880" y="520380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20380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309960" y="4703760"/>
              <a:ext cx="3587040" cy="4597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71A-559A-47C7-BE57-5640E5035F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36625-C458-4B59-BF23-285F0462C07E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2666880"/>
          <a:ext cx="861048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861048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41280" y="5105520"/>
          <a:ext cx="857412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510552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3E9-30BE-42C2-9B61-79377FB91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B83A3-2540-4830-82BD-91783F4B269F}" type="datetime1">
              <a:rPr lang="en-US"/>
              <a:t>07/29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07612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5040" y="1447920"/>
            <a:ext cx="8280360" cy="20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981080" y="4191120"/>
          <a:ext cx="49532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191120"/>
                    <a:ext cx="4953240" cy="958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52880" y="5896080"/>
          <a:ext cx="396252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5896080"/>
                    <a:ext cx="3962520" cy="4284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551640" y="1981080"/>
          <a:ext cx="221148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1640" y="1981080"/>
                    <a:ext cx="221148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8080" y="1905120"/>
          <a:ext cx="552600" cy="31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05120"/>
                    <a:ext cx="552600" cy="318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334120" y="3048120"/>
          <a:ext cx="350496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048120"/>
                    <a:ext cx="3504960" cy="3776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8080" y="304812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04812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377-659D-4704-8039-D536D5CFC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48FC4-B257-4291-A4DE-1715ED10F67C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6A4-DC49-4907-81B5-0FEC6D345D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54FC2-7B25-4BBC-8300-6B1B33A005AD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147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1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8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612-EB9D-43F2-8477-D04BA77754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F68C7-52FA-4969-BE0A-CCF06E4FDC58}" type="datetime1">
              <a:rPr lang="en-US"/>
              <a:t>07/29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 </cp:lastModifiedBy>
  <cp:lastPrinted>1999-11-02T00:50:16Z</cp:lastPrinted>
  <dcterms:modified xsi:type="dcterms:W3CDTF">2005-04-19T18:50:36Z</dcterms:modified>
  <cp:revision>470</cp:revision>
  <dc:subject/>
  <dc:title>SPFirst Lecture #2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