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7B2-1D82-49E4-B5DE-5167D75E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DC1-FBEF-4E73-8BB7-402C5553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C2D-8127-4562-86B7-9C0AA461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87D-B04A-4FCF-BE64-966272CA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D74E-354D-4385-9010-3D1575A3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99B-485B-4D90-96E1-859FAFF6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1F87-824F-4BFF-A0AD-ECCDC7F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9079-AA33-4DEB-A1B7-7EF0386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05A0-ECA0-4802-BFCB-6E865E66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24DC-2784-4E59-890A-4E408130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354B-A093-45D3-9EF7-2434978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C3D-9337-4998-85D6-4FE3A4B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799-5A44-4DCA-80F5-70AE9B9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9C6F-AB26-4DC2-A336-7544A62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E121-E272-413F-BC99-D844ADE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7D44-E51A-4E55-B17F-7F3647E1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F00E-29D8-4E46-9A85-3E43E7CC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F6A-E1E7-487E-A489-F386113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9DD-38FC-47A0-B02F-35436AD4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857-72AA-47ED-9D1C-9F5C2E3E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F28-3EAF-490D-A434-3318AF65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257-88F6-434C-8197-A287E8A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39B-F1CE-4FCB-80EE-54686DB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653-8480-4416-9EEA-3173559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A693-BA4A-41DD-9F48-DCBFDF76A7F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CD0-F40B-495D-B3B0-1B416F73B0C2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0F1-487F-46A1-AC9B-7CC73509CAB1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4804-E17D-48A7-ADA7-DCC725A0349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2320" y="342864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858-1E5E-41B1-B2B7-BB6F5EB8DE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E19AF3-3292-4B27-B17B-B053EEF52D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188760" y="2057400"/>
            <a:ext cx="2660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ULER’s Formul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9480" y="4038480"/>
            <a:ext cx="7010640" cy="838440"/>
            <a:chOff x="609480" y="4038480"/>
            <a:chExt cx="7010640" cy="838440"/>
          </a:xfrm>
        </p:grpSpPr>
        <p:sp>
          <p:nvSpPr>
            <p:cNvPr id="240" name=""/>
            <p:cNvSpPr/>
            <p:nvPr/>
          </p:nvSpPr>
          <p:spPr>
            <a:xfrm>
              <a:off x="609480" y="4419720"/>
              <a:ext cx="7010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4038480"/>
              <a:ext cx="53352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038480"/>
              <a:ext cx="1295280" cy="838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920" y="1806480"/>
                <a:ext cx="5421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828800" y="2666880"/>
                <a:ext cx="5562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828800" y="3505320"/>
                <a:ext cx="4648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43000" y="4648320"/>
                <a:ext cx="6705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030400" y="5486400"/>
                <a:ext cx="4203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37E-71AD-42E4-B546-AB91F05C0F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8A910-E8D5-4ED4-93C6-A9061BF988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REVIOUS LECTURE RE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has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038480" y="3886200"/>
            <a:ext cx="5105520" cy="2440080"/>
            <a:chOff x="4038480" y="388620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038480" y="5391000"/>
                  <a:ext cx="51055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"/>
            <p:cNvSpPr/>
            <p:nvPr/>
          </p:nvSpPr>
          <p:spPr>
            <a:xfrm>
              <a:off x="5181480" y="4572000"/>
              <a:ext cx="0" cy="9158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789240" y="3886200"/>
              <a:ext cx="1238400" cy="1601280"/>
              <a:chOff x="6789240" y="3886200"/>
              <a:chExt cx="1238400" cy="160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7135200" y="388620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789240" y="4323960"/>
                <a:ext cx="330120" cy="11635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7714080" y="4572000"/>
              <a:ext cx="1227600" cy="915480"/>
              <a:chOff x="7714080" y="4572000"/>
              <a:chExt cx="1227600" cy="9154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48720" y="5030640"/>
                <a:ext cx="228600" cy="45684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14080" y="457200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96D-ED74-46FB-A6FF-A801AFB1D8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DB744-2259-4887-928D-3F449E5A9F25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. RESPONSE PLO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NSE GRID </a:t>
            </a: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(ww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rom -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to  +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ww = -pi:(pi/100):pi;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022480" y="4680000"/>
                <a:ext cx="46418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AFB-9BFE-4D31-8E27-B327144E0D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1C7C6-1C54-413B-81A1-70317F6293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65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266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A04-BAA4-412F-9CB1-B72CB9A046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EED42-6D23-4005-A338-5A8223069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D8F-844C-4E43-AFF6-B93D0A3F63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53944-8C0A-4AFD-9319-68BC11B67DB8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46240" y="2637000"/>
                <a:ext cx="75880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  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 flipH="1">
            <a:off x="7315200" y="2133720"/>
            <a:ext cx="53352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6720" y="349416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8680" y="440676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52280" y="5384880"/>
                <a:ext cx="5562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616720" y="5345280"/>
                <a:ext cx="33987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C1C-ABEF-468A-A28A-43239C5087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5DC87-6978-4B9A-A734-7889BCA7E8C0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310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311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191-F929-4498-9D4E-D2AD4A05E5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79CF6-7BEA-42AF-A9EF-CFA916D7F764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1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D0E-ABEC-408B-9467-1E6B9E834B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88A81-3D0D-431B-8D0D-0E7BB4A4F7DF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D4C-EC7E-473D-B36D-38034FBBD0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16FAB-F222-40C7-847E-2169E27E5F70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ultiply the Magnitud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dd the Pha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5280" y="4146480"/>
                <a:ext cx="885060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523880" y="1676520"/>
                <a:ext cx="39420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2286000" y="571500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556272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37B-A73C-4E6A-B44A-92D76265CC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66C97-9F5F-4600-B281-9FDFADF02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2C5-4D35-44EC-9641-C6394CDDED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BF3D-29B7-45E1-9A6D-EE9FF55CE6DB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120680"/>
            <a:ext cx="8153280" cy="5661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0000" y="1143000"/>
            <a:ext cx="8796240" cy="896040"/>
            <a:chOff x="90000" y="1143000"/>
            <a:chExt cx="8796240" cy="896040"/>
          </a:xfrm>
        </p:grpSpPr>
        <p:sp>
          <p:nvSpPr>
            <p:cNvPr id="349" name=""/>
            <p:cNvSpPr/>
            <p:nvPr/>
          </p:nvSpPr>
          <p:spPr>
            <a:xfrm>
              <a:off x="5037480" y="1701720"/>
              <a:ext cx="889560" cy="3373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LTER</a:t>
              </a:r>
              <a:endParaRPr b="0" lang="en-US" sz="1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" y="1341360"/>
              <a:ext cx="62136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80360" y="1143000"/>
              <a:ext cx="605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y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[</a:t>
              </a: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447-6C5D-457E-AB73-7F2BE1F504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CC2A9-5334-49A6-A4A8-3869FCAC2662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600" y="21528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x(t)   (SUM of SINUSOI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of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s ALIASING a PROBLEM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(FIR Gain or Null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y(t)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600" y="1900080"/>
            <a:ext cx="8778960" cy="1635120"/>
            <a:chOff x="228600" y="1900080"/>
            <a:chExt cx="8778960" cy="1635120"/>
          </a:xfrm>
        </p:grpSpPr>
        <p:sp>
          <p:nvSpPr>
            <p:cNvPr id="355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3511440" y="190008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3778200" y="3095640"/>
                  <a:ext cx="35244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6629400" y="309564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8655120" y="3135240"/>
                  <a:ext cx="352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231840" y="3790800"/>
            <a:ext cx="714240" cy="2228760"/>
            <a:chOff x="231840" y="3790800"/>
            <a:chExt cx="714240" cy="2228760"/>
          </a:xfrm>
        </p:grpSpPr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231840" y="4458960"/>
                  <a:ext cx="70632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595440" y="3790800"/>
                  <a:ext cx="3506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595440" y="5695920"/>
                  <a:ext cx="3506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632-E2FB-43FA-BF0A-4F30913954D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EE1C2-959B-4DE5-ADF9-042304FDF7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LIASING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02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087880" y="4876920"/>
                <a:ext cx="39038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75320" y="3735360"/>
                <a:ext cx="1741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D8D-0A91-4064-B345-16478220D5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64EF5-9FEF-4F2B-B7CE-C5CB09EF72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28600" y="1828800"/>
            <a:ext cx="8780400" cy="1600200"/>
            <a:chOff x="228600" y="1828800"/>
            <a:chExt cx="8780400" cy="1600200"/>
          </a:xfrm>
        </p:grpSpPr>
        <p:sp>
          <p:nvSpPr>
            <p:cNvPr id="447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8686800" y="3087720"/>
                  <a:ext cx="32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7" name=""/>
          <p:cNvGrpSpPr/>
          <p:nvPr/>
        </p:nvGrpSpPr>
        <p:grpSpPr>
          <a:xfrm>
            <a:off x="228600" y="4033800"/>
            <a:ext cx="8610840" cy="2700360"/>
            <a:chOff x="228600" y="4033800"/>
            <a:chExt cx="8610840" cy="2700360"/>
          </a:xfrm>
        </p:grpSpPr>
        <p:sp>
          <p:nvSpPr>
            <p:cNvPr id="488" name=""/>
            <p:cNvSpPr/>
            <p:nvPr/>
          </p:nvSpPr>
          <p:spPr>
            <a:xfrm>
              <a:off x="228600" y="4038480"/>
              <a:ext cx="1905120" cy="190512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0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25 Hz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13520" y="4033800"/>
              <a:ext cx="92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304920" y="6019920"/>
                  <a:ext cx="72388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0</m:t>
                      </m:r>
                      <m:r>
                        <m:t xml:space="preserve">)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92440" y="4216320"/>
                <a:ext cx="612756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514600" y="2776680"/>
                <a:ext cx="38862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6E6-B5C2-43E4-B8EB-F0F1A840EF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3855D-A380-43FA-A731-119771FD29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-A FREQUENCY SCA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8178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CONSTRUCT up to 0.5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CAL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28600" y="1905120"/>
            <a:ext cx="8763120" cy="1600200"/>
            <a:chOff x="228600" y="1905120"/>
            <a:chExt cx="8763120" cy="1600200"/>
          </a:xfrm>
        </p:grpSpPr>
        <p:sp>
          <p:nvSpPr>
            <p:cNvPr id="496" name=""/>
            <p:cNvSpPr/>
            <p:nvPr/>
          </p:nvSpPr>
          <p:spPr>
            <a:xfrm>
              <a:off x="3505320" y="1905120"/>
              <a:ext cx="190476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905120"/>
              <a:ext cx="1066680" cy="91440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7920" y="190512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100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6748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" y="236232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560" y="19051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6440" y="190512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63440" y="190512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68320" y="190512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9907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2193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2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37160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609480" y="28951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388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80010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82296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772400" y="29714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838188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620120" y="274320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8600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04812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276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28195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42900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666880" y="289512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12408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943600" y="2590560"/>
              <a:ext cx="0" cy="533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1722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715000" y="297144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32448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562720" y="274320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3533760" y="191304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379260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6688080" y="3124080"/>
                  <a:ext cx="322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1658880" y="318132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8669160" y="316404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6" name=""/>
          <p:cNvSpPr/>
          <p:nvPr/>
        </p:nvSpPr>
        <p:spPr>
          <a:xfrm>
            <a:off x="304920" y="3962520"/>
            <a:ext cx="817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IME SAMPLING: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248520" y="5159520"/>
                <a:ext cx="23619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419720" y="3809880"/>
                <a:ext cx="40161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←</m:t>
                    </m:r>
                    <m:sSub>
                      <m:e>
                        <m:r>
                          <m:t xml:space="preserve">t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63F-CC81-43B1-A33A-E8193CC462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BDB14-B9ED-4D7D-8EFA-E0171E03F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RACK the FREQUENC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" y="1828800"/>
            <a:ext cx="8763120" cy="1600200"/>
            <a:chOff x="228600" y="1828800"/>
            <a:chExt cx="8763120" cy="1600200"/>
          </a:xfrm>
        </p:grpSpPr>
        <p:sp>
          <p:nvSpPr>
            <p:cNvPr id="541" name=""/>
            <p:cNvSpPr/>
            <p:nvPr/>
          </p:nvSpPr>
          <p:spPr>
            <a:xfrm>
              <a:off x="3505320" y="1828800"/>
              <a:ext cx="1904760" cy="91440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080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47920" y="1828800"/>
              <a:ext cx="1066680" cy="91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4100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6748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" y="22860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7560" y="18288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96440" y="1828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63440" y="18288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8320" y="1828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86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9907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2193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2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7160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09480" y="28191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388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0010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296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772400" y="2895480"/>
              <a:ext cx="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838188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620120" y="2666520"/>
              <a:ext cx="0" cy="381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4812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276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8195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42900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666880" y="28191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480" y="30481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943600" y="25146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1722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715000" y="28954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32448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562720" y="26665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533760" y="1836720"/>
                  <a:ext cx="1776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379260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6688080" y="304812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1658880" y="3105000"/>
                  <a:ext cx="322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8669160" y="3087720"/>
                  <a:ext cx="32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81" name=""/>
          <p:cNvSpPr/>
          <p:nvPr/>
        </p:nvSpPr>
        <p:spPr>
          <a:xfrm>
            <a:off x="1157400" y="5715000"/>
            <a:ext cx="1870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s = 10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09680" y="3581280"/>
            <a:ext cx="152424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3581280"/>
            <a:ext cx="1523880" cy="1981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.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05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358128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02240" y="5791320"/>
            <a:ext cx="19760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 new freq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2280" y="3657600"/>
            <a:ext cx="1905120" cy="19051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0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5 Hz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3706920" y="3584520"/>
                <a:ext cx="17794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π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212-1232-486B-AC82-8EED6F5411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276B-C467-4D71-BA70-068EBA1B1C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40864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5885640" y="2057400"/>
            <a:ext cx="2666520" cy="1447920"/>
            <a:chOff x="5885640" y="2057400"/>
            <a:chExt cx="2666520" cy="1447920"/>
          </a:xfrm>
        </p:grpSpPr>
        <p:sp>
          <p:nvSpPr>
            <p:cNvPr id="591" name=""/>
            <p:cNvSpPr/>
            <p:nvPr/>
          </p:nvSpPr>
          <p:spPr>
            <a:xfrm>
              <a:off x="5885640" y="2057400"/>
              <a:ext cx="266652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ULLS or ZERO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62904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238880" y="2514600"/>
              <a:ext cx="15264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8483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019560" y="2514600"/>
              <a:ext cx="152280" cy="990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67280" y="3276720"/>
            <a:ext cx="1436760" cy="2361960"/>
            <a:chOff x="5867280" y="3276720"/>
            <a:chExt cx="1436760" cy="2361960"/>
          </a:xfrm>
        </p:grpSpPr>
        <p:sp>
          <p:nvSpPr>
            <p:cNvPr id="597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24480" y="5486400"/>
              <a:ext cx="152640" cy="15228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400800" y="3428640"/>
              <a:ext cx="0" cy="60948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5867280" y="4038480"/>
                  <a:ext cx="1436760" cy="4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3962520" y="2286000"/>
            <a:ext cx="1600200" cy="3200400"/>
            <a:chOff x="3962520" y="2286000"/>
            <a:chExt cx="1600200" cy="3200400"/>
          </a:xfrm>
        </p:grpSpPr>
        <p:sp>
          <p:nvSpPr>
            <p:cNvPr id="602" name=""/>
            <p:cNvSpPr/>
            <p:nvPr/>
          </p:nvSpPr>
          <p:spPr>
            <a:xfrm>
              <a:off x="4876920" y="228600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6920" y="5334120"/>
              <a:ext cx="152280" cy="152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952880" y="2438280"/>
              <a:ext cx="0" cy="1524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3962520" y="3967200"/>
                  <a:ext cx="160020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C63-0AE7-46D4-BFC4-247EE8E1334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EBF08-1043-47DB-8C5C-3C68D86B8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068560" y="1528920"/>
                <a:ext cx="563868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039760" y="3086280"/>
                <a:ext cx="62661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280" y="2843280"/>
                <a:ext cx="2210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524400" y="4495680"/>
                <a:ext cx="4019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505320" y="57913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0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π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CAC-01A6-4733-BA61-87F3DE84BC6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7A29C-F824-4DD0-A78D-0F077536FC86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VALUAT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50450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257800" y="6553080"/>
            <a:ext cx="8380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24680" y="6553080"/>
            <a:ext cx="8384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2440" y="3657600"/>
            <a:ext cx="122148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= 1000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95280" y="3276720"/>
            <a:ext cx="7182720" cy="3276360"/>
            <a:chOff x="1295280" y="3276720"/>
            <a:chExt cx="7182720" cy="3276360"/>
          </a:xfrm>
        </p:grpSpPr>
        <p:sp>
          <p:nvSpPr>
            <p:cNvPr id="618" name=""/>
            <p:cNvSpPr/>
            <p:nvPr/>
          </p:nvSpPr>
          <p:spPr>
            <a:xfrm>
              <a:off x="6770160" y="3276720"/>
              <a:ext cx="1707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MAG SCAL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33920" y="3352680"/>
              <a:ext cx="304776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5280" y="6553080"/>
              <a:ext cx="83844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76520" y="4191120"/>
              <a:ext cx="1600200" cy="2057400"/>
            </a:xfrm>
            <a:custGeom>
              <a:avLst/>
              <a:gdLst/>
              <a:ahLst/>
              <a:rect l="l" t="t" r="r" b="b"/>
              <a:pathLst>
                <a:path w="1008" h="1296">
                  <a:moveTo>
                    <a:pt x="1008" y="0"/>
                  </a:moveTo>
                  <a:cubicBezTo>
                    <a:pt x="908" y="4"/>
                    <a:pt x="808" y="8"/>
                    <a:pt x="768" y="144"/>
                  </a:cubicBezTo>
                  <a:cubicBezTo>
                    <a:pt x="728" y="280"/>
                    <a:pt x="872" y="696"/>
                    <a:pt x="768" y="816"/>
                  </a:cubicBezTo>
                  <a:cubicBezTo>
                    <a:pt x="664" y="936"/>
                    <a:pt x="271" y="784"/>
                    <a:pt x="144" y="864"/>
                  </a:cubicBezTo>
                  <a:cubicBezTo>
                    <a:pt x="16" y="943"/>
                    <a:pt x="8" y="1119"/>
                    <a:pt x="0" y="1296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809880" y="3962520"/>
            <a:ext cx="4815000" cy="2590560"/>
            <a:chOff x="3809880" y="3962520"/>
            <a:chExt cx="4815000" cy="2590560"/>
          </a:xfrm>
        </p:grpSpPr>
        <p:sp>
          <p:nvSpPr>
            <p:cNvPr id="623" name=""/>
            <p:cNvSpPr/>
            <p:nvPr/>
          </p:nvSpPr>
          <p:spPr>
            <a:xfrm>
              <a:off x="6392880" y="4038480"/>
              <a:ext cx="22320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PHASE CHANG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876560" y="3962520"/>
              <a:ext cx="1523880" cy="3045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09880" y="6553080"/>
              <a:ext cx="8384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0" y="4038480"/>
              <a:ext cx="1014480" cy="2210040"/>
            </a:xfrm>
            <a:custGeom>
              <a:avLst/>
              <a:gdLst/>
              <a:ahLst/>
              <a:rect l="l" t="t" r="r" b="b"/>
              <a:pathLst>
                <a:path w="687" h="1440">
                  <a:moveTo>
                    <a:pt x="48" y="0"/>
                  </a:moveTo>
                  <a:cubicBezTo>
                    <a:pt x="168" y="48"/>
                    <a:pt x="288" y="96"/>
                    <a:pt x="384" y="240"/>
                  </a:cubicBezTo>
                  <a:cubicBezTo>
                    <a:pt x="479" y="383"/>
                    <a:pt x="687" y="664"/>
                    <a:pt x="624" y="864"/>
                  </a:cubicBezTo>
                  <a:cubicBezTo>
                    <a:pt x="560" y="1063"/>
                    <a:pt x="280" y="1251"/>
                    <a:pt x="0" y="144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27160" y="2805120"/>
                <a:ext cx="2442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35000" y="4479840"/>
                <a:ext cx="2568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D3E-DADE-4775-A8D7-3246D93BDD2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900B5-5E85-431D-A95C-B25AD0699BC1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755640" y="403848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27960" y="99072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98840" y="4572000"/>
            <a:ext cx="2972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-PASS 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414520" y="1405080"/>
                <a:ext cx="15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48B-83CB-45E8-A9DA-D0954ECCCE6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F8A7A-064D-41CF-9FBE-85CF52747DA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ter 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465-0601-4DB5-985E-5123142DAA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1C1C8-EFC0-481F-96C0-502FA3E7E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 TYP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W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LURR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ENUATES HIGH FREQUEN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IGH-PASS FILTER 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H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PENING 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OSTS THE HIGH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MOVES D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-PASS FILTER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BP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334120" y="3232080"/>
            <a:ext cx="3733560" cy="30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15-1C8C-42C5-A363-569731AA57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F21AA-3BC2-487C-AE16-4D481700B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 &amp; 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600200" y="1430280"/>
            <a:ext cx="6553080" cy="54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D49-0E28-419B-B36E-6A09F2C778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50B17-5253-44E3-9723-90F313CE7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&amp;W IMAGE with COSIN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233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199840" y="1676520"/>
            <a:ext cx="33444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ILTERED: 11-pt AV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9A9-8E4D-48FF-9797-8DEE50118DB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B8F0-55B6-4BC4-B912-603D40A284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838080" y="1557360"/>
            <a:ext cx="6400800" cy="53006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7409160" y="3124080"/>
            <a:ext cx="10249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PF: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U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292-B65A-4DF3-818B-DF314DD386F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586E7-D9FF-4490-8BC7-73C7CF06A3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OW of B&amp;W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339084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464480" y="1828800"/>
            <a:ext cx="204624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LACK = 255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7960" y="5257800"/>
            <a:ext cx="17262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ITE = 0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FE8-25D0-41F4-951A-8FA0C07D1CB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07460-64F5-45A5-96E1-DAC3D3F3D9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ED ROW of IMA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8839080" cy="3409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21000" y="5396040"/>
            <a:ext cx="6176160" cy="5814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DJUSTED DELAY by 5 samp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318-D9AA-4F82-8AEE-EFD01FA1F45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AC365-49E3-48E6-B6AF-87E4A371A4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495680" y="4724280"/>
                <a:ext cx="39751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638680" y="54864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18000" y="586728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428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1CD-45F1-453B-9BE1-FC8BCA384F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51392-EB65-4663-8891-B5F4C382A761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PLETELY CHARACTERIZ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y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PULSE RESPONS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[n]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time domai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back and forth QUICK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86000" y="3962520"/>
            <a:ext cx="6248520" cy="804600"/>
            <a:chOff x="2286000" y="3962520"/>
            <a:chExt cx="6248520" cy="804600"/>
          </a:xfrm>
        </p:grpSpPr>
        <p:graphicFrame>
          <p:nvGraphicFramePr>
            <p:cNvPr id="671" name=""/>
            <p:cNvGraphicFramePr/>
            <p:nvPr/>
          </p:nvGraphicFramePr>
          <p:xfrm>
            <a:off x="3429000" y="4038480"/>
            <a:ext cx="396252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038480"/>
                      <a:ext cx="3962520" cy="728640"/>
                    </a:xfrm>
                    <a:prstGeom prst="rect">
                      <a:avLst/>
                    </a:prstGeom>
                    <a:ln w="5724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228600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91520" y="4419720"/>
              <a:ext cx="1143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497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x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47120" y="396252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y[n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559-D1B3-4383-B7E7-3E2846708D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3E796-0027-412A-B508-D5CB1FAA895D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 thru FI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86800" cy="50896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 flipH="1" flipV="1">
            <a:off x="3809520" y="2437920"/>
            <a:ext cx="685800" cy="25909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038480"/>
            <a:ext cx="3276720" cy="76212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7101000" y="3765600"/>
            <a:ext cx="1788840" cy="2711520"/>
            <a:chOff x="7101000" y="3765600"/>
            <a:chExt cx="1788840" cy="2711520"/>
          </a:xfrm>
        </p:grpSpPr>
        <p:sp>
          <p:nvSpPr>
            <p:cNvPr id="682" name=""/>
            <p:cNvSpPr/>
            <p:nvPr/>
          </p:nvSpPr>
          <p:spPr>
            <a:xfrm>
              <a:off x="754380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01000" y="3765600"/>
              <a:ext cx="17884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DD PHASE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53280" y="4191120"/>
              <a:ext cx="736560" cy="1828800"/>
            </a:xfrm>
            <a:custGeom>
              <a:avLst/>
              <a:gdLst/>
              <a:ahLst/>
              <a:rect l="l" t="t" r="r" b="b"/>
              <a:pathLst>
                <a:path w="464" h="1152">
                  <a:moveTo>
                    <a:pt x="0" y="0"/>
                  </a:moveTo>
                  <a:cubicBezTo>
                    <a:pt x="199" y="71"/>
                    <a:pt x="399" y="143"/>
                    <a:pt x="432" y="336"/>
                  </a:cubicBezTo>
                  <a:cubicBezTo>
                    <a:pt x="464" y="528"/>
                    <a:pt x="328" y="840"/>
                    <a:pt x="192" y="115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276720" y="3003480"/>
            <a:ext cx="5443200" cy="3473640"/>
            <a:chOff x="3276720" y="3003480"/>
            <a:chExt cx="5443200" cy="3473640"/>
          </a:xfrm>
        </p:grpSpPr>
        <p:sp>
          <p:nvSpPr>
            <p:cNvPr id="686" name=""/>
            <p:cNvSpPr/>
            <p:nvPr/>
          </p:nvSpPr>
          <p:spPr>
            <a:xfrm>
              <a:off x="3276720" y="6019920"/>
              <a:ext cx="1143000" cy="457200"/>
            </a:xfrm>
            <a:prstGeom prst="rect">
              <a:avLst/>
            </a:prstGeom>
            <a:noFill/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38520" y="3003480"/>
              <a:ext cx="23814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MULTIPLY MAGS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3429000"/>
              <a:ext cx="2297160" cy="2590920"/>
            </a:xfrm>
            <a:custGeom>
              <a:avLst/>
              <a:gdLst/>
              <a:ahLst/>
              <a:rect l="l" t="t" r="r" b="b"/>
              <a:pathLst>
                <a:path w="1447" h="1632">
                  <a:moveTo>
                    <a:pt x="1296" y="0"/>
                  </a:moveTo>
                  <a:cubicBezTo>
                    <a:pt x="1364" y="172"/>
                    <a:pt x="1432" y="344"/>
                    <a:pt x="1440" y="480"/>
                  </a:cubicBezTo>
                  <a:cubicBezTo>
                    <a:pt x="1447" y="615"/>
                    <a:pt x="1440" y="736"/>
                    <a:pt x="1344" y="816"/>
                  </a:cubicBezTo>
                  <a:cubicBezTo>
                    <a:pt x="1248" y="896"/>
                    <a:pt x="975" y="888"/>
                    <a:pt x="864" y="960"/>
                  </a:cubicBezTo>
                  <a:cubicBezTo>
                    <a:pt x="752" y="1031"/>
                    <a:pt x="719" y="1176"/>
                    <a:pt x="672" y="1248"/>
                  </a:cubicBezTo>
                  <a:cubicBezTo>
                    <a:pt x="624" y="1319"/>
                    <a:pt x="687" y="1328"/>
                    <a:pt x="576" y="1392"/>
                  </a:cubicBezTo>
                  <a:cubicBezTo>
                    <a:pt x="464" y="1455"/>
                    <a:pt x="232" y="1543"/>
                    <a:pt x="0" y="1632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 flipH="1">
            <a:off x="6019920" y="4495680"/>
            <a:ext cx="1676160" cy="13716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5EA-F260-40D5-AD21-33AF073BC0E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B6277-BC0F-4E93-9D97-5DE0FB9CE4A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wo Domains: Time &amp; Frequenc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ack the spectrum of x[n] thru an FIR Filter: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Sinusoid-IN gives Sinusoid-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does Frequency Response affect x(t) to produce y(t) 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4800600"/>
            <a:ext cx="8001000" cy="1590840"/>
            <a:chOff x="457200" y="4800600"/>
            <a:chExt cx="8001000" cy="1590840"/>
          </a:xfrm>
        </p:grpSpPr>
        <p:sp>
          <p:nvSpPr>
            <p:cNvPr id="93" name=""/>
            <p:cNvSpPr/>
            <p:nvPr/>
          </p:nvSpPr>
          <p:spPr>
            <a:xfrm>
              <a:off x="3505320" y="480564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D-to-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4805640"/>
              <a:ext cx="106668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A-to-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6748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526284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560" y="480564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x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6440" y="480564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y(t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3440" y="4805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8320" y="4805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3583080" y="4800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"/>
            <p:cNvSpPr/>
            <p:nvPr/>
          </p:nvSpPr>
          <p:spPr>
            <a:xfrm>
              <a:off x="4116240" y="57200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89548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1240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666880" y="5720040"/>
              <a:ext cx="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27672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2514600" y="5871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6100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943600" y="5567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1722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715000" y="5948280"/>
              <a:ext cx="0" cy="152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32448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562720" y="5795640"/>
              <a:ext cx="0" cy="304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657600" y="6024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705720" y="6024600"/>
                  <a:ext cx="29340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8F9-85F0-4182-91FE-B17246DF5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78B8B-78BC-4484-AD60-E78C355EF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1304640" y="3124080"/>
            <a:ext cx="6345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R DIFFERENCE EQUATION is the TIME-DOMAI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3720" y="1555920"/>
                <a:ext cx="8069400" cy="15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7520" y="3686040"/>
                <a:ext cx="54003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680" y="5560920"/>
                <a:ext cx="9082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EB8-1E2C-4FCA-BEE3-0A304AB807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37AA8-6335-4326-857E-0E607382D9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 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795920"/>
            <a:ext cx="4572000" cy="1224000"/>
            <a:chOff x="1219320" y="4795920"/>
            <a:chExt cx="4572000" cy="1224000"/>
          </a:xfrm>
        </p:grpSpPr>
        <p:sp>
          <p:nvSpPr>
            <p:cNvPr id="127" name=""/>
            <p:cNvSpPr/>
            <p:nvPr/>
          </p:nvSpPr>
          <p:spPr>
            <a:xfrm>
              <a:off x="2514600" y="4800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5257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5257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080" y="4800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7960" y="4800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9810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2096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5248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36232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600200" y="5790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6019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952880" y="5486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1814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24280" y="5867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33412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2000" y="5638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2592360" y="4795920"/>
                  <a:ext cx="18223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1219320" y="2895480"/>
            <a:ext cx="3886200" cy="914400"/>
            <a:chOff x="1219320" y="2895480"/>
            <a:chExt cx="3886200" cy="914400"/>
          </a:xfrm>
        </p:grpSpPr>
        <p:sp>
          <p:nvSpPr>
            <p:cNvPr id="146" name=""/>
            <p:cNvSpPr/>
            <p:nvPr/>
          </p:nvSpPr>
          <p:spPr>
            <a:xfrm>
              <a:off x="2209680" y="28954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33526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33526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8160" y="28954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304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2622600" y="297972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38680" y="3733920"/>
                <a:ext cx="3009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43720" y="2666880"/>
                <a:ext cx="2997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432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715000" y="5943600"/>
                <a:ext cx="293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9E8-D474-47D3-881E-B12DB799F3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DA0BD-103C-4D7D-9A4F-863B6CBCE912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by 2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961680" y="4038480"/>
            <a:ext cx="1767240" cy="1297800"/>
            <a:chOff x="6961680" y="4038480"/>
            <a:chExt cx="1767240" cy="1297800"/>
          </a:xfrm>
        </p:grpSpPr>
        <p:sp>
          <p:nvSpPr>
            <p:cNvPr id="159" name=""/>
            <p:cNvSpPr/>
            <p:nvPr/>
          </p:nvSpPr>
          <p:spPr>
            <a:xfrm>
              <a:off x="6961680" y="4876560"/>
              <a:ext cx="176724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 2 ONL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554600" y="4038480"/>
              <a:ext cx="0" cy="83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828800" y="26668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1240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124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280" y="26668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2160" y="2666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28800" y="2751120"/>
                <a:ext cx="191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8960" y="1731960"/>
                <a:ext cx="7972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90840" y="3254400"/>
                <a:ext cx="46785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54000" y="4100400"/>
            <a:ext cx="3832200" cy="866880"/>
            <a:chOff x="54000" y="4100400"/>
            <a:chExt cx="3832200" cy="866880"/>
          </a:xfrm>
        </p:grpSpPr>
        <p:sp>
          <p:nvSpPr>
            <p:cNvPr id="170" name=""/>
            <p:cNvSpPr/>
            <p:nvPr/>
          </p:nvSpPr>
          <p:spPr>
            <a:xfrm>
              <a:off x="1523880" y="4102200"/>
              <a:ext cx="2362320" cy="85068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000" y="41004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1371600" y="4876920"/>
            <a:ext cx="4789440" cy="1509480"/>
            <a:chOff x="1371600" y="4876920"/>
            <a:chExt cx="4789440" cy="1509480"/>
          </a:xfrm>
        </p:grpSpPr>
        <p:grpSp>
          <p:nvGrpSpPr>
            <p:cNvPr id="173" name=""/>
            <p:cNvGrpSpPr/>
            <p:nvPr/>
          </p:nvGrpSpPr>
          <p:grpSpPr>
            <a:xfrm>
              <a:off x="1371600" y="4876920"/>
              <a:ext cx="4572000" cy="1218960"/>
              <a:chOff x="1371600" y="4876920"/>
              <a:chExt cx="4572000" cy="1218960"/>
            </a:xfrm>
          </p:grpSpPr>
          <p:sp>
            <p:nvSpPr>
              <p:cNvPr id="174" name=""/>
              <p:cNvSpPr/>
              <p:nvPr/>
            </p:nvSpPr>
            <p:spPr>
              <a:xfrm>
                <a:off x="2666880" y="4876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76520" y="5334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72000" y="5334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725360" y="4876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30240" y="4876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716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1337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23623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90512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51460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752480" y="58669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43400" y="60958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105520" y="55623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3341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876920" y="59432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48640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724280" y="57150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2867040" y="4876920"/>
                    <a:ext cx="1476360" cy="863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8954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867280" y="60199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A78-2255-42DB-9F3F-98E1CB99C1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6D827-665F-4DD1-B116-28917FD8B19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37160" y="4419360"/>
            <a:ext cx="2625120" cy="1927800"/>
            <a:chOff x="2837160" y="4419360"/>
            <a:chExt cx="2625120" cy="1927800"/>
          </a:xfrm>
        </p:grpSpPr>
        <p:sp>
          <p:nvSpPr>
            <p:cNvPr id="196" name=""/>
            <p:cNvSpPr/>
            <p:nvPr/>
          </p:nvSpPr>
          <p:spPr>
            <a:xfrm>
              <a:off x="2837160" y="5105520"/>
              <a:ext cx="2625120" cy="12416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ONLY ONE 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non-ZERO TE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for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at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= 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429000" y="4419360"/>
              <a:ext cx="0" cy="6858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67280" y="3505320"/>
            <a:ext cx="137160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560" y="3544920"/>
                <a:ext cx="6581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9840" y="1657440"/>
                <a:ext cx="8216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5280" y="2666880"/>
                <a:ext cx="3254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F34-1027-4111-BB0E-9C7ADA6145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B8E37-8C4A-455A-96DD-50F6D29E1EF0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 DOMAIN --&gt; TIME ??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RT with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5880" y="1752480"/>
                <a:ext cx="5332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or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19600" y="3727440"/>
                <a:ext cx="50958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762120" y="2743200"/>
            <a:ext cx="6243480" cy="914400"/>
            <a:chOff x="762120" y="2743200"/>
            <a:chExt cx="6243480" cy="914400"/>
          </a:xfrm>
        </p:grpSpPr>
        <p:grpSp>
          <p:nvGrpSpPr>
            <p:cNvPr id="207" name=""/>
            <p:cNvGrpSpPr/>
            <p:nvPr/>
          </p:nvGrpSpPr>
          <p:grpSpPr>
            <a:xfrm>
              <a:off x="762120" y="2743200"/>
              <a:ext cx="3886200" cy="914400"/>
              <a:chOff x="762120" y="2743200"/>
              <a:chExt cx="3886200" cy="914400"/>
            </a:xfrm>
          </p:grpSpPr>
          <p:sp>
            <p:nvSpPr>
              <p:cNvPr id="208" name=""/>
              <p:cNvSpPr/>
              <p:nvPr/>
            </p:nvSpPr>
            <p:spPr>
              <a:xfrm>
                <a:off x="1752480" y="27432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2120" y="32004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7600" y="32004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10960" y="27432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15840" y="27432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2165400" y="2827440"/>
                    <a:ext cx="1093680" cy="72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135400" y="2768760"/>
                  <a:ext cx="18702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457200" y="4648320"/>
            <a:ext cx="4789440" cy="1509480"/>
            <a:chOff x="457200" y="4648320"/>
            <a:chExt cx="4789440" cy="1509480"/>
          </a:xfrm>
        </p:grpSpPr>
        <p:grpSp>
          <p:nvGrpSpPr>
            <p:cNvPr id="216" name=""/>
            <p:cNvGrpSpPr/>
            <p:nvPr/>
          </p:nvGrpSpPr>
          <p:grpSpPr>
            <a:xfrm>
              <a:off x="457200" y="4648320"/>
              <a:ext cx="4572000" cy="1218960"/>
              <a:chOff x="457200" y="4648320"/>
              <a:chExt cx="4572000" cy="1218960"/>
            </a:xfrm>
          </p:grpSpPr>
          <p:sp>
            <p:nvSpPr>
              <p:cNvPr id="217" name=""/>
              <p:cNvSpPr/>
              <p:nvPr/>
            </p:nvSpPr>
            <p:spPr>
              <a:xfrm>
                <a:off x="1752480" y="46483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2120" y="51055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57600" y="51055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10960" y="46483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5840" y="46483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72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2193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4479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99072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60020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838080" y="563832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29000" y="586728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191120" y="5333760"/>
                <a:ext cx="0" cy="5331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4197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962520" y="5714640"/>
                <a:ext cx="0" cy="152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457200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809880" y="5486400"/>
                <a:ext cx="0" cy="3808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"/>
                  <p:cNvSpPr txBox="1"/>
                  <p:nvPr/>
                </p:nvSpPr>
                <p:spPr>
                  <a:xfrm>
                    <a:off x="1830240" y="471024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810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952880" y="5791320"/>
                  <a:ext cx="2937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7A0-7E54-403A-8A83-043EDB31FF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81C80-B083-462D-B662-19013BA026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0-01T12:26:52Z</cp:lastPrinted>
  <dcterms:modified xsi:type="dcterms:W3CDTF">2003-10-06T16:20:38Z</dcterms:modified>
  <cp:revision>305</cp:revision>
  <dc:subject/>
  <dc:title>SPFirst Lecture #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