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2.wmf" ContentType="image/x-wmf"/>
  <Override PartName="/ppt/media/image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10.wmf" ContentType="image/x-wmf"/>
  <Override PartName="/ppt/media/image47.wmf" ContentType="image/x-wmf"/>
  <Override PartName="/ppt/media/image6.wmf" ContentType="image/x-wmf"/>
  <Override PartName="/ppt/media/image26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4.wmf" ContentType="image/x-wmf"/>
  <Override PartName="/ppt/media/image49.png" ContentType="image/png"/>
  <Override PartName="/ppt/media/image52.wmf" ContentType="image/x-wmf"/>
  <Override PartName="/ppt/media/image32.png" ContentType="image/png"/>
  <Override PartName="/ppt/media/image39.wmf" ContentType="image/x-wmf"/>
  <Override PartName="/ppt/media/image41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2.png" ContentType="image/png"/>
  <Override PartName="/ppt/media/image53.wmf" ContentType="image/x-wmf"/>
  <Override PartName="/ppt/media/image33.png" ContentType="image/png"/>
  <Override PartName="/ppt/media/image54.wmf" ContentType="image/x-wmf"/>
  <Override PartName="/ppt/media/image9.png" ContentType="image/png"/>
  <Override PartName="/ppt/media/image40.wmf" ContentType="image/x-wmf"/>
  <Override PartName="/ppt/media/image37.png" ContentType="image/png"/>
  <Override PartName="/ppt/media/image36.png" ContentType="image/png"/>
  <Override PartName="/ppt/media/image31.wmf" ContentType="image/x-wmf"/>
  <Override PartName="/ppt/media/image30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FB9-D56B-4AB0-8216-13116E2B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C5C-F0E0-4133-85F3-889C028E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995-8F75-4677-92B9-738D098C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9A6-D616-4412-8B7D-77A465B0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5848-AE6C-423E-848A-37999D8E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70A5-F108-4EF3-92F2-59A2886B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E8FA-DAE7-47F0-B28E-45D9BA81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DF9E-A5F3-49BB-AF57-F8DA9AF8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539A-7F95-4E80-8C83-E2A47493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030B-2F30-44DA-A325-D963BC46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6B9A-F8B6-48C9-8747-C734DCEF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C7D-0D2D-4B6C-9310-50914C53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265F-448E-4843-B134-46E06FE1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4657-4B16-40C0-A587-0EF44270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F335-BE1C-4139-848B-DDBE8CB4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411D-B1DE-4DCB-AFCE-6BAC4F38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A7EC-8EA8-4880-9980-264A8204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2E2-856A-416B-98E2-D18C703D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EEF-988C-4AA5-BFA0-339A2143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45C2-BB4D-43E2-AA04-B71BD0EC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690-EE5E-4154-91F1-F82BFEDE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593-262C-45EC-8104-633D63FC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9895-D0DF-44A3-8B72-0B6CCA22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5F1-DB69-4E02-8B3E-B1B105AD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763E-64B0-4060-8CC2-22FBEDEFC66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2BC8-C56C-445A-9068-E09E1EDF7C8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E8A4-F85B-433A-BBA7-B841042E61E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8FE2-019D-4A49-895F-3F329574E24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360" y="3428640"/>
            <a:ext cx="65530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7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IR Filters: H(z) a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equency Respons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701A-780E-424B-B57B-FD1CC730360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F644F09-AFC9-4A51-A8C8-5CE22D8992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990720" y="2819520"/>
          <a:ext cx="685800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6858000" cy="59832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of IIR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RIVE the SYSTEM FUNCTION 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DELAY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PROPER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85800" y="4792680"/>
            <a:ext cx="76201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914400" y="3429000"/>
            <a:ext cx="7016760" cy="1058760"/>
            <a:chOff x="914400" y="3429000"/>
            <a:chExt cx="7016760" cy="1058760"/>
          </a:xfrm>
        </p:grpSpPr>
        <p:graphicFrame>
          <p:nvGraphicFramePr>
            <p:cNvPr id="149" name=""/>
            <p:cNvGraphicFramePr/>
            <p:nvPr/>
          </p:nvGraphicFramePr>
          <p:xfrm>
            <a:off x="914400" y="3809880"/>
            <a:ext cx="7016760" cy="677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914400" y="3809880"/>
                      <a:ext cx="7016760" cy="677880"/>
                    </a:xfrm>
                    <a:prstGeom prst="rect">
                      <a:avLst/>
                    </a:prstGeom>
                    <a:ln w="2844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 flipH="1">
              <a:off x="3048120" y="3429000"/>
              <a:ext cx="30456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857640" y="3429000"/>
              <a:ext cx="30492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61360" y="4648320"/>
            <a:ext cx="41079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ASIER with DELAY PROPERTY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8B5-00E5-45FC-A521-9BA58BEF15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0FC8A-F0CB-4693-BA32-FD08A65140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371600" y="4780080"/>
          <a:ext cx="621828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780080"/>
                    <a:ext cx="6218280" cy="131580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YSTEM FUNCTION of I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TE the FILTER COEFFICIEN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724280"/>
            <a:ext cx="2286000" cy="137160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71600" y="2666880"/>
          <a:ext cx="701676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666880"/>
                    <a:ext cx="7016760" cy="67788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371600" y="3657600"/>
          <a:ext cx="621972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657600"/>
                    <a:ext cx="6219720" cy="67788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1F7-A139-4A6F-B177-4269AA13A7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57797-7390-49C9-B2B8-0A95F88E61AC}" type="datetime1">
              <a:rPr lang="en-US"/>
              <a:t>07/29/26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YSTEM FUNC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FFERENCE EQUA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READ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FILTER COEFF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212840" y="2590920"/>
                <a:ext cx="7175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625760" y="4262400"/>
                <a:ext cx="5918040" cy="18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7" name=""/>
          <p:cNvGrpSpPr/>
          <p:nvPr/>
        </p:nvGrpSpPr>
        <p:grpSpPr>
          <a:xfrm>
            <a:off x="6095880" y="3449520"/>
            <a:ext cx="1866600" cy="1274760"/>
            <a:chOff x="6095880" y="3449520"/>
            <a:chExt cx="1866600" cy="1274760"/>
          </a:xfrm>
        </p:grpSpPr>
        <p:sp>
          <p:nvSpPr>
            <p:cNvPr id="168" name=""/>
            <p:cNvSpPr/>
            <p:nvPr/>
          </p:nvSpPr>
          <p:spPr>
            <a:xfrm flipH="1">
              <a:off x="6095880" y="3657600"/>
              <a:ext cx="990720" cy="10666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12080" y="3449520"/>
              <a:ext cx="950400" cy="5814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H(z)</a:t>
              </a:r>
              <a:endParaRPr b="0" lang="en-US" sz="3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892C-9182-4E65-805E-EA668C663F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2D2E5-55D6-4034-9BCA-60C0203CAC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MULTIPLICA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z-TRANSFOR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CONVOLU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 TIME-DOMA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2767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32767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572000" y="2590920"/>
                <a:ext cx="3422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447920" y="2666880"/>
                <a:ext cx="10443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514680" y="5049720"/>
                <a:ext cx="919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1995480" y="53341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62360" y="53341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748040" y="4648320"/>
                <a:ext cx="34196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905120" y="4765680"/>
                <a:ext cx="919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2819520" y="2819520"/>
            <a:ext cx="1447560" cy="914400"/>
          </a:xfrm>
          <a:prstGeom prst="rect">
            <a:avLst/>
          </a:prstGeom>
          <a:solidFill>
            <a:srgbClr val="ffcc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4876920"/>
            <a:ext cx="1447560" cy="9144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48120" y="2971800"/>
                <a:ext cx="1085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 flipV="1">
            <a:off x="2133720" y="5486040"/>
            <a:ext cx="1371600" cy="6858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791320"/>
            <a:ext cx="198108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MPULSE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E2F-9E3E-4D77-A7D8-792AE62DEC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FA500-C73C-4452-9361-0BD10D011B07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LES &amp; ZERO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OOTS of Numerator &amp; Denominato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5594400"/>
            <a:ext cx="29718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LE: H(z) </a:t>
            </a:r>
            <a:r>
              <a:rPr b="1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inf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4267080"/>
            <a:ext cx="137160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ERO: H(z)=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2514600"/>
          <a:ext cx="645804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6458040" cy="12319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600200" y="3962520"/>
          <a:ext cx="4441680" cy="115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962520"/>
                    <a:ext cx="4441680" cy="11556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828800" y="5486400"/>
          <a:ext cx="365760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5486400"/>
                    <a:ext cx="3657600" cy="5223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280-9EC9-474E-B689-1814FC561C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940F9-5C42-4E94-B5E1-6CEE04901C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: Poles &amp; Zero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LUE of H(z) at POLES is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NFINIT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05320"/>
            <a:ext cx="25146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LE at z=0.8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4086360"/>
            <a:ext cx="236196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ERO at z= -1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143000" y="2563920"/>
                <a:ext cx="4572000" cy="38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5A6-83EC-4D64-B6B7-50EA97D84D1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A438A-427E-4C08-B9E6-86D00C47D287}" type="datetime1">
              <a:rPr lang="en-US"/>
              <a:t>07/29/26</a:t>
            </a:fld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LE-ZERO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991400" cy="397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95280" y="4495680"/>
                <a:ext cx="204300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4" name=""/>
          <p:cNvGrpSpPr/>
          <p:nvPr/>
        </p:nvGrpSpPr>
        <p:grpSpPr>
          <a:xfrm>
            <a:off x="533520" y="2257560"/>
            <a:ext cx="3733560" cy="1247760"/>
            <a:chOff x="533520" y="2257560"/>
            <a:chExt cx="3733560" cy="1247760"/>
          </a:xfrm>
        </p:grpSpPr>
        <p:sp>
          <p:nvSpPr>
            <p:cNvPr id="205" name=""/>
            <p:cNvSpPr/>
            <p:nvPr/>
          </p:nvSpPr>
          <p:spPr>
            <a:xfrm>
              <a:off x="533520" y="2257560"/>
              <a:ext cx="251460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ZERO at z = -1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48120" y="2425680"/>
              <a:ext cx="1218960" cy="1079640"/>
            </a:xfrm>
            <a:custGeom>
              <a:avLst/>
              <a:gdLst/>
              <a:ahLst/>
              <a:rect l="l" t="t" r="r" b="b"/>
              <a:pathLst>
                <a:path w="768" h="680">
                  <a:moveTo>
                    <a:pt x="0" y="56"/>
                  </a:moveTo>
                  <a:cubicBezTo>
                    <a:pt x="224" y="28"/>
                    <a:pt x="448" y="0"/>
                    <a:pt x="576" y="104"/>
                  </a:cubicBezTo>
                  <a:cubicBezTo>
                    <a:pt x="703" y="207"/>
                    <a:pt x="735" y="443"/>
                    <a:pt x="768" y="68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750000" y="3657600"/>
            <a:ext cx="1936800" cy="1359000"/>
            <a:chOff x="6750000" y="3657600"/>
            <a:chExt cx="1936800" cy="1359000"/>
          </a:xfrm>
        </p:grpSpPr>
        <p:sp>
          <p:nvSpPr>
            <p:cNvPr id="208" name=""/>
            <p:cNvSpPr/>
            <p:nvPr/>
          </p:nvSpPr>
          <p:spPr>
            <a:xfrm>
              <a:off x="7162920" y="4191120"/>
              <a:ext cx="152388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POLE a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z = 0.8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6750000" y="3657600"/>
              <a:ext cx="488880" cy="533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06FC-E1D5-4DF6-9BD9-7FF39F7DB62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EED4A-6413-4432-BB26-F14B546EEA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YSTEM FUNCTION: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(z) has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NOMINATO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REQUENCY RESPONSE of II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 have H(z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REE-DOMAIN APPROAC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429000" y="3886200"/>
                <a:ext cx="57150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209680" y="5486400"/>
                <a:ext cx="57913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«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«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2743200" y="61722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5867280"/>
            <a:ext cx="228600" cy="990720"/>
          </a:xfrm>
          <a:prstGeom prst="upArrow">
            <a:avLst>
              <a:gd name="adj1" fmla="val 50000"/>
              <a:gd name="adj2" fmla="val 108346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62485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15000" y="1905120"/>
            <a:ext cx="1676520" cy="380880"/>
          </a:xfrm>
          <a:prstGeom prst="leftArrow">
            <a:avLst>
              <a:gd name="adj1" fmla="val 55833"/>
              <a:gd name="adj2" fmla="val 77213"/>
            </a:avLst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162920" y="1981080"/>
            <a:ext cx="380880" cy="2210040"/>
          </a:xfrm>
          <a:prstGeom prst="downArrow">
            <a:avLst>
              <a:gd name="adj1" fmla="val 50000"/>
              <a:gd name="adj2" fmla="val 110891"/>
            </a:avLst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FBE-1C1A-4126-A980-9F34134596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598DC-7799-4EE3-8ACF-2A6355937D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ALUATE on the UNIT CIRCL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219320" y="2438280"/>
                <a:ext cx="57150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6896160" cy="2629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629400" y="3505320"/>
            <a:ext cx="1828800" cy="1600200"/>
          </a:xfrm>
          <a:custGeom>
            <a:avLst/>
            <a:gdLst/>
            <a:ahLst/>
            <a:rect l="l" t="t" r="r" b="b"/>
            <a:pathLst>
              <a:path w="1032" h="912">
                <a:moveTo>
                  <a:pt x="0" y="192"/>
                </a:moveTo>
                <a:cubicBezTo>
                  <a:pt x="180" y="96"/>
                  <a:pt x="360" y="0"/>
                  <a:pt x="528" y="48"/>
                </a:cubicBezTo>
                <a:cubicBezTo>
                  <a:pt x="695" y="95"/>
                  <a:pt x="983" y="335"/>
                  <a:pt x="1008" y="480"/>
                </a:cubicBezTo>
                <a:cubicBezTo>
                  <a:pt x="1032" y="624"/>
                  <a:pt x="852" y="768"/>
                  <a:pt x="672" y="912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790-85B7-44AB-9633-14EE07602D0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54AD3-25CD-458F-8C22-218E983BE2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. RESPONSE FORMULA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09480" y="1565280"/>
                <a:ext cx="73152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28600" y="3124080"/>
                <a:ext cx="19051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362320" y="2908440"/>
                <a:ext cx="594360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</m:t>
                                    </m:r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57200" y="4383000"/>
                <a:ext cx="518148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638680" y="4419720"/>
                <a:ext cx="27702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os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cos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14360" y="5692680"/>
                <a:ext cx="77389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@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C1B-DD83-4881-AA70-17668BA04BC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02D70-FAB7-4B1F-9B9E-9FE10306F2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E9A-FDBA-47C8-B100-B9BD22CC1B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80931-B70A-4135-B0E7-B59C60F58A29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7086600" cy="520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638680" y="1101600"/>
                <a:ext cx="32767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7F6-46E3-472C-A853-4574EFA4C9B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9282B-D1D6-406C-96E1-C7886402FB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UNIT CIRC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PPING BETWE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638680" y="2514600"/>
                <a:ext cx="25146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52280" y="2403360"/>
            <a:ext cx="4419720" cy="399744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1371240" y="4186080"/>
            <a:ext cx="7544160" cy="1909800"/>
            <a:chOff x="1371240" y="4186080"/>
            <a:chExt cx="7544160" cy="1909800"/>
          </a:xfrm>
        </p:grpSpPr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4724280" y="4186080"/>
                  <a:ext cx="4191120" cy="19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>
                            <m:r>
                              <m:t xml:space="preserve">«</m:t>
                            </m:r>
                          </m:e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mr>
                        <m:mr>
                          <m:e>
                            <m:r>
                              <m:t xml:space="preserve">z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-</m:t>
                            </m:r>
                            <m:r>
                              <m:t xml:space="preserve">1</m:t>
                            </m:r>
                          </m:e>
                          <m:e>
                            <m:r>
                              <m:t xml:space="preserve">«</m:t>
                            </m:r>
                          </m:e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p</m:t>
                            </m:r>
                          </m:e>
                        </m:mr>
                        <m:mr>
                          <m:e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j</m:t>
                            </m:r>
                          </m:e>
                          <m:e>
                            <m:r>
                              <m:t xml:space="preserve">«</m:t>
                            </m:r>
                          </m:e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p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"/>
            <p:cNvSpPr/>
            <p:nvPr/>
          </p:nvSpPr>
          <p:spPr>
            <a:xfrm flipH="1" flipV="1">
              <a:off x="3962520" y="4343040"/>
              <a:ext cx="91440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1371240" y="4343400"/>
              <a:ext cx="3429000" cy="838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2666520" y="5638320"/>
              <a:ext cx="213372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040360" y="1600200"/>
                <a:ext cx="1741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and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69F-C265-4367-A1DA-0DB7B9D16F5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B7B59-2716-4839-8FED-08D3DAEAF4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-D VIEW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585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26520" y="230040"/>
            <a:ext cx="5481360" cy="94716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-D VIEWPOINT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VALUATE H(z) EVERYWHER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72680" y="5105520"/>
            <a:ext cx="2651400" cy="1538640"/>
            <a:chOff x="472680" y="5105520"/>
            <a:chExt cx="2651400" cy="1538640"/>
          </a:xfrm>
        </p:grpSpPr>
        <p:sp>
          <p:nvSpPr>
            <p:cNvPr id="248" name=""/>
            <p:cNvSpPr/>
            <p:nvPr/>
          </p:nvSpPr>
          <p:spPr>
            <a:xfrm flipV="1">
              <a:off x="1828800" y="5105520"/>
              <a:ext cx="1295280" cy="12189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2680" y="6245280"/>
              <a:ext cx="179316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UNIT CIRCL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949440" y="1757520"/>
            <a:ext cx="155088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HERE i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POLE ?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8560-4B65-4701-91A9-CB8A944C6B8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027FE-0264-4AD6-8C38-A6883E80BB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OVIE for H(z) in 3-D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LES to H(z) to Frequency Re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WO POLES SHOW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3829320" cy="36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95E-CA98-4EAB-BE95-DE0540ADB7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C8A33-2C56-44DD-AC1D-452FA0F1BE2C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 from H(z)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alking around the Unit Circl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438280" y="2363760"/>
            <a:ext cx="4686480" cy="441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483-6CAA-4C9B-857F-770E6C683BD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3789E-AFB8-4F61-9E49-830C14B8B16E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267760" cy="53863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 DOMAINS MOVIE: I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15840" y="4267080"/>
            <a:ext cx="18464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LE MOV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97400" y="5867280"/>
            <a:ext cx="66240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[n]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51680" y="1752480"/>
            <a:ext cx="6638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(z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2895480"/>
            <a:ext cx="2133720" cy="1371600"/>
          </a:xfrm>
          <a:custGeom>
            <a:avLst/>
            <a:gdLst/>
            <a:ahLst/>
            <a:rect l="l" t="t" r="r" b="b"/>
            <a:pathLst>
              <a:path w="1056" h="2208">
                <a:moveTo>
                  <a:pt x="192" y="2208"/>
                </a:moveTo>
                <a:cubicBezTo>
                  <a:pt x="96" y="2032"/>
                  <a:pt x="0" y="1856"/>
                  <a:pt x="0" y="1584"/>
                </a:cubicBezTo>
                <a:cubicBezTo>
                  <a:pt x="0" y="1312"/>
                  <a:pt x="16" y="840"/>
                  <a:pt x="192" y="576"/>
                </a:cubicBezTo>
                <a:cubicBezTo>
                  <a:pt x="368" y="312"/>
                  <a:pt x="712" y="156"/>
                  <a:pt x="105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924680" y="4521240"/>
                <a:ext cx="1067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24CA-151D-4D3C-8A14-5AF6FE62E62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B52CA-F565-4993-B237-3E5EF6FFEF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eZ Demo: Pole-Zero Plac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781680" cy="560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B8DB-0C0C-4195-AC9B-48FC8EC2518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C76B3-730A-43EE-AD7E-96F34C958A95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AL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x[n] = SINUSOID =&gt; y[n] is SINUSOI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et MAGNITUDE &amp; PHASE from 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477120" y="3048120"/>
            <a:ext cx="838080" cy="25146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90560" y="3244680"/>
                <a:ext cx="6496200" cy="300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 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sup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6D58-1787-4240-A64D-618619D2EE3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D42D6-C737-4B1F-A986-F376315E2C7D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output,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438280" y="4973760"/>
                <a:ext cx="44593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p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438280" y="2057400"/>
                <a:ext cx="31356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436-7AC8-4103-8477-D730318F5C6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F592E-B2CB-4F5D-B7E1-AD4A3121F964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aluate FREQ.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391520" cy="514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5791320" y="1600200"/>
          <a:ext cx="3200400" cy="85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1600200"/>
                    <a:ext cx="3200400" cy="8510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248520" y="3733920"/>
            <a:ext cx="228600" cy="457200"/>
          </a:xfrm>
          <a:prstGeom prst="upArrow">
            <a:avLst>
              <a:gd name="adj1" fmla="val 51037"/>
              <a:gd name="adj2" fmla="val 45833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3733920"/>
            <a:ext cx="228600" cy="457200"/>
          </a:xfrm>
          <a:prstGeom prst="upArrow">
            <a:avLst>
              <a:gd name="adj1" fmla="val 51037"/>
              <a:gd name="adj2" fmla="val 45833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6160" y="3784680"/>
            <a:ext cx="16912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ero at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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1676520"/>
            <a:ext cx="1371600" cy="228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3200400"/>
            <a:ext cx="228600" cy="533520"/>
          </a:xfrm>
          <a:prstGeom prst="upArrow">
            <a:avLst>
              <a:gd name="adj1" fmla="val 51037"/>
              <a:gd name="adj2" fmla="val 53484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952880" y="4190400"/>
            <a:ext cx="228600" cy="1523880"/>
          </a:xfrm>
          <a:prstGeom prst="upArrow">
            <a:avLst>
              <a:gd name="adj1" fmla="val 51037"/>
              <a:gd name="adj2" fmla="val 152766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114800" y="3733920"/>
          <a:ext cx="1676520" cy="42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4800" y="3733920"/>
                    <a:ext cx="1676520" cy="4204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23880" y="1447920"/>
                <a:ext cx="16891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is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44D8-CE9A-422C-9BB8-0D7FBC83715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C12FB-C124-421F-A429-87A40A3B7AFA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8, Sects. 8-4 8-5 &amp; 8-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apter 8, al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LE-ZERO PLO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F5B4-D051-4987-9F34-B6B82E381E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9C59E-AB58-4EEA-B39B-66B7F51BC9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: Eval Freq. Resp.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nd output, y[n], 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valuate at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791320" y="3114720"/>
          <a:ext cx="312408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114720"/>
                    <a:ext cx="3124080" cy="466560"/>
                  </a:xfrm>
                  <a:prstGeom prst="rect">
                    <a:avLst/>
                  </a:prstGeom>
                  <a:ln w="57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438280" y="1752480"/>
                <a:ext cx="31356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92" name=""/>
          <p:cNvGraphicFramePr/>
          <p:nvPr/>
        </p:nvGraphicFramePr>
        <p:xfrm>
          <a:off x="3505320" y="3733920"/>
          <a:ext cx="156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733920"/>
                    <a:ext cx="1562040" cy="466560"/>
                  </a:xfrm>
                  <a:prstGeom prst="rect">
                    <a:avLst/>
                  </a:prstGeom>
                  <a:ln w="57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57200" y="5943600"/>
          <a:ext cx="815328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5943600"/>
                    <a:ext cx="8153280" cy="681120"/>
                  </a:xfrm>
                  <a:prstGeom prst="rect">
                    <a:avLst/>
                  </a:prstGeom>
                  <a:ln w="57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914400" y="4516560"/>
                <a:ext cx="6858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π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37B-4338-4228-A50B-F776AEEBF00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D6719-8C78-4E3C-AD9A-972B8DD0E027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QUIVALEN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y the System Func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403848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62320" y="44956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7800" y="4495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11160" y="40384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6040" y="4038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747960" y="4213080"/>
                <a:ext cx="11844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1752480" y="274320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5760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584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079720" y="2917800"/>
                <a:ext cx="13208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4648320" y="274320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530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06800" y="27432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952880" y="2917800"/>
                <a:ext cx="1366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808440" y="5356080"/>
                <a:ext cx="4192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 flipV="1">
            <a:off x="2743200" y="4876560"/>
            <a:ext cx="533520" cy="228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2240" y="5105520"/>
            <a:ext cx="222588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1E6-A77C-487F-A3F8-D69AA3CF39C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C9ED1-A8C5-4146-8426-836C0937E9AE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UPERPOSI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80880" y="1981080"/>
                <a:ext cx="7396200" cy="378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162920" y="4191120"/>
                <a:ext cx="1295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267680" y="5334120"/>
                <a:ext cx="17240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 flipV="1">
            <a:off x="5791320" y="4495680"/>
            <a:ext cx="1295280" cy="1526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77120" y="5410080"/>
            <a:ext cx="761760" cy="1526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B9B-D31D-4AAE-A0DD-F9DFAA954A3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13B95-7CD0-4962-9BAF-8EBEB81939C7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 BANK in LAB (BPFs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5486400" cy="51818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6472080" y="1828800"/>
            <a:ext cx="2276280" cy="131364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f L is sam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/L controls BW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508800" y="4191120"/>
            <a:ext cx="2077920" cy="161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ARIABL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ANDWIDTH ?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P3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tch hear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hange 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713-CD9C-41CA-B589-0F0C0F7A85C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FC0DA-4AE4-4CCE-958D-4E22EFD71A8A}" type="datetime1">
              <a:rPr lang="en-US"/>
              <a:t>07/29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P-3 AUDIO COD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rcRect l="0" t="9695" r="0" b="0"/>
          <a:stretch/>
        </p:blipFill>
        <p:spPr>
          <a:xfrm>
            <a:off x="838080" y="167652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600200" y="1523880"/>
            <a:ext cx="1905120" cy="167652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FB6-A41C-4463-B887-C70AE336AE4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FFDFB-3241-4F3D-A04B-795C0937A4EF}" type="datetime1">
              <a:rPr lang="en-US"/>
              <a:t>07/29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(z) from Lineari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ST-ORDER IIR with 2 FIR term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3520" y="4029120"/>
          <a:ext cx="753408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029120"/>
                    <a:ext cx="7534080" cy="8478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990720" y="2286000"/>
          <a:ext cx="6858000" cy="59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286000"/>
                    <a:ext cx="6858000" cy="59832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609480" y="5257800"/>
          <a:ext cx="7413840" cy="131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257800"/>
                    <a:ext cx="7413840" cy="131616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4781-DF58-4B5E-A6A0-7525B6F7945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15614-3DEB-42D4-A020-ABD54F8A5E09}" type="datetime1">
              <a:rPr lang="en-US"/>
              <a:t>07/29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NTERPRET ROO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LUE of H(z) at POLES is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N_x0008_FINIT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7391160" cy="38908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095880" y="5638680"/>
            <a:ext cx="106704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5880" y="4495680"/>
            <a:ext cx="11430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ERO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C9A-D3BF-44A6-B6ED-1251A106173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52EEF-61E8-4BB7-A8CE-AAA60B77FE78}" type="datetime1">
              <a:rPr lang="en-US"/>
              <a:t>07/29/26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HASE from 3-D PLO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503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CED-D17F-438B-AAF9-09006D52F29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83D2E-EEA1-491F-9A81-A0FABCE6A96B}" type="datetime1">
              <a:rPr lang="en-US"/>
              <a:t>07/29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. RESPONSE FORMULA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457200" y="1676520"/>
          <a:ext cx="7391520" cy="11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7391520" cy="11570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457200" y="2922480"/>
          <a:ext cx="6718320" cy="14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922480"/>
                    <a:ext cx="6718320" cy="14209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415800" y="5791320"/>
          <a:ext cx="7529760" cy="91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5800" y="5791320"/>
                    <a:ext cx="7529760" cy="9111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533520" y="4419720"/>
          <a:ext cx="7988040" cy="116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419720"/>
                    <a:ext cx="7988040" cy="11602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226-A5DC-4F6A-8BEE-B37A71BBC4F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09F4D-47C5-44E2-9873-C530FB588193}" type="datetime1">
              <a:rPr lang="en-US"/>
              <a:t>07/29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458200" cy="54403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094400" y="1874880"/>
            <a:ext cx="246528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e H(z) to ge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req.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71800" y="1638360"/>
            <a:ext cx="3657600" cy="3009960"/>
          </a:xfrm>
          <a:custGeom>
            <a:avLst/>
            <a:gdLst/>
            <a:ahLst/>
            <a:rect l="l" t="t" r="r" b="b"/>
            <a:pathLst>
              <a:path w="2304" h="1896">
                <a:moveTo>
                  <a:pt x="0" y="1896"/>
                </a:moveTo>
                <a:cubicBezTo>
                  <a:pt x="64" y="1735"/>
                  <a:pt x="128" y="1575"/>
                  <a:pt x="240" y="1320"/>
                </a:cubicBezTo>
                <a:cubicBezTo>
                  <a:pt x="351" y="1064"/>
                  <a:pt x="536" y="575"/>
                  <a:pt x="672" y="360"/>
                </a:cubicBezTo>
                <a:cubicBezTo>
                  <a:pt x="807" y="144"/>
                  <a:pt x="928" y="47"/>
                  <a:pt x="1056" y="24"/>
                </a:cubicBezTo>
                <a:cubicBezTo>
                  <a:pt x="1183" y="0"/>
                  <a:pt x="1272" y="56"/>
                  <a:pt x="1440" y="216"/>
                </a:cubicBezTo>
                <a:cubicBezTo>
                  <a:pt x="1607" y="375"/>
                  <a:pt x="1920" y="712"/>
                  <a:pt x="2064" y="984"/>
                </a:cubicBezTo>
                <a:cubicBezTo>
                  <a:pt x="2208" y="1256"/>
                  <a:pt x="2256" y="1552"/>
                  <a:pt x="2304" y="1848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95680" y="1447920"/>
            <a:ext cx="38124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629400" y="2666880"/>
                <a:ext cx="2057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6453-3474-45EE-B43B-DD46B847B97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518B2-89DD-46AD-B149-3A726FFD4BF8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YSTEM FUNCTION: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(z) has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OL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and ZERO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REQUENCY RESPONSE of II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t H(z) firs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REE-DOMAIN APPROAC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8120" y="3732120"/>
                <a:ext cx="608472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058840" y="5411880"/>
                <a:ext cx="6093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↔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743200" y="61722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5867280"/>
            <a:ext cx="228600" cy="990720"/>
          </a:xfrm>
          <a:prstGeom prst="upArrow">
            <a:avLst>
              <a:gd name="adj1" fmla="val 50000"/>
              <a:gd name="adj2" fmla="val 108346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624852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1905120"/>
            <a:ext cx="1600200" cy="380880"/>
          </a:xfrm>
          <a:prstGeom prst="leftArrow">
            <a:avLst>
              <a:gd name="adj1" fmla="val 55833"/>
              <a:gd name="adj2" fmla="val 73698"/>
            </a:avLst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1981080"/>
            <a:ext cx="380880" cy="2210040"/>
          </a:xfrm>
          <a:prstGeom prst="downArrow">
            <a:avLst>
              <a:gd name="adj1" fmla="val 50000"/>
              <a:gd name="adj2" fmla="val 110891"/>
            </a:avLst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03BE-1C88-41BB-A9D6-8A422370D8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66E84-E737-4E52-80B4-0DB1D74D07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. RESPONSE FORMULA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57200" y="1731960"/>
          <a:ext cx="739152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31960"/>
                    <a:ext cx="7391520" cy="10447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2362320" y="3056040"/>
          <a:ext cx="5943600" cy="10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056040"/>
                    <a:ext cx="5943600" cy="10587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28480" y="5791320"/>
          <a:ext cx="7302600" cy="91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8480" y="5791320"/>
                    <a:ext cx="7302600" cy="9111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57200" y="4514760"/>
          <a:ext cx="5189400" cy="104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4514760"/>
                    <a:ext cx="5189400" cy="10479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5697360" y="4495680"/>
          <a:ext cx="2913120" cy="104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97360" y="4495680"/>
                    <a:ext cx="2913120" cy="10479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380880" y="3200400"/>
          <a:ext cx="1752840" cy="716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3200400"/>
                    <a:ext cx="1752840" cy="7160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B07-23D6-4035-A57D-226D0EBFECF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B32B1-3491-44B2-9676-A8DD444C00BA}" type="datetime1">
              <a:rPr lang="en-US"/>
              <a:t>07/29/26</a:t>
            </a:fld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. RESPONSE from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6858000" cy="509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5" name=""/>
          <p:cNvGraphicFramePr/>
          <p:nvPr/>
        </p:nvGraphicFramePr>
        <p:xfrm>
          <a:off x="6515280" y="1811160"/>
          <a:ext cx="2535120" cy="12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5280" y="1811160"/>
                    <a:ext cx="2535120" cy="12924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494-7B01-4CA1-AD84-BF9CAB66521A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74CF2-8965-4605-9EC6-51EA2836431D}" type="datetime1">
              <a:rPr lang="en-US"/>
              <a:t>07/29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78" name=""/>
          <p:cNvSpPr/>
          <p:nvPr/>
        </p:nvSpPr>
        <p:spPr>
          <a:xfrm>
            <a:off x="255600" y="4479840"/>
            <a:ext cx="22305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IME-DOMAI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0" y="5105520"/>
          <a:ext cx="578952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105520"/>
                    <a:ext cx="578952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6450840" y="4419720"/>
            <a:ext cx="23479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-DOMAI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147840" y="3587760"/>
          <a:ext cx="2490840" cy="12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7840" y="3587760"/>
                    <a:ext cx="24908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2514600" y="4800600"/>
            <a:ext cx="396252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514600" y="1676520"/>
            <a:ext cx="5587920" cy="3124080"/>
            <a:chOff x="2514600" y="1676520"/>
            <a:chExt cx="5587920" cy="3124080"/>
          </a:xfrm>
        </p:grpSpPr>
        <p:sp>
          <p:nvSpPr>
            <p:cNvPr id="386" name=""/>
            <p:cNvSpPr/>
            <p:nvPr/>
          </p:nvSpPr>
          <p:spPr>
            <a:xfrm>
              <a:off x="2639880" y="1676520"/>
              <a:ext cx="3718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-TRANSFORM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91040" y="2133720"/>
              <a:ext cx="31114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POLYNOMIALS: 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14600" y="2209680"/>
              <a:ext cx="3962520" cy="2590920"/>
            </a:xfrm>
            <a:custGeom>
              <a:avLst/>
              <a:gdLst/>
              <a:ahLst/>
              <a:rect l="l" t="t" r="r" b="b"/>
              <a:pathLst>
                <a:path w="2496" h="1632">
                  <a:moveTo>
                    <a:pt x="0" y="1632"/>
                  </a:moveTo>
                  <a:lnTo>
                    <a:pt x="1152" y="0"/>
                  </a:lnTo>
                  <a:lnTo>
                    <a:pt x="2496" y="1632"/>
                  </a:ln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09680" y="2438280"/>
            <a:ext cx="4571640" cy="1523880"/>
            <a:chOff x="2209680" y="2438280"/>
            <a:chExt cx="4571640" cy="1523880"/>
          </a:xfrm>
        </p:grpSpPr>
        <p:sp>
          <p:nvSpPr>
            <p:cNvPr id="390" name=""/>
            <p:cNvSpPr/>
            <p:nvPr/>
          </p:nvSpPr>
          <p:spPr>
            <a:xfrm flipH="1">
              <a:off x="2209680" y="2438280"/>
              <a:ext cx="1067040" cy="1447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5790960" y="2742840"/>
              <a:ext cx="990360" cy="1219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76320" y="2684520"/>
                <a:ext cx="34290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47160" y="1752480"/>
            <a:ext cx="2090160" cy="703800"/>
          </a:xfrm>
          <a:prstGeom prst="rect">
            <a:avLst/>
          </a:prstGeom>
          <a:solidFill>
            <a:srgbClr val="ccecff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Use H(z) to g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req. Respons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858000" y="2819520"/>
                <a:ext cx="16765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C5E-9E2B-43C4-9A13-225DAB05703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3567E-CD82-429E-A637-0C85956E6253}" type="datetime1">
              <a:rPr lang="en-US"/>
              <a:t>07/29/26</a:t>
            </a:fld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output,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2438280" y="4973760"/>
                <a:ext cx="44593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p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438280" y="2057400"/>
                <a:ext cx="31356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FED-1095-4FDC-A620-905D1FB2751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C4F65-6D18-408C-9497-895707FE52CE}" type="datetime1">
              <a:rPr lang="en-US"/>
              <a:t>07/29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: Invert 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the DELAY PROPER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838080" y="4857840"/>
          <a:ext cx="780120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857840"/>
                    <a:ext cx="7801200" cy="704880"/>
                  </a:xfrm>
                  <a:prstGeom prst="rect">
                    <a:avLst/>
                  </a:prstGeom>
                  <a:ln w="5724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371600" y="2438280"/>
          <a:ext cx="5943600" cy="8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438280"/>
                    <a:ext cx="5943600" cy="8845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0A1-8716-4161-ACB8-53EC3A65321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CDFD1-FC54-42C2-93AA-87BEEB158E09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514600" y="1676520"/>
            <a:ext cx="5587920" cy="3124080"/>
            <a:chOff x="2514600" y="1676520"/>
            <a:chExt cx="5587920" cy="3124080"/>
          </a:xfrm>
        </p:grpSpPr>
        <p:sp>
          <p:nvSpPr>
            <p:cNvPr id="101" name=""/>
            <p:cNvSpPr/>
            <p:nvPr/>
          </p:nvSpPr>
          <p:spPr>
            <a:xfrm>
              <a:off x="2639880" y="1676520"/>
              <a:ext cx="3718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-TRANSFORM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91040" y="2133720"/>
              <a:ext cx="31114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POLYNOMIALS: 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4600" y="2209680"/>
              <a:ext cx="3962520" cy="2590920"/>
            </a:xfrm>
            <a:custGeom>
              <a:avLst/>
              <a:gdLst/>
              <a:ahLst/>
              <a:rect l="l" t="t" r="r" b="b"/>
              <a:pathLst>
                <a:path w="2496" h="1632">
                  <a:moveTo>
                    <a:pt x="0" y="1632"/>
                  </a:moveTo>
                  <a:lnTo>
                    <a:pt x="1152" y="0"/>
                  </a:lnTo>
                  <a:lnTo>
                    <a:pt x="2496" y="1632"/>
                  </a:ln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209680" y="2438280"/>
            <a:ext cx="4571640" cy="1523880"/>
            <a:chOff x="2209680" y="2438280"/>
            <a:chExt cx="4571640" cy="1523880"/>
          </a:xfrm>
        </p:grpSpPr>
        <p:sp>
          <p:nvSpPr>
            <p:cNvPr id="105" name=""/>
            <p:cNvSpPr/>
            <p:nvPr/>
          </p:nvSpPr>
          <p:spPr>
            <a:xfrm flipH="1">
              <a:off x="2209680" y="2438280"/>
              <a:ext cx="1067040" cy="1447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5790960" y="2742840"/>
              <a:ext cx="990360" cy="1219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715000" y="4419720"/>
            <a:ext cx="3276720" cy="2415960"/>
            <a:chOff x="5715000" y="4419720"/>
            <a:chExt cx="3276720" cy="2415960"/>
          </a:xfrm>
        </p:grpSpPr>
        <p:sp>
          <p:nvSpPr>
            <p:cNvPr id="108" name=""/>
            <p:cNvSpPr/>
            <p:nvPr/>
          </p:nvSpPr>
          <p:spPr>
            <a:xfrm>
              <a:off x="6478560" y="4419720"/>
              <a:ext cx="234792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FREQ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5715000" y="4910040"/>
                  <a:ext cx="3276720" cy="19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  <m:r>
                                <m:t xml:space="preserve"> 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ℓ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ℓ</m:t>
                                  </m:r>
                                </m:sub>
                              </m:sSub>
                            </m:e>
                          </m:nary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  <m:r>
                                <m:t xml:space="preserve"> </m:t>
                              </m:r>
                              <m:r>
                                <m:t xml:space="preserve">ℓ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" name=""/>
          <p:cNvGrpSpPr/>
          <p:nvPr/>
        </p:nvGrpSpPr>
        <p:grpSpPr>
          <a:xfrm>
            <a:off x="63360" y="4479840"/>
            <a:ext cx="4465800" cy="1489320"/>
            <a:chOff x="63360" y="4479840"/>
            <a:chExt cx="4465800" cy="1489320"/>
          </a:xfrm>
        </p:grpSpPr>
        <p:sp>
          <p:nvSpPr>
            <p:cNvPr id="111" name=""/>
            <p:cNvSpPr/>
            <p:nvPr/>
          </p:nvSpPr>
          <p:spPr>
            <a:xfrm>
              <a:off x="229320" y="4479840"/>
              <a:ext cx="22305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TIME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63360" y="5029200"/>
                  <a:ext cx="446580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ℓ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ℓ</m:t>
                              </m:r>
                            </m:sub>
                          </m:sSub>
                          <m:r>
                            <m:t xml:space="preserve">y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ℓ</m:t>
                          </m:r>
                          <m:r>
                            <m:t xml:space="preserve">]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" name=""/>
          <p:cNvGrpSpPr/>
          <p:nvPr/>
        </p:nvGrpSpPr>
        <p:grpSpPr>
          <a:xfrm>
            <a:off x="2514600" y="3724200"/>
            <a:ext cx="3962520" cy="1076400"/>
            <a:chOff x="2514600" y="3724200"/>
            <a:chExt cx="3962520" cy="1076400"/>
          </a:xfrm>
        </p:grpSpPr>
        <p:sp>
          <p:nvSpPr>
            <p:cNvPr id="114" name=""/>
            <p:cNvSpPr/>
            <p:nvPr/>
          </p:nvSpPr>
          <p:spPr>
            <a:xfrm>
              <a:off x="2514600" y="4800600"/>
              <a:ext cx="39625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3352680" y="3724200"/>
                  <a:ext cx="2148120" cy="102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ℓ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" name=""/>
          <p:cNvGrpSpPr/>
          <p:nvPr/>
        </p:nvGrpSpPr>
        <p:grpSpPr>
          <a:xfrm>
            <a:off x="168840" y="1752480"/>
            <a:ext cx="8746560" cy="2743200"/>
            <a:chOff x="168840" y="1752480"/>
            <a:chExt cx="8746560" cy="2743200"/>
          </a:xfrm>
        </p:grpSpPr>
        <p:sp>
          <p:nvSpPr>
            <p:cNvPr id="117" name=""/>
            <p:cNvSpPr/>
            <p:nvPr/>
          </p:nvSpPr>
          <p:spPr>
            <a:xfrm>
              <a:off x="168840" y="2286000"/>
              <a:ext cx="246528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Use H(z) to ge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req. Respons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00200" y="1752480"/>
              <a:ext cx="5715000" cy="2743200"/>
            </a:xfrm>
            <a:custGeom>
              <a:avLst/>
              <a:gdLst/>
              <a:ahLst/>
              <a:rect l="l" t="t" r="r" b="b"/>
              <a:pathLst>
                <a:path w="2304" h="1896">
                  <a:moveTo>
                    <a:pt x="0" y="1896"/>
                  </a:moveTo>
                  <a:cubicBezTo>
                    <a:pt x="64" y="1735"/>
                    <a:pt x="128" y="1575"/>
                    <a:pt x="240" y="1320"/>
                  </a:cubicBezTo>
                  <a:cubicBezTo>
                    <a:pt x="351" y="1064"/>
                    <a:pt x="536" y="575"/>
                    <a:pt x="672" y="360"/>
                  </a:cubicBezTo>
                  <a:cubicBezTo>
                    <a:pt x="807" y="144"/>
                    <a:pt x="928" y="47"/>
                    <a:pt x="1056" y="24"/>
                  </a:cubicBezTo>
                  <a:cubicBezTo>
                    <a:pt x="1183" y="0"/>
                    <a:pt x="1272" y="56"/>
                    <a:pt x="1440" y="216"/>
                  </a:cubicBezTo>
                  <a:cubicBezTo>
                    <a:pt x="1607" y="375"/>
                    <a:pt x="1920" y="712"/>
                    <a:pt x="2064" y="984"/>
                  </a:cubicBezTo>
                  <a:cubicBezTo>
                    <a:pt x="2208" y="1256"/>
                    <a:pt x="2256" y="1552"/>
                    <a:pt x="2304" y="1848"/>
                  </a:cubicBezTo>
                </a:path>
              </a:pathLst>
            </a:custGeom>
            <a:noFill/>
            <a:ln w="7632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7162920" y="3048120"/>
                  <a:ext cx="175248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20" name=""/>
            <p:cNvSpPr/>
            <p:nvPr/>
          </p:nvSpPr>
          <p:spPr>
            <a:xfrm>
              <a:off x="4114800" y="1752480"/>
              <a:ext cx="380880" cy="381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5D6-FFBC-4E1C-A604-55318BA0C73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7B25C-0019-4C2D-B74A-7B4C008716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(z) = z-Transform{ h[n] }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ST-ORDER IIR FILTER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219400" y="2514600"/>
          <a:ext cx="547668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9400" y="2514600"/>
                    <a:ext cx="5476680" cy="69696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781280" y="4678200"/>
          <a:ext cx="3324240" cy="13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1280" y="4678200"/>
                    <a:ext cx="3324240" cy="132084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62120" y="3429000"/>
                <a:ext cx="419076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F0F-A257-43CD-8261-E0021B20DD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18DA5-AC17-4C9B-A855-88F13EE03195}" type="datetime1">
              <a:rPr lang="en-US"/>
              <a:t>07/29/26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ypical IMPULSE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79400" y="1859040"/>
                <a:ext cx="7581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9360" y="3048120"/>
            <a:ext cx="8864640" cy="3098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038480" y="2590920"/>
            <a:ext cx="3886200" cy="1904760"/>
          </a:xfrm>
          <a:custGeom>
            <a:avLst/>
            <a:gdLst/>
            <a:ahLst/>
            <a:rect l="l" t="t" r="r" b="b"/>
            <a:pathLst>
              <a:path w="1655" h="1056">
                <a:moveTo>
                  <a:pt x="1008" y="0"/>
                </a:moveTo>
                <a:cubicBezTo>
                  <a:pt x="1331" y="128"/>
                  <a:pt x="1655" y="256"/>
                  <a:pt x="1488" y="432"/>
                </a:cubicBezTo>
                <a:cubicBezTo>
                  <a:pt x="1320" y="607"/>
                  <a:pt x="660" y="831"/>
                  <a:pt x="0" y="10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EAA3-533F-40F4-B0E3-8E554A2D46D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4138F-5506-4C8E-BEE8-DB2AFF39ED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st-Order Transform Pa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3200400"/>
            <a:ext cx="8178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EOMETRIC SEQUENC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09480" y="1725480"/>
          <a:ext cx="7925040" cy="13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25480"/>
                    <a:ext cx="7925040" cy="1322640"/>
                  </a:xfrm>
                  <a:prstGeom prst="rect">
                    <a:avLst/>
                  </a:prstGeom>
                  <a:ln w="7632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286000" y="3930480"/>
                <a:ext cx="5637240" cy="241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&gt;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059-9D53-4D2A-BE0A-465B93E8E1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11D8D-604B-4067-AA63-5D45B251FA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LAY PROPERTY of X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LAY in TIME&lt;--&gt;Multiply X(z) by z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438280" y="2494080"/>
          <a:ext cx="362916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494080"/>
                    <a:ext cx="3629160" cy="131580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282680" y="3963960"/>
          <a:ext cx="6566040" cy="23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2680" y="3963960"/>
                    <a:ext cx="6566040" cy="236052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DD0-F2D6-457C-9A4E-84BC1636FE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9D628-420B-4739-9BEE-A72A6C0324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2000-11-25T18:34:26Z</cp:lastPrinted>
  <dcterms:modified xsi:type="dcterms:W3CDTF">2006-03-31T19:32:42Z</dcterms:modified>
  <cp:revision>364</cp:revision>
  <dc:subject/>
  <dc:title>SPFirst Lecture #1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