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31A-1C36-46E6-A9DA-BDB4C00B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BD5-30CC-4BCC-ABE5-AA36C202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8D8-C05B-4C16-83B8-5FDEF619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B36-03A7-4FCC-A630-79526AE1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EEB8-D2A8-4AD7-805E-763A68AC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A103-8E4B-4E1F-BD22-50158968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D9D5-C17D-43F0-AF44-4A0C3CA1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0A1A-8442-4D25-9468-8BA21AEE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795A-9237-4225-8992-F07668BB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2EA9-9DB3-4F05-AE9C-F14B7EF5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9C54-34DD-42AA-A5D9-3DF2CDD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D75-762F-4876-BA74-CA93F2E3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52BE-AA02-4344-9482-FEFF0FB6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74B5-427B-42D6-AECA-48B59ED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1F26-5AA0-4F22-AD64-2D390217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1460-C0CF-4D8F-A106-8608B766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AF96-23F8-4395-91AA-8A9DB991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47E-B44B-45C7-A954-C9D29609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8E7-4686-4292-99A6-5BC938F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F8F-25A0-43BC-945F-2FF89808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7D6-B9C2-4EFD-B94F-52965608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155-01E4-4AC1-9269-E7649C4C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002-958C-42A4-80F8-DFEFE5F7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F76-A10B-44B0-AA56-40CA582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352C-B7F5-4FFF-BB51-7082AAF38A8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EB8E-DABD-4280-8EA5-4D1952C7843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BC14-9819-4C1E-82DC-098A23F0260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FB80-209E-45E2-A181-5FF2D000959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6E38-FCBA-4E57-96C5-28924BF3792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D100-B544-40F2-B9F6-4D13F94373C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28440" y="3428640"/>
            <a:ext cx="6705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Zeros of H(z) and th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EAB0-6441-4A22-80AC-F2BC26F8E83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0FE1-2E7A-44EB-AB8C-1B5ABAF20F5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65160" y="2286000"/>
                <a:ext cx="4975200" cy="38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omai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 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me Form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197680" y="5791320"/>
            <a:ext cx="33613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AME COEFFICIE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809880" y="1628640"/>
            <a:ext cx="4738680" cy="3476880"/>
            <a:chOff x="3809880" y="1628640"/>
            <a:chExt cx="4738680" cy="3476880"/>
          </a:xfrm>
        </p:grpSpPr>
        <mc:AlternateContent>
          <mc:Choice xmlns:a14="http://schemas.microsoft.com/office/drawing/2010/main" Requires="a14">
            <p:sp>
              <p:nvSpPr>
                <p:cNvPr id="187" name="Object 5"/>
                <p:cNvSpPr txBox="1"/>
                <p:nvPr/>
              </p:nvSpPr>
              <p:spPr>
                <a:xfrm>
                  <a:off x="5397480" y="1628640"/>
                  <a:ext cx="3151080" cy="140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Freeform 12"/>
            <p:cNvSpPr/>
            <p:nvPr/>
          </p:nvSpPr>
          <p:spPr>
            <a:xfrm>
              <a:off x="3809880" y="2550960"/>
              <a:ext cx="1752840" cy="2554560"/>
            </a:xfrm>
            <a:custGeom>
              <a:avLst/>
              <a:gdLst/>
              <a:ahLst/>
              <a:rect l="l" t="t" r="r" b="b"/>
              <a:pathLst>
                <a:path w="1104" h="1609">
                  <a:moveTo>
                    <a:pt x="1104" y="121"/>
                  </a:moveTo>
                  <a:cubicBezTo>
                    <a:pt x="1036" y="60"/>
                    <a:pt x="968" y="0"/>
                    <a:pt x="816" y="169"/>
                  </a:cubicBezTo>
                  <a:cubicBezTo>
                    <a:pt x="663" y="337"/>
                    <a:pt x="327" y="889"/>
                    <a:pt x="192" y="1129"/>
                  </a:cubicBezTo>
                  <a:cubicBezTo>
                    <a:pt x="56" y="1368"/>
                    <a:pt x="28" y="1488"/>
                    <a:pt x="0" y="1609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9" name="Object 16"/>
              <p:cNvSpPr txBox="1"/>
              <p:nvPr/>
            </p:nvSpPr>
            <p:spPr>
              <a:xfrm>
                <a:off x="5334120" y="3271680"/>
                <a:ext cx="3565440" cy="229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omai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5BBD-FF9B-4FFA-8CB3-07B1860CAAC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730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ED3-8DC8-478D-ACCC-16EC4A5A9F7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OTHER ANALYSIS TOO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695600"/>
            <a:ext cx="85345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-Transform POLYNOMIALS are EASY 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OOTS, FACTORS, etc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ZEROS and POLES:  where is H(z) = 0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z-domain i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) is a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VALUED function of a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MPLE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VARIABLE z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F08A-5C82-4CD8-8CFC-1130EB3A03C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1F62-AEA0-4E7E-A4E6-8B261AE87B0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EROS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z, where H(z)=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57"/>
              <p:cNvSpPr txBox="1"/>
              <p:nvPr/>
            </p:nvSpPr>
            <p:spPr>
              <a:xfrm>
                <a:off x="1752480" y="2362320"/>
                <a:ext cx="37260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058"/>
              <p:cNvSpPr txBox="1"/>
              <p:nvPr/>
            </p:nvSpPr>
            <p:spPr>
              <a:xfrm>
                <a:off x="1981080" y="5356080"/>
                <a:ext cx="3353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 at: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059"/>
              <p:cNvSpPr txBox="1"/>
              <p:nvPr/>
            </p:nvSpPr>
            <p:spPr>
              <a:xfrm>
                <a:off x="2057400" y="3429000"/>
                <a:ext cx="320040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484E-79F3-4786-90B8-134B0EA87A5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8F65-C6EC-4828-8C4E-960B4DDE002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EROS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z, where H(z)=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esting when z is ON the unit circ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457200" y="2971800"/>
                <a:ext cx="7010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457200" y="4114800"/>
                <a:ext cx="74739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1"/>
              <p:cNvSpPr txBox="1"/>
              <p:nvPr/>
            </p:nvSpPr>
            <p:spPr>
              <a:xfrm>
                <a:off x="609480" y="5257800"/>
                <a:ext cx="50054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ots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2"/>
              <p:cNvSpPr txBox="1"/>
              <p:nvPr/>
            </p:nvSpPr>
            <p:spPr>
              <a:xfrm>
                <a:off x="6172200" y="5334120"/>
                <a:ext cx="1828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±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463F-90AB-47FE-861C-B333F862D10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596E-8403-4304-8D50-D201E2EF0B7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ZEROS in z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16" name="Picture 3" descr="&#13;zero-plot.gif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1403280" y="1541520"/>
            <a:ext cx="6292800" cy="53164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2"/>
          <p:cNvGrpSpPr/>
          <p:nvPr/>
        </p:nvGrpSpPr>
        <p:grpSpPr>
          <a:xfrm>
            <a:off x="6019920" y="2209320"/>
            <a:ext cx="3099960" cy="3200760"/>
            <a:chOff x="6019920" y="2209320"/>
            <a:chExt cx="3099960" cy="3200760"/>
          </a:xfrm>
        </p:grpSpPr>
        <p:sp>
          <p:nvSpPr>
            <p:cNvPr id="218" name="Line 4"/>
            <p:cNvSpPr/>
            <p:nvPr/>
          </p:nvSpPr>
          <p:spPr>
            <a:xfrm flipH="1" flipV="1">
              <a:off x="6095520" y="2209320"/>
              <a:ext cx="1676520" cy="762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 flipH="1">
              <a:off x="6019920" y="3429000"/>
              <a:ext cx="2286000" cy="1981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H="1">
              <a:off x="6934320" y="3200400"/>
              <a:ext cx="76176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635960" y="2895480"/>
              <a:ext cx="14839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H(z) = 0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2" name="Group 13"/>
          <p:cNvGrpSpPr/>
          <p:nvPr/>
        </p:nvGrpSpPr>
        <p:grpSpPr>
          <a:xfrm>
            <a:off x="473400" y="3962160"/>
            <a:ext cx="4403520" cy="1679040"/>
            <a:chOff x="473400" y="3962160"/>
            <a:chExt cx="4403520" cy="1679040"/>
          </a:xfrm>
        </p:grpSpPr>
        <p:sp>
          <p:nvSpPr>
            <p:cNvPr id="223" name="Line 6"/>
            <p:cNvSpPr/>
            <p:nvPr/>
          </p:nvSpPr>
          <p:spPr>
            <a:xfrm flipV="1">
              <a:off x="1600200" y="3962160"/>
              <a:ext cx="3276720" cy="14475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473400" y="5181480"/>
              <a:ext cx="145008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POLE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5" name="Group 14"/>
          <p:cNvGrpSpPr/>
          <p:nvPr/>
        </p:nvGrpSpPr>
        <p:grpSpPr>
          <a:xfrm>
            <a:off x="322560" y="1905120"/>
            <a:ext cx="3258720" cy="838080"/>
            <a:chOff x="322560" y="1905120"/>
            <a:chExt cx="3258720" cy="838080"/>
          </a:xfrm>
        </p:grpSpPr>
        <p:sp>
          <p:nvSpPr>
            <p:cNvPr id="226" name="Line 10"/>
            <p:cNvSpPr/>
            <p:nvPr/>
          </p:nvSpPr>
          <p:spPr>
            <a:xfrm>
              <a:off x="1371600" y="2362320"/>
              <a:ext cx="2209680" cy="380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322560" y="1905120"/>
              <a:ext cx="129636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UNI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A8A7-2914-47F7-8BBE-197607BCD1E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EAC6-F7A6-4727-B786-E75E055ED99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LES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z, where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very interesting for the FIR c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12297"/>
              <p:cNvSpPr txBox="1"/>
              <p:nvPr/>
            </p:nvSpPr>
            <p:spPr>
              <a:xfrm>
                <a:off x="533520" y="2895480"/>
                <a:ext cx="70102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2298"/>
              <p:cNvSpPr txBox="1"/>
              <p:nvPr/>
            </p:nvSpPr>
            <p:spPr>
              <a:xfrm>
                <a:off x="3505320" y="1747800"/>
                <a:ext cx="21034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299"/>
              <p:cNvSpPr txBox="1"/>
              <p:nvPr/>
            </p:nvSpPr>
            <p:spPr>
              <a:xfrm>
                <a:off x="1143000" y="3963960"/>
                <a:ext cx="59436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2300"/>
              <p:cNvSpPr txBox="1"/>
              <p:nvPr/>
            </p:nvSpPr>
            <p:spPr>
              <a:xfrm>
                <a:off x="1447920" y="5643720"/>
                <a:ext cx="49561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ree Poles at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FCFE-60D4-4B0A-B166-79E562591F3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D45D-14AF-41D9-8D57-B1C8FA73144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from ZERO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17884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e H(z) to 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E H(z) on the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UNIT CIRCL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GLE is same as FREQUENC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371600" y="1652760"/>
                <a:ext cx="560088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762120" y="4268880"/>
                <a:ext cx="761976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s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varies</m:t>
                        </m:r>
                        <m:r>
                          <m:t xml:space="preserve">)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efines a CIRCLE, radius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1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B4EA-4ADF-4B61-BC50-0AB25D35305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Footer Placeholder 2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03EC-AB42-40D5-B0B0-7CF6928503F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47" name="Picture 2" descr="_x0014_unit-circle-in-z.gif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762120" y="1474920"/>
            <a:ext cx="5867280" cy="53067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5317560" y="3430440"/>
            <a:ext cx="35809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GLE is FREQUENC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8"/>
              <p:cNvSpPr txBox="1"/>
              <p:nvPr/>
            </p:nvSpPr>
            <p:spPr>
              <a:xfrm>
                <a:off x="984240" y="128520"/>
                <a:ext cx="550080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2341-6D8A-4D7E-9102-84387FF4492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B799-1CA3-45F7-BA6D-86450F59A3B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54" name="Picture 1027" descr="_x000b_FIR_4pt.gif  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5197320"/>
          </a:xfrm>
          <a:prstGeom prst="rect">
            <a:avLst/>
          </a:prstGeom>
          <a:ln w="0">
            <a:noFill/>
          </a:ln>
        </p:spPr>
      </p:pic>
      <p:sp>
        <p:nvSpPr>
          <p:cNvPr id="255" name="Line 1028"/>
          <p:cNvSpPr/>
          <p:nvPr/>
        </p:nvSpPr>
        <p:spPr>
          <a:xfrm>
            <a:off x="3581280" y="3048120"/>
            <a:ext cx="0" cy="609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Line 1029"/>
          <p:cNvSpPr/>
          <p:nvPr/>
        </p:nvSpPr>
        <p:spPr>
          <a:xfrm>
            <a:off x="4724280" y="3048120"/>
            <a:ext cx="0" cy="609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Line 1030"/>
          <p:cNvSpPr/>
          <p:nvPr/>
        </p:nvSpPr>
        <p:spPr>
          <a:xfrm>
            <a:off x="5791320" y="3048120"/>
            <a:ext cx="0" cy="6094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33"/>
              <p:cNvSpPr txBox="1"/>
              <p:nvPr/>
            </p:nvSpPr>
            <p:spPr>
              <a:xfrm>
                <a:off x="3111480" y="2576520"/>
                <a:ext cx="32274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s of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D8E3-2B72-45E8-AE2B-56E848B2696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DBB1-34A4-422C-A8EA-7468E574242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62" name="Picture 11" descr="D:\2025-f00\fir3.png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5077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5720" y="1708200"/>
            <a:ext cx="18752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S MOV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Freeform 10"/>
          <p:cNvSpPr/>
          <p:nvPr/>
        </p:nvSpPr>
        <p:spPr>
          <a:xfrm flipV="1">
            <a:off x="609480" y="2133000"/>
            <a:ext cx="1828800" cy="190476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2"/>
              <p:cNvSpPr txBox="1"/>
              <p:nvPr/>
            </p:nvSpPr>
            <p:spPr>
              <a:xfrm>
                <a:off x="7912080" y="4599000"/>
                <a:ext cx="1093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3"/>
              <p:cNvSpPr txBox="1"/>
              <p:nvPr/>
            </p:nvSpPr>
            <p:spPr>
              <a:xfrm>
                <a:off x="228600" y="464832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4"/>
              <p:cNvSpPr txBox="1"/>
              <p:nvPr/>
            </p:nvSpPr>
            <p:spPr>
              <a:xfrm>
                <a:off x="7848720" y="1752480"/>
                <a:ext cx="9144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143D-D936-4274-9650-67513613982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9299-6F1F-4A7D-85C3-B776104AB66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8C4F-B559-4235-B291-11BCA967816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0FAD-0B03-4755-A058-E7E1274DE56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9"/>
              <p:cNvSpPr txBox="1"/>
              <p:nvPr/>
            </p:nvSpPr>
            <p:spPr>
              <a:xfrm>
                <a:off x="4800600" y="5715000"/>
                <a:ext cx="4267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LLING PROPERTY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 H(z)=0 on the unit circl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d inputs x[n] that give zero outpu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5" name="Group 26"/>
          <p:cNvGrpSpPr/>
          <p:nvPr/>
        </p:nvGrpSpPr>
        <p:grpSpPr>
          <a:xfrm>
            <a:off x="838080" y="2819520"/>
            <a:ext cx="6096240" cy="2819160"/>
            <a:chOff x="838080" y="2819520"/>
            <a:chExt cx="6096240" cy="2819160"/>
          </a:xfrm>
        </p:grpSpPr>
        <p:sp>
          <p:nvSpPr>
            <p:cNvPr id="276" name="Rectangle 8"/>
            <p:cNvSpPr/>
            <p:nvPr/>
          </p:nvSpPr>
          <p:spPr>
            <a:xfrm>
              <a:off x="2819520" y="472428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1828800" y="51814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8" name="Line 10"/>
            <p:cNvSpPr/>
            <p:nvPr/>
          </p:nvSpPr>
          <p:spPr>
            <a:xfrm>
              <a:off x="4724280" y="51814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Rectangle 11"/>
            <p:cNvSpPr/>
            <p:nvPr/>
          </p:nvSpPr>
          <p:spPr>
            <a:xfrm>
              <a:off x="4877640" y="46958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1753920" y="46958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13"/>
                <p:cNvSpPr txBox="1"/>
                <p:nvPr/>
              </p:nvSpPr>
              <p:spPr>
                <a:xfrm>
                  <a:off x="3146400" y="4854600"/>
                  <a:ext cx="1320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Object 25"/>
                <p:cNvSpPr txBox="1"/>
                <p:nvPr/>
              </p:nvSpPr>
              <p:spPr>
                <a:xfrm>
                  <a:off x="838080" y="2819520"/>
                  <a:ext cx="609624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3" name="Object 27"/>
              <p:cNvSpPr txBox="1"/>
              <p:nvPr/>
            </p:nvSpPr>
            <p:spPr>
              <a:xfrm>
                <a:off x="533520" y="3733920"/>
                <a:ext cx="771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8"/>
              <p:cNvSpPr txBox="1"/>
              <p:nvPr/>
            </p:nvSpPr>
            <p:spPr>
              <a:xfrm>
                <a:off x="152280" y="5607000"/>
                <a:ext cx="2514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5" name="Group 32"/>
          <p:cNvGrpSpPr/>
          <p:nvPr/>
        </p:nvGrpSpPr>
        <p:grpSpPr>
          <a:xfrm>
            <a:off x="5867280" y="4800600"/>
            <a:ext cx="2760840" cy="1905120"/>
            <a:chOff x="5867280" y="4800600"/>
            <a:chExt cx="2760840" cy="1905120"/>
          </a:xfrm>
        </p:grpSpPr>
        <p:sp>
          <p:nvSpPr>
            <p:cNvPr id="286" name="Oval 20"/>
            <p:cNvSpPr/>
            <p:nvPr/>
          </p:nvSpPr>
          <p:spPr>
            <a:xfrm>
              <a:off x="5867280" y="5486400"/>
              <a:ext cx="1752840" cy="1219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31"/>
                <p:cNvSpPr txBox="1"/>
                <p:nvPr/>
              </p:nvSpPr>
              <p:spPr>
                <a:xfrm>
                  <a:off x="6477120" y="4800600"/>
                  <a:ext cx="21510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CB99-37F1-482D-AE23-E45CE73CDD7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A507-E89C-4799-839A-5AC27848E47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ZEROS in z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2" name="Picture 3" descr="&#13;zero-plot.gif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1403280" y="1541520"/>
            <a:ext cx="6292800" cy="53164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4"/>
          <p:cNvGrpSpPr/>
          <p:nvPr/>
        </p:nvGrpSpPr>
        <p:grpSpPr>
          <a:xfrm>
            <a:off x="6019920" y="2209320"/>
            <a:ext cx="3099960" cy="3200760"/>
            <a:chOff x="6019920" y="2209320"/>
            <a:chExt cx="3099960" cy="3200760"/>
          </a:xfrm>
        </p:grpSpPr>
        <p:sp>
          <p:nvSpPr>
            <p:cNvPr id="294" name="Line 5"/>
            <p:cNvSpPr/>
            <p:nvPr/>
          </p:nvSpPr>
          <p:spPr>
            <a:xfrm flipH="1" flipV="1">
              <a:off x="6095520" y="2209320"/>
              <a:ext cx="1676520" cy="7621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 flipH="1">
              <a:off x="6019920" y="3429000"/>
              <a:ext cx="2286000" cy="1981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 flipH="1">
              <a:off x="6934320" y="3200400"/>
              <a:ext cx="76176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7" name="Text Box 8"/>
            <p:cNvSpPr/>
            <p:nvPr/>
          </p:nvSpPr>
          <p:spPr>
            <a:xfrm>
              <a:off x="7635960" y="2895480"/>
              <a:ext cx="14839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H(z) = 0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98" name="Group 9"/>
          <p:cNvGrpSpPr/>
          <p:nvPr/>
        </p:nvGrpSpPr>
        <p:grpSpPr>
          <a:xfrm>
            <a:off x="473400" y="3962160"/>
            <a:ext cx="4403520" cy="1679040"/>
            <a:chOff x="473400" y="3962160"/>
            <a:chExt cx="4403520" cy="1679040"/>
          </a:xfrm>
        </p:grpSpPr>
        <p:sp>
          <p:nvSpPr>
            <p:cNvPr id="299" name="Line 10"/>
            <p:cNvSpPr/>
            <p:nvPr/>
          </p:nvSpPr>
          <p:spPr>
            <a:xfrm flipV="1">
              <a:off x="1600200" y="3962160"/>
              <a:ext cx="3276720" cy="14475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473400" y="5181480"/>
              <a:ext cx="145008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3 POLE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301" name="Group 12"/>
          <p:cNvGrpSpPr/>
          <p:nvPr/>
        </p:nvGrpSpPr>
        <p:grpSpPr>
          <a:xfrm>
            <a:off x="322560" y="1905120"/>
            <a:ext cx="3258720" cy="838080"/>
            <a:chOff x="322560" y="1905120"/>
            <a:chExt cx="3258720" cy="838080"/>
          </a:xfrm>
        </p:grpSpPr>
        <p:sp>
          <p:nvSpPr>
            <p:cNvPr id="302" name="Line 13"/>
            <p:cNvSpPr/>
            <p:nvPr/>
          </p:nvSpPr>
          <p:spPr>
            <a:xfrm>
              <a:off x="1371600" y="2362320"/>
              <a:ext cx="2209680" cy="3808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322560" y="1905120"/>
              <a:ext cx="129636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UNI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IRCL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32A1-A1EA-40DC-BA3C-D32847E39B0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D806-F98A-4CDC-8074-7C044A7968A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LLING PROPERTY of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aluate H(z) at the input “frequency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442800" y="2362320"/>
                <a:ext cx="771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9"/>
              <p:cNvSpPr txBox="1"/>
              <p:nvPr/>
            </p:nvSpPr>
            <p:spPr>
              <a:xfrm>
                <a:off x="228600" y="3276720"/>
                <a:ext cx="4572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0"/>
              <p:cNvSpPr txBox="1"/>
              <p:nvPr/>
            </p:nvSpPr>
            <p:spPr>
              <a:xfrm>
                <a:off x="228600" y="4038480"/>
                <a:ext cx="8801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1"/>
              <p:cNvSpPr txBox="1"/>
              <p:nvPr/>
            </p:nvSpPr>
            <p:spPr>
              <a:xfrm>
                <a:off x="1486080" y="4802040"/>
                <a:ext cx="68958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2"/>
              <p:cNvSpPr txBox="1"/>
              <p:nvPr/>
            </p:nvSpPr>
            <p:spPr>
              <a:xfrm>
                <a:off x="228600" y="5678640"/>
                <a:ext cx="8305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F5BD-C2F1-464D-9857-3E5BD5F5D5B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D87-C9C4-4EC1-B0F2-86494DFA6DFF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18" name="Picture 3" descr="_x000b_FIR_4pt.gif         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914400" y="1488960"/>
            <a:ext cx="7315200" cy="53085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11"/>
          <p:cNvGrpSpPr/>
          <p:nvPr/>
        </p:nvGrpSpPr>
        <p:grpSpPr>
          <a:xfrm>
            <a:off x="3111480" y="2576520"/>
            <a:ext cx="3227400" cy="1004760"/>
            <a:chOff x="3111480" y="2576520"/>
            <a:chExt cx="3227400" cy="1004760"/>
          </a:xfrm>
        </p:grpSpPr>
        <p:sp>
          <p:nvSpPr>
            <p:cNvPr id="320" name="Line 4"/>
            <p:cNvSpPr/>
            <p:nvPr/>
          </p:nvSpPr>
          <p:spPr>
            <a:xfrm>
              <a:off x="3581280" y="2971800"/>
              <a:ext cx="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>
              <a:off x="4724280" y="2971800"/>
              <a:ext cx="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>
              <a:off x="5867280" y="2971800"/>
              <a:ext cx="0" cy="609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9"/>
                <p:cNvSpPr txBox="1"/>
                <p:nvPr/>
              </p:nvSpPr>
              <p:spPr>
                <a:xfrm>
                  <a:off x="3111480" y="2576520"/>
                  <a:ext cx="322740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Zeros of 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1655-87B4-464C-AEE6-BF7B6068845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D4CF-F14B-45A7-9EEB-7064B99B333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y the System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352680" y="40384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23623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5257800" y="4495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481000" y="401004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2287440" y="40100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3679920" y="4167360"/>
                <a:ext cx="1322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0"/>
          <p:cNvSpPr/>
          <p:nvPr/>
        </p:nvSpPr>
        <p:spPr>
          <a:xfrm>
            <a:off x="1752480" y="274320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762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36576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687240" y="27147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4"/>
              <p:cNvSpPr txBox="1"/>
              <p:nvPr/>
            </p:nvSpPr>
            <p:spPr>
              <a:xfrm>
                <a:off x="2011320" y="2849400"/>
                <a:ext cx="14572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15"/>
          <p:cNvSpPr/>
          <p:nvPr/>
        </p:nvSpPr>
        <p:spPr>
          <a:xfrm>
            <a:off x="46483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65530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6852600" y="271476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8"/>
              <p:cNvSpPr txBox="1"/>
              <p:nvPr/>
            </p:nvSpPr>
            <p:spPr>
              <a:xfrm>
                <a:off x="4884840" y="2849400"/>
                <a:ext cx="15033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9"/>
              <p:cNvSpPr txBox="1"/>
              <p:nvPr/>
            </p:nvSpPr>
            <p:spPr>
              <a:xfrm>
                <a:off x="3649680" y="5288040"/>
                <a:ext cx="4510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Line 20"/>
          <p:cNvSpPr/>
          <p:nvPr/>
        </p:nvSpPr>
        <p:spPr>
          <a:xfrm flipV="1">
            <a:off x="2743200" y="4876560"/>
            <a:ext cx="533520" cy="228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786240" y="5075280"/>
            <a:ext cx="2142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QUIVAL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209E-4D19-4AC3-BFED-EDF4AE1B500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3D37-EA70-42B3-A43A-C7F5884E157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2362320" y="3933720"/>
            <a:ext cx="3886200" cy="943200"/>
            <a:chOff x="2362320" y="3933720"/>
            <a:chExt cx="3886200" cy="943200"/>
          </a:xfrm>
        </p:grpSpPr>
        <p:sp>
          <p:nvSpPr>
            <p:cNvPr id="352" name="Rectangle 4"/>
            <p:cNvSpPr/>
            <p:nvPr/>
          </p:nvSpPr>
          <p:spPr>
            <a:xfrm>
              <a:off x="3352680" y="396252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3" name="Line 5"/>
            <p:cNvSpPr/>
            <p:nvPr/>
          </p:nvSpPr>
          <p:spPr>
            <a:xfrm>
              <a:off x="2362320" y="441972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4" name="Line 6"/>
            <p:cNvSpPr/>
            <p:nvPr/>
          </p:nvSpPr>
          <p:spPr>
            <a:xfrm>
              <a:off x="5257800" y="44197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5" name="Rectangle 7"/>
            <p:cNvSpPr/>
            <p:nvPr/>
          </p:nvSpPr>
          <p:spPr>
            <a:xfrm>
              <a:off x="5411160" y="39337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2363760" y="39337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Object 9"/>
                <p:cNvSpPr txBox="1"/>
                <p:nvPr/>
              </p:nvSpPr>
              <p:spPr>
                <a:xfrm>
                  <a:off x="3657600" y="4070520"/>
                  <a:ext cx="132228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Group 10"/>
          <p:cNvGrpSpPr/>
          <p:nvPr/>
        </p:nvGrpSpPr>
        <p:grpSpPr>
          <a:xfrm>
            <a:off x="838080" y="1571760"/>
            <a:ext cx="6782040" cy="942840"/>
            <a:chOff x="838080" y="1571760"/>
            <a:chExt cx="6782040" cy="942840"/>
          </a:xfrm>
        </p:grpSpPr>
        <p:sp>
          <p:nvSpPr>
            <p:cNvPr id="359" name="Rectangle 11"/>
            <p:cNvSpPr/>
            <p:nvPr/>
          </p:nvSpPr>
          <p:spPr>
            <a:xfrm>
              <a:off x="182880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>
              <a:off x="83808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>
              <a:off x="3733920" y="20574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839520" y="1571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15"/>
                <p:cNvSpPr txBox="1"/>
                <p:nvPr/>
              </p:nvSpPr>
              <p:spPr>
                <a:xfrm>
                  <a:off x="2087640" y="1706400"/>
                  <a:ext cx="14587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Rectangle 16"/>
            <p:cNvSpPr/>
            <p:nvPr/>
          </p:nvSpPr>
          <p:spPr>
            <a:xfrm>
              <a:off x="472428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>
              <a:off x="662940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6782760" y="157176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Object 19"/>
                <p:cNvSpPr txBox="1"/>
                <p:nvPr/>
              </p:nvSpPr>
              <p:spPr>
                <a:xfrm>
                  <a:off x="4960800" y="1706400"/>
                  <a:ext cx="15033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Rectangle 20"/>
            <p:cNvSpPr/>
            <p:nvPr/>
          </p:nvSpPr>
          <p:spPr>
            <a:xfrm>
              <a:off x="3811680" y="157176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w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9" name="Object 21"/>
              <p:cNvSpPr txBox="1"/>
              <p:nvPr/>
            </p:nvSpPr>
            <p:spPr>
              <a:xfrm>
                <a:off x="6172200" y="3200400"/>
                <a:ext cx="2660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2"/>
              <p:cNvSpPr txBox="1"/>
              <p:nvPr/>
            </p:nvSpPr>
            <p:spPr>
              <a:xfrm>
                <a:off x="304920" y="3135240"/>
                <a:ext cx="2589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3"/>
              <p:cNvSpPr txBox="1"/>
              <p:nvPr/>
            </p:nvSpPr>
            <p:spPr>
              <a:xfrm>
                <a:off x="1523880" y="4952880"/>
                <a:ext cx="6019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4"/>
              <p:cNvSpPr txBox="1"/>
              <p:nvPr/>
            </p:nvSpPr>
            <p:spPr>
              <a:xfrm>
                <a:off x="2895480" y="5791320"/>
                <a:ext cx="3951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5"/>
              <p:cNvSpPr txBox="1"/>
              <p:nvPr/>
            </p:nvSpPr>
            <p:spPr>
              <a:xfrm>
                <a:off x="304920" y="2514600"/>
                <a:ext cx="3657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6"/>
              <p:cNvSpPr txBox="1"/>
              <p:nvPr/>
            </p:nvSpPr>
            <p:spPr>
              <a:xfrm>
                <a:off x="4965840" y="2543040"/>
                <a:ext cx="3873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4533-25BF-45EF-A23E-99AE8F56AAA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B778-178F-45D3-B131-03DA41552E8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6"/>
              <p:cNvSpPr txBox="1"/>
              <p:nvPr/>
            </p:nvSpPr>
            <p:spPr>
              <a:xfrm>
                <a:off x="914400" y="4267080"/>
                <a:ext cx="63277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-pt RUNNING SUM 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79760" y="5257800"/>
            <a:ext cx="209196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ROS 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IT CIRC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381" name="Group 11"/>
          <p:cNvGrpSpPr/>
          <p:nvPr/>
        </p:nvGrpSpPr>
        <p:grpSpPr>
          <a:xfrm>
            <a:off x="2590560" y="2514600"/>
            <a:ext cx="6451920" cy="4010760"/>
            <a:chOff x="2590560" y="2514600"/>
            <a:chExt cx="6451920" cy="4010760"/>
          </a:xfrm>
        </p:grpSpPr>
        <p:sp>
          <p:nvSpPr>
            <p:cNvPr id="382" name="Line 5"/>
            <p:cNvSpPr/>
            <p:nvPr/>
          </p:nvSpPr>
          <p:spPr>
            <a:xfrm flipH="1" flipV="1">
              <a:off x="2590560" y="5029200"/>
              <a:ext cx="3809880" cy="9144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8305920" y="2514600"/>
              <a:ext cx="736560" cy="2971800"/>
            </a:xfrm>
            <a:custGeom>
              <a:avLst/>
              <a:gdLst/>
              <a:ahLst/>
              <a:rect l="l" t="t" r="r" b="b"/>
              <a:pathLst>
                <a:path w="464" h="2232">
                  <a:moveTo>
                    <a:pt x="192" y="2232"/>
                  </a:moveTo>
                  <a:cubicBezTo>
                    <a:pt x="328" y="1476"/>
                    <a:pt x="464" y="720"/>
                    <a:pt x="432" y="360"/>
                  </a:cubicBezTo>
                  <a:cubicBezTo>
                    <a:pt x="400" y="0"/>
                    <a:pt x="200" y="36"/>
                    <a:pt x="0" y="72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6323760" y="5334120"/>
              <a:ext cx="2494080" cy="11912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(z-1) in 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denominato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ancels k=0 te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5" name="Object 13"/>
              <p:cNvSpPr txBox="1"/>
              <p:nvPr/>
            </p:nvSpPr>
            <p:spPr>
              <a:xfrm>
                <a:off x="3429000" y="1752480"/>
                <a:ext cx="51418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p>
                        </m:sSup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z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4"/>
              <p:cNvSpPr txBox="1"/>
              <p:nvPr/>
            </p:nvSpPr>
            <p:spPr>
              <a:xfrm>
                <a:off x="304920" y="1752480"/>
                <a:ext cx="31636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5"/>
              <p:cNvSpPr txBox="1"/>
              <p:nvPr/>
            </p:nvSpPr>
            <p:spPr>
              <a:xfrm>
                <a:off x="990720" y="3352680"/>
                <a:ext cx="58528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33C4-72B4-4E9B-9024-8DF157D8B53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6CDD-DD91-4BD5-9737-3E9FBAC372B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11-pt RUNNING SUM  H(z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92" name="Picture 3" descr="_x0017_Hw-11pt-running-sum.gif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3809880" y="3581280"/>
            <a:ext cx="5257800" cy="2344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_x0017_PZ-11pt-running-sum.gif                                        0000968B_x0005_JKL-2                          B0CAADC9:"/>
          <p:cNvPicPr/>
          <p:nvPr/>
        </p:nvPicPr>
        <p:blipFill>
          <a:blip r:embed="rId2"/>
          <a:stretch/>
        </p:blipFill>
        <p:spPr>
          <a:xfrm>
            <a:off x="152280" y="3511440"/>
            <a:ext cx="3543480" cy="3194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_x0017_HZ-11pt-running-sum.gif                                        0000968B_x0005_JKL-2                          B0CAADC9:"/>
          <p:cNvPicPr/>
          <p:nvPr/>
        </p:nvPicPr>
        <p:blipFill>
          <a:blip r:embed="rId3"/>
          <a:stretch/>
        </p:blipFill>
        <p:spPr>
          <a:xfrm>
            <a:off x="0" y="1600200"/>
            <a:ext cx="9144000" cy="1873080"/>
          </a:xfrm>
          <a:prstGeom prst="rect">
            <a:avLst/>
          </a:prstGeom>
          <a:ln w="0">
            <a:noFill/>
          </a:ln>
        </p:spPr>
      </p:pic>
      <p:sp>
        <p:nvSpPr>
          <p:cNvPr id="395" name="Freeform 6"/>
          <p:cNvSpPr/>
          <p:nvPr/>
        </p:nvSpPr>
        <p:spPr>
          <a:xfrm>
            <a:off x="3200400" y="5029200"/>
            <a:ext cx="2438280" cy="1295280"/>
          </a:xfrm>
          <a:custGeom>
            <a:avLst/>
            <a:gdLst/>
            <a:ahLst/>
            <a:rect l="l" t="t" r="r" b="b"/>
            <a:pathLst>
              <a:path w="1584" h="768">
                <a:moveTo>
                  <a:pt x="1584" y="768"/>
                </a:moveTo>
                <a:cubicBezTo>
                  <a:pt x="1116" y="736"/>
                  <a:pt x="648" y="704"/>
                  <a:pt x="384" y="576"/>
                </a:cubicBezTo>
                <a:cubicBezTo>
                  <a:pt x="120" y="448"/>
                  <a:pt x="60" y="224"/>
                  <a:pt x="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6477120" y="5486400"/>
            <a:ext cx="152280" cy="685800"/>
          </a:xfrm>
          <a:custGeom>
            <a:avLst/>
            <a:gdLst/>
            <a:ahLst/>
            <a:rect l="l" t="t" r="r" b="b"/>
            <a:pathLst>
              <a:path w="1584" h="768">
                <a:moveTo>
                  <a:pt x="1584" y="768"/>
                </a:moveTo>
                <a:cubicBezTo>
                  <a:pt x="1116" y="736"/>
                  <a:pt x="648" y="704"/>
                  <a:pt x="384" y="576"/>
                </a:cubicBezTo>
                <a:cubicBezTo>
                  <a:pt x="120" y="448"/>
                  <a:pt x="60" y="224"/>
                  <a:pt x="0" y="0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5703120" y="6095880"/>
            <a:ext cx="22410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 zero at z=1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264A-F4AF-491C-B855-A72178B19D5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7987-D056-4671-96DC-D7A83F5ADE7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01" name="Picture 2" descr="_x000c_PZ-10-20.gif                                                   0000DCF0_x0005_JIM-2                          B29E03F8:"/>
          <p:cNvPicPr/>
          <p:nvPr/>
        </p:nvPicPr>
        <p:blipFill>
          <a:blip r:embed="rId1"/>
          <a:stretch/>
        </p:blipFill>
        <p:spPr>
          <a:xfrm>
            <a:off x="152280" y="1523880"/>
            <a:ext cx="2971800" cy="48769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4326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DESIGN: CHANGE 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403" name="Picture 4" descr="_x000c_Hw-10-20.gif                                                   000073A8_x0003_JJ2                            B37C3755:"/>
          <p:cNvPicPr/>
          <p:nvPr/>
        </p:nvPicPr>
        <p:blipFill>
          <a:blip r:embed="rId2"/>
          <a:stretch/>
        </p:blipFill>
        <p:spPr>
          <a:xfrm>
            <a:off x="3352680" y="1523880"/>
            <a:ext cx="5715000" cy="4859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3867480" y="3962520"/>
            <a:ext cx="1838880" cy="119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ssband 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rrow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L big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7EF8-41B7-490D-A014-F1FDED7A205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5A4-6ED0-4106-9B50-61EFA69D7FD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NULLING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LACE ZEROS to make y[n] = 0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0" name="Picture 4" descr="_x0014_Hz-nulls-signals.gif                                           0000968B_x0005_JKL-2                          B0CAADC9:"/>
          <p:cNvPicPr/>
          <p:nvPr/>
        </p:nvPicPr>
        <p:blipFill>
          <a:blip r:embed="rId1"/>
          <a:stretch/>
        </p:blipFill>
        <p:spPr>
          <a:xfrm>
            <a:off x="1168560" y="2603520"/>
            <a:ext cx="5765760" cy="3797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5"/>
          <p:cNvSpPr/>
          <p:nvPr/>
        </p:nvSpPr>
        <p:spPr>
          <a:xfrm>
            <a:off x="263880" y="4343400"/>
            <a:ext cx="137412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63880" y="5105520"/>
            <a:ext cx="137412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263880" y="5867280"/>
            <a:ext cx="137412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4" name="Line 8"/>
          <p:cNvSpPr/>
          <p:nvPr/>
        </p:nvSpPr>
        <p:spPr>
          <a:xfrm flipH="1">
            <a:off x="6248520" y="2971800"/>
            <a:ext cx="137160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338960" y="2546280"/>
            <a:ext cx="14839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 ZERO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(z)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867280" y="4495680"/>
            <a:ext cx="9144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7" name="Line 14"/>
          <p:cNvSpPr/>
          <p:nvPr/>
        </p:nvSpPr>
        <p:spPr>
          <a:xfrm flipV="1">
            <a:off x="6172200" y="6095880"/>
            <a:ext cx="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6"/>
              <p:cNvSpPr txBox="1"/>
              <p:nvPr/>
            </p:nvSpPr>
            <p:spPr>
              <a:xfrm>
                <a:off x="6781680" y="4038480"/>
                <a:ext cx="18194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17"/>
              <p:cNvSpPr txBox="1"/>
              <p:nvPr/>
            </p:nvSpPr>
            <p:spPr>
              <a:xfrm>
                <a:off x="6781680" y="5715000"/>
                <a:ext cx="18590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18"/>
              <p:cNvSpPr txBox="1"/>
              <p:nvPr/>
            </p:nvSpPr>
            <p:spPr>
              <a:xfrm>
                <a:off x="6781680" y="4876920"/>
                <a:ext cx="1859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59DE-43DE-48FF-BEEC-A8B184F7E76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16EB-29EF-459E-B988-79A8B05D933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7, Section 7-6 to en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 &amp; Lab: Chapter 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ROS (and POLE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Chapter 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502E-2676-4692-976D-096075F633B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B065-584D-4E82-B080-4D1B6FEE5A9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24" name="Picture 9" descr="D:\2025-f00\Lectures\fir10_r.png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50770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26" name="Freeform 8"/>
          <p:cNvSpPr/>
          <p:nvPr/>
        </p:nvSpPr>
        <p:spPr>
          <a:xfrm flipV="1">
            <a:off x="304920" y="2056320"/>
            <a:ext cx="2819160" cy="167652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67400" y="1676520"/>
            <a:ext cx="2199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S MISS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10"/>
              <p:cNvSpPr txBox="1"/>
              <p:nvPr/>
            </p:nvSpPr>
            <p:spPr>
              <a:xfrm>
                <a:off x="7924680" y="1752480"/>
                <a:ext cx="9144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1"/>
              <p:cNvSpPr txBox="1"/>
              <p:nvPr/>
            </p:nvSpPr>
            <p:spPr>
              <a:xfrm>
                <a:off x="2666880" y="5562720"/>
                <a:ext cx="682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2"/>
              <p:cNvSpPr txBox="1"/>
              <p:nvPr/>
            </p:nvSpPr>
            <p:spPr>
              <a:xfrm>
                <a:off x="8001000" y="4444920"/>
                <a:ext cx="1066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4FC2-A1A4-4D87-AE46-87B2941B98C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B26D-946B-44FD-B398-A5358A83B42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34" name="Picture 2" descr="D:\2025-f00\Lectures\fir10_r.png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50770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 DOMAINS MOVIE: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6" name="Freeform 4"/>
          <p:cNvSpPr/>
          <p:nvPr/>
        </p:nvSpPr>
        <p:spPr>
          <a:xfrm flipV="1">
            <a:off x="304920" y="2056320"/>
            <a:ext cx="2819160" cy="1676520"/>
          </a:xfrm>
          <a:custGeom>
            <a:avLst/>
            <a:gdLst/>
            <a:ahLst/>
            <a:rect l="l" t="t" r="r" b="b"/>
            <a:pathLst>
              <a:path w="1056" h="2208">
                <a:moveTo>
                  <a:pt x="192" y="2208"/>
                </a:moveTo>
                <a:cubicBezTo>
                  <a:pt x="96" y="2032"/>
                  <a:pt x="0" y="1856"/>
                  <a:pt x="0" y="1584"/>
                </a:cubicBezTo>
                <a:cubicBezTo>
                  <a:pt x="0" y="1312"/>
                  <a:pt x="16" y="840"/>
                  <a:pt x="192" y="576"/>
                </a:cubicBezTo>
                <a:cubicBezTo>
                  <a:pt x="368" y="312"/>
                  <a:pt x="712" y="156"/>
                  <a:pt x="1056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167400" y="1676520"/>
            <a:ext cx="2199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EROS MISS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6"/>
              <p:cNvSpPr txBox="1"/>
              <p:nvPr/>
            </p:nvSpPr>
            <p:spPr>
              <a:xfrm>
                <a:off x="8077320" y="4583160"/>
                <a:ext cx="939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7"/>
              <p:cNvSpPr txBox="1"/>
              <p:nvPr/>
            </p:nvSpPr>
            <p:spPr>
              <a:xfrm>
                <a:off x="8077320" y="1623960"/>
                <a:ext cx="914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8"/>
              <p:cNvSpPr txBox="1"/>
              <p:nvPr/>
            </p:nvSpPr>
            <p:spPr>
              <a:xfrm>
                <a:off x="2590920" y="5591160"/>
                <a:ext cx="75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9E7E-C512-4575-A4D6-CD9736985A9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27A4-8FD1-4A21-88C5-41E02276AE5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-1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178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EROS and POL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late H(z) to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352680" y="3581280"/>
            <a:ext cx="4343400" cy="16002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05" name="Group 14"/>
          <p:cNvGrpSpPr/>
          <p:nvPr/>
        </p:nvGrpSpPr>
        <p:grpSpPr>
          <a:xfrm>
            <a:off x="2514600" y="5562720"/>
            <a:ext cx="5562720" cy="990360"/>
            <a:chOff x="2514600" y="5562720"/>
            <a:chExt cx="5562720" cy="990360"/>
          </a:xfrm>
        </p:grpSpPr>
        <p:sp>
          <p:nvSpPr>
            <p:cNvPr id="106" name="AutoShape 7"/>
            <p:cNvSpPr/>
            <p:nvPr/>
          </p:nvSpPr>
          <p:spPr>
            <a:xfrm>
              <a:off x="2514600" y="5867280"/>
              <a:ext cx="228600" cy="53352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AutoShape 8"/>
            <p:cNvSpPr/>
            <p:nvPr/>
          </p:nvSpPr>
          <p:spPr>
            <a:xfrm>
              <a:off x="7848720" y="5562720"/>
              <a:ext cx="228600" cy="990360"/>
            </a:xfrm>
            <a:prstGeom prst="upArrow">
              <a:avLst>
                <a:gd name="adj1" fmla="val 50000"/>
                <a:gd name="adj2" fmla="val 108307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4876920" y="5867280"/>
              <a:ext cx="228600" cy="609840"/>
            </a:xfrm>
            <a:prstGeom prst="upArrow">
              <a:avLst>
                <a:gd name="adj1" fmla="val 50000"/>
                <a:gd name="adj2" fmla="val 66693"/>
              </a:avLst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09" name="Rectangle 10"/>
          <p:cNvSpPr/>
          <p:nvPr/>
        </p:nvSpPr>
        <p:spPr>
          <a:xfrm>
            <a:off x="507960" y="4038480"/>
            <a:ext cx="8178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REE DOMAINS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how Relationship for FIR: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1746360" y="2916360"/>
                <a:ext cx="550044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3"/>
              <p:cNvSpPr txBox="1"/>
              <p:nvPr/>
            </p:nvSpPr>
            <p:spPr>
              <a:xfrm>
                <a:off x="1828800" y="5029200"/>
                <a:ext cx="67230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F351-B564-441C-A587-1C05202CD2B3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A985-0054-46C0-A3B1-B17FB7FC799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84896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sign a Lowpass FIR filter:   Find b</a:t>
            </a:r>
            <a:r>
              <a:rPr b="0" lang="en-US" sz="26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with Z Polynomial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ascaded System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L-point running sum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50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-2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5CF7-D615-4F3C-80F4-CF9CA33ED95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754B-96F6-400C-97A9-B985DE3601F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DEFIN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85672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LYNOMIAL Representation of LTI SYSTEM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936880" y="2324160"/>
                <a:ext cx="3206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Line 5"/>
          <p:cNvSpPr/>
          <p:nvPr/>
        </p:nvSpPr>
        <p:spPr>
          <a:xfrm flipH="1" flipV="1">
            <a:off x="5181120" y="2971800"/>
            <a:ext cx="83844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033600" y="3384720"/>
            <a:ext cx="167580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PLIES to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y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269040" y="5486400"/>
            <a:ext cx="25398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OLYNOMIAL in z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914400" y="4419720"/>
                <a:ext cx="6730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1905120" y="5029200"/>
                <a:ext cx="2923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1916280" y="5638680"/>
                <a:ext cx="3875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762120" y="3943440"/>
                <a:ext cx="3944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EF7C-E25C-4ADE-B0D6-9F2D040C607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E159-36AA-4D8C-848C-5128879AE09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2"/>
              <p:cNvSpPr txBox="1"/>
              <p:nvPr/>
            </p:nvSpPr>
            <p:spPr>
              <a:xfrm>
                <a:off x="228600" y="3448080"/>
                <a:ext cx="8534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in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cation in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domai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 flipV="1">
            <a:off x="7162920" y="4038120"/>
            <a:ext cx="533160" cy="838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377040" y="4770360"/>
            <a:ext cx="258264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-TRANSFO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074120" y="5837400"/>
            <a:ext cx="150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IR Fil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4343400" y="2133720"/>
            <a:ext cx="76320" cy="609480"/>
          </a:xfrm>
          <a:prstGeom prst="line">
            <a:avLst/>
          </a:prstGeom>
          <a:ln w="572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3"/>
              <p:cNvSpPr txBox="1"/>
              <p:nvPr/>
            </p:nvSpPr>
            <p:spPr>
              <a:xfrm>
                <a:off x="228600" y="4533840"/>
                <a:ext cx="37339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[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E0DD-9A9F-4225-9BEE-E34B1896605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7F38-56A7-45F1-BA5A-BEB089A8917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45" name="Group 3102"/>
          <p:cNvGrpSpPr/>
          <p:nvPr/>
        </p:nvGrpSpPr>
        <p:grpSpPr>
          <a:xfrm>
            <a:off x="2590920" y="1646280"/>
            <a:ext cx="3886200" cy="944640"/>
            <a:chOff x="2590920" y="1646280"/>
            <a:chExt cx="3886200" cy="944640"/>
          </a:xfrm>
        </p:grpSpPr>
        <p:sp>
          <p:nvSpPr>
            <p:cNvPr id="146" name="Rectangle 3076"/>
            <p:cNvSpPr/>
            <p:nvPr/>
          </p:nvSpPr>
          <p:spPr>
            <a:xfrm>
              <a:off x="3581280" y="167652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Line 3077"/>
            <p:cNvSpPr/>
            <p:nvPr/>
          </p:nvSpPr>
          <p:spPr>
            <a:xfrm>
              <a:off x="2590920" y="213372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Line 3078"/>
            <p:cNvSpPr/>
            <p:nvPr/>
          </p:nvSpPr>
          <p:spPr>
            <a:xfrm>
              <a:off x="5486400" y="21337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Rectangle 3079"/>
            <p:cNvSpPr/>
            <p:nvPr/>
          </p:nvSpPr>
          <p:spPr>
            <a:xfrm>
              <a:off x="5639760" y="16462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Rectangle 3080"/>
            <p:cNvSpPr/>
            <p:nvPr/>
          </p:nvSpPr>
          <p:spPr>
            <a:xfrm>
              <a:off x="2592360" y="16462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3081"/>
                <p:cNvSpPr txBox="1"/>
                <p:nvPr/>
              </p:nvSpPr>
              <p:spPr>
                <a:xfrm>
                  <a:off x="3976560" y="1828800"/>
                  <a:ext cx="118440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2" name="Object 3103"/>
              <p:cNvSpPr txBox="1"/>
              <p:nvPr/>
            </p:nvSpPr>
            <p:spPr>
              <a:xfrm>
                <a:off x="3352680" y="32767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104"/>
              <p:cNvSpPr txBox="1"/>
              <p:nvPr/>
            </p:nvSpPr>
            <p:spPr>
              <a:xfrm>
                <a:off x="158760" y="3986280"/>
                <a:ext cx="3041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105"/>
              <p:cNvSpPr txBox="1"/>
              <p:nvPr/>
            </p:nvSpPr>
            <p:spPr>
              <a:xfrm>
                <a:off x="6095880" y="3986280"/>
                <a:ext cx="24195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106"/>
              <p:cNvSpPr txBox="1"/>
              <p:nvPr/>
            </p:nvSpPr>
            <p:spPr>
              <a:xfrm>
                <a:off x="380880" y="4849920"/>
                <a:ext cx="8153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107"/>
              <p:cNvSpPr txBox="1"/>
              <p:nvPr/>
            </p:nvSpPr>
            <p:spPr>
              <a:xfrm>
                <a:off x="5334120" y="2643120"/>
                <a:ext cx="35938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108"/>
              <p:cNvSpPr txBox="1"/>
              <p:nvPr/>
            </p:nvSpPr>
            <p:spPr>
              <a:xfrm>
                <a:off x="152280" y="2643120"/>
                <a:ext cx="4424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109"/>
              <p:cNvSpPr txBox="1"/>
              <p:nvPr/>
            </p:nvSpPr>
            <p:spPr>
              <a:xfrm>
                <a:off x="1044720" y="5767560"/>
                <a:ext cx="61182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BE51-7358-4181-9C00-ED7D5FD37FD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5246-FC9D-4355-9715-F510AF3D90C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64" name="Text Box 4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7" name="Group 7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68" name="Line 8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0" name="Group 19"/>
          <p:cNvGrpSpPr/>
          <p:nvPr/>
        </p:nvGrpSpPr>
        <p:grpSpPr>
          <a:xfrm>
            <a:off x="5184720" y="4419720"/>
            <a:ext cx="3727440" cy="1865160"/>
            <a:chOff x="5184720" y="4419720"/>
            <a:chExt cx="3727440" cy="1865160"/>
          </a:xfrm>
        </p:grpSpPr>
        <p:sp>
          <p:nvSpPr>
            <p:cNvPr id="171" name="Text Box 11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5184720" y="4970520"/>
                  <a:ext cx="37274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3" name="Group 13"/>
          <p:cNvGrpSpPr/>
          <p:nvPr/>
        </p:nvGrpSpPr>
        <p:grpSpPr>
          <a:xfrm>
            <a:off x="152280" y="4479840"/>
            <a:ext cx="3581640" cy="1844640"/>
            <a:chOff x="152280" y="4479840"/>
            <a:chExt cx="3581640" cy="1844640"/>
          </a:xfrm>
        </p:grpSpPr>
        <p:sp>
          <p:nvSpPr>
            <p:cNvPr id="174" name="Text Box 14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5"/>
                <p:cNvSpPr txBox="1"/>
                <p:nvPr/>
              </p:nvSpPr>
              <p:spPr>
                <a:xfrm>
                  <a:off x="152280" y="5010120"/>
                  <a:ext cx="35816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6" name="Group 16"/>
          <p:cNvGrpSpPr/>
          <p:nvPr/>
        </p:nvGrpSpPr>
        <p:grpSpPr>
          <a:xfrm>
            <a:off x="2514600" y="3429000"/>
            <a:ext cx="3962520" cy="1371600"/>
            <a:chOff x="2514600" y="3429000"/>
            <a:chExt cx="3962520" cy="1371600"/>
          </a:xfrm>
        </p:grpSpPr>
        <p:sp>
          <p:nvSpPr>
            <p:cNvPr id="177" name="Line 17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Object 18"/>
                <p:cNvSpPr txBox="1"/>
                <p:nvPr/>
              </p:nvSpPr>
              <p:spPr>
                <a:xfrm>
                  <a:off x="3581280" y="3429000"/>
                  <a:ext cx="16765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10-09T18:53:54Z</cp:lastPrinted>
  <dcterms:modified xsi:type="dcterms:W3CDTF">2013-05-01T23:55:11Z</dcterms:modified>
  <cp:revision>336</cp:revision>
  <dc:subject/>
  <dc:title>SPFirst Lecture #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