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2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9.png" ContentType="image/png"/>
  <Override PartName="/ppt/media/image42.wmf" ContentType="image/x-wmf"/>
  <Override PartName="/ppt/media/image41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8D9-5C11-482D-8968-8A75655B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587-173A-4233-A038-F6F55D52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099-170E-441F-8BE2-5015165F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DFF-AB8E-4B1F-B30C-831B0680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95B-B458-4939-ACC9-82357D58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EA07-9A28-448E-9D35-C3E4F641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E23-B01D-47E1-AB15-FF63BF02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AC02-E75F-44E6-83FB-889F565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F47E-D407-470E-AE93-9EDEC50C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F759-0838-492B-BA75-19ED3C33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48FC-D360-4C41-98F3-4DA1073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9B2-4B3E-488B-89A6-BF6ADD8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DE2C-8491-4D18-8D9C-31DD486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6B80-BBE8-4D4C-90E6-05BF05C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1259-F16B-4195-A385-4C81B971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1536-747E-48A9-B96B-6DBACD40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BAA2-03E2-4375-8814-3A66D1A6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3F2-3789-45C9-866E-5B1EB327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767-667C-4190-AF7B-8E8AB173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184-AA44-45CC-BFD7-9A55746D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FF2-1EE3-4D04-99CA-FD51822A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59C-FD63-49E1-A0A5-B12E122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836-1FAF-4062-AEA9-78728E50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4A3-563B-4B64-ABE2-3EAEDAB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EBE4-DBAF-452E-A785-C4E9BFFE72A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6B6-D01A-43EB-BA66-BC0946CF0FE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C55-0D5F-4026-8BEE-E86D8268B1A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1FEF-35AA-4FFC-A732-61E8A4375F8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.wmf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040" y="3352680"/>
            <a:ext cx="65530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2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troduction to the Fourier Transfor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648E-250D-431B-8B8D-810F7E88B0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09B4AD3-F1AF-41E7-855B-2B51D2F950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miting Behavior of F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36520" y="150804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2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200" y="327672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4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520" y="541008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8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8" name="sq_waves" descr=""/>
          <p:cNvPicPr/>
          <p:nvPr/>
        </p:nvPicPr>
        <p:blipFill>
          <a:blip r:embed="rId1"/>
          <a:stretch/>
        </p:blipFill>
        <p:spPr>
          <a:xfrm>
            <a:off x="1295280" y="1093680"/>
            <a:ext cx="5943600" cy="568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664-48B9-4999-8DB2-93F3A47999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B0A9C-F322-4521-A8C3-627B03C9495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miting Behavior of Spectru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65120" y="150804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2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800" y="327672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4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5120" y="5410080"/>
            <a:ext cx="966960" cy="510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=8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3" name="sq_wave_spect" descr=""/>
          <p:cNvPicPr/>
          <p:nvPr/>
        </p:nvPicPr>
        <p:blipFill>
          <a:blip r:embed="rId1"/>
          <a:stretch/>
        </p:blipFill>
        <p:spPr>
          <a:xfrm>
            <a:off x="1525680" y="990720"/>
            <a:ext cx="5408640" cy="571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188120" y="3048120"/>
                <a:ext cx="14940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685-3DE2-479F-9A85-1B414CA986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C9FC9-7BAC-490B-8D6E-97EC33B2F3ED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S in the LIMIT  (long period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65320" y="2590920"/>
            <a:ext cx="318312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Synthe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13400" y="5796000"/>
            <a:ext cx="29667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Analy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2920" y="1274760"/>
                <a:ext cx="89247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k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1520" y="4321080"/>
                <a:ext cx="878832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193920"/>
                <a:ext cx="2209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d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14600" y="3197160"/>
                <a:ext cx="21337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86400" y="3384720"/>
                <a:ext cx="3025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12A-39E7-4962-B476-2332E7AA12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D8041-A4AC-4E15-9650-44760C321E8A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 Define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non-periodic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47320" y="2438280"/>
            <a:ext cx="318312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Synthe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70640" y="4419720"/>
            <a:ext cx="2966760" cy="520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ourier Analysi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8600" y="4435560"/>
                <a:ext cx="5294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9400" y="2449440"/>
                <a:ext cx="548928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946-9458-428D-872F-1E0C9EC860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D1E63-266F-4E95-A6E4-9DCB8F6944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1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1000" y="625320"/>
          <a:ext cx="2644920" cy="5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1000" y="625320"/>
                    <a:ext cx="2644920" cy="578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071880" y="5057640"/>
          <a:ext cx="3246480" cy="11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5057640"/>
                    <a:ext cx="324648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95280" y="1676520"/>
          <a:ext cx="6934320" cy="14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676520"/>
                    <a:ext cx="69343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120680" y="3124080"/>
          <a:ext cx="6750000" cy="16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0680" y="3124080"/>
                    <a:ext cx="67500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905600" y="3029040"/>
          <a:ext cx="102888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05600" y="3029040"/>
                    <a:ext cx="1028880" cy="457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59E-1274-4297-A0FF-7F1D2E5F1D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939D-4DC8-4777-A271-5BC3595579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 of h(t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43000" y="5029200"/>
                <a:ext cx="6553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343400" y="304812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E03-25AD-41AE-A64D-E842C6DC5D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7C472-F80D-479D-A12D-50140A2ADD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FT_1st_order" descr=""/>
          <p:cNvPicPr/>
          <p:nvPr/>
        </p:nvPicPr>
        <p:blipFill>
          <a:blip r:embed="rId1"/>
          <a:stretch/>
        </p:blipFill>
        <p:spPr>
          <a:xfrm>
            <a:off x="1371600" y="1255680"/>
            <a:ext cx="6324480" cy="5559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gnitude and Pha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320" y="1133640"/>
                <a:ext cx="28191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068880" y="3976560"/>
                <a:ext cx="2989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240600" y="1133640"/>
                <a:ext cx="28270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6320" y="6076800"/>
                <a:ext cx="32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3E2-6CA3-4980-A659-4896427EE9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66217-C319-4EB3-BA9F-8B79DD15A6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09800" y="5345280"/>
          <a:ext cx="362592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5345280"/>
                    <a:ext cx="3625920" cy="1055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2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28600"/>
          <a:ext cx="32637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28600"/>
                    <a:ext cx="3263760" cy="10684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944640" y="3471840"/>
          <a:ext cx="7208640" cy="14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4640" y="3471840"/>
                    <a:ext cx="72086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066680" y="1905120"/>
          <a:ext cx="7040520" cy="122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905120"/>
                    <a:ext cx="70405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148-AF70-4875-839E-5BCB0DA5BC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CA162-DF17-416C-9902-25A48237E7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6440" y="152280"/>
          <a:ext cx="84852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2280"/>
                    <a:ext cx="8485200" cy="1166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6" name="pulse_FT" descr=""/>
          <p:cNvPicPr/>
          <p:nvPr/>
        </p:nvPicPr>
        <p:blipFill>
          <a:blip r:embed="rId3"/>
          <a:stretch/>
        </p:blipFill>
        <p:spPr>
          <a:xfrm>
            <a:off x="1066680" y="1386000"/>
            <a:ext cx="7162920" cy="53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043-3BBF-4C32-9E38-2DFEE686BB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6088D-A2C2-45A8-971F-2CF613F507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3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67080" y="76320"/>
                <a:ext cx="358164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95480" y="5462640"/>
                <a:ext cx="27432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04920" y="1685880"/>
                <a:ext cx="838188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75080"/>
                <a:ext cx="723096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97F-C804-4388-9027-1D66A405E4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37876-48F8-4AAE-897C-AC0B2D9073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F6F-5746-44FA-BB0E-2D40CD3D8C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107FB-E2B8-4814-A09E-4D48DBFE4267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23" name="pulse_trans" descr=""/>
          <p:cNvPicPr/>
          <p:nvPr/>
        </p:nvPicPr>
        <p:blipFill>
          <a:blip r:embed="rId1"/>
          <a:stretch/>
        </p:blipFill>
        <p:spPr>
          <a:xfrm>
            <a:off x="1066680" y="1643040"/>
            <a:ext cx="6705720" cy="513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5800" y="33480"/>
                <a:ext cx="739152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B1D-DDB7-4D9D-A93F-4492A50E30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9CB9C-82B2-4E87-98EA-C4AE787F9A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4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52480" y="2057400"/>
          <a:ext cx="548640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4864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49760" y="3886200"/>
            <a:ext cx="48074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hifting Property of the Impul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91120" y="330120"/>
                <a:ext cx="3809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62120" y="4419720"/>
                <a:ext cx="74548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DED-2890-4F10-800C-780F69CE55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2321B-C2E7-4472-9899-9CC832175A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57480" y="304920"/>
          <a:ext cx="6819840" cy="7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04920"/>
                    <a:ext cx="6819840" cy="7254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5" name="impulse_FT" descr=""/>
          <p:cNvPicPr/>
          <p:nvPr/>
        </p:nvPicPr>
        <p:blipFill>
          <a:blip r:embed="rId3"/>
          <a:stretch/>
        </p:blipFill>
        <p:spPr>
          <a:xfrm>
            <a:off x="914400" y="1198440"/>
            <a:ext cx="7696080" cy="554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C01-9F5E-486C-BE5A-A2267F9E88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1C35E-7D40-4B85-84B4-BB42266F63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5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32200" y="647640"/>
          <a:ext cx="52354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2200" y="647640"/>
                    <a:ext cx="5235480" cy="647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23720" y="1752480"/>
          <a:ext cx="8186760" cy="13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720" y="1752480"/>
                    <a:ext cx="818676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676520" y="4503600"/>
          <a:ext cx="568476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03600"/>
                    <a:ext cx="5684760" cy="525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838080" y="3332160"/>
          <a:ext cx="7678800" cy="706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332160"/>
                    <a:ext cx="7678800" cy="706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069920" y="5514840"/>
          <a:ext cx="719784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9920" y="5514840"/>
                    <a:ext cx="719784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18A-D58E-480A-BF90-94EBAE8292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89F0F-A7F0-4F7C-83AA-5FB7015B7F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43000" y="152280"/>
          <a:ext cx="719784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7197840" cy="119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51" name="cosine_FT" descr=""/>
          <p:cNvPicPr/>
          <p:nvPr/>
        </p:nvPicPr>
        <p:blipFill>
          <a:blip r:embed="rId3"/>
          <a:stretch/>
        </p:blipFill>
        <p:spPr>
          <a:xfrm>
            <a:off x="838080" y="1440000"/>
            <a:ext cx="7772400" cy="53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145-1755-46DF-8797-A68639D99D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A195A-0AC9-4A32-9B59-44351DD28B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ourier Transfor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44520" y="1219320"/>
          <a:ext cx="652788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219320"/>
                    <a:ext cx="6527880" cy="1127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57200" y="2514600"/>
          <a:ext cx="822960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8229600" cy="1131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62120" y="3809880"/>
          <a:ext cx="7559640" cy="112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809880"/>
                    <a:ext cx="7559640" cy="11257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447920" y="5105520"/>
          <a:ext cx="65149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105520"/>
                    <a:ext cx="6514920" cy="6667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066680" y="5978520"/>
          <a:ext cx="706932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978520"/>
                    <a:ext cx="7069320" cy="650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CE8-0E49-413C-B6EF-1C5DA92FF01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C61C1-FBCB-4785-97EE-08ED214CEB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1, Sects. 11-1 to 11-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10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Chapter 11, Sects. 11-1 to 11-4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11, Sects. 11-5, 11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800-7178-4A80-9AB0-B5313C9FA9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02FD3-2F3B-4B74-A6D9-CE0CA6E00E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ier Se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finition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 to Fourier Ser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s of  Fourier transform pai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986120" y="3603600"/>
                <a:ext cx="40287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007-7596-4AA2-BB34-2411663F7F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8BD70-C955-42AD-80AB-1F64A79DA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erything = Sum of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 Square Pulse = Sum of Sinusoid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??????????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 Period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mit of Square Wave as Period </a:t>
            </a: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fin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uitive Argum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666880"/>
            <a:ext cx="396252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432"/>
                </a:moveTo>
                <a:lnTo>
                  <a:pt x="528" y="432"/>
                </a:lnTo>
                <a:lnTo>
                  <a:pt x="528" y="0"/>
                </a:lnTo>
                <a:lnTo>
                  <a:pt x="960" y="0"/>
                </a:lnTo>
                <a:lnTo>
                  <a:pt x="960" y="432"/>
                </a:lnTo>
                <a:lnTo>
                  <a:pt x="1440" y="432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6CD-2CA3-466D-8B1E-EE3A8DE64D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673AA-8CB2-4F45-9BC0-795E0F5B1D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Series:  Periodic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31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022400" y="1676520"/>
            <a:ext cx="7664400" cy="2133360"/>
            <a:chOff x="1022400" y="1676520"/>
            <a:chExt cx="7664400" cy="2133360"/>
          </a:xfrm>
        </p:grpSpPr>
        <p:graphicFrame>
          <p:nvGraphicFramePr>
            <p:cNvPr id="99" name=""/>
            <p:cNvGraphicFramePr/>
            <p:nvPr/>
          </p:nvGraphicFramePr>
          <p:xfrm>
            <a:off x="3422520" y="1676520"/>
            <a:ext cx="2171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2520" y="167652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6013440" y="3429000"/>
            <a:ext cx="3427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3440" y="342900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1022400" y="3429000"/>
            <a:ext cx="7236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22400" y="342900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2705040" y="34290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05040" y="34290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518240" y="34290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518240" y="34290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4413240" y="34290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13240" y="34290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559720" y="3429000"/>
            <a:ext cx="127080" cy="241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559720" y="342900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3" name=""/>
          <p:cNvGraphicFramePr/>
          <p:nvPr/>
        </p:nvGraphicFramePr>
        <p:xfrm>
          <a:off x="990720" y="3960720"/>
          <a:ext cx="3886200" cy="1328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90720" y="3960720"/>
                    <a:ext cx="3886200" cy="1328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90720" y="5391000"/>
          <a:ext cx="3849480" cy="1238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90720" y="5391000"/>
                    <a:ext cx="3849480" cy="1238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10080" y="4637160"/>
          <a:ext cx="3429000" cy="10936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410080" y="4637160"/>
                    <a:ext cx="3429000" cy="1093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4876920" y="3927600"/>
            <a:ext cx="3753000" cy="520560"/>
            <a:chOff x="4876920" y="3927600"/>
            <a:chExt cx="3753000" cy="520560"/>
          </a:xfrm>
        </p:grpSpPr>
        <p:sp>
          <p:nvSpPr>
            <p:cNvPr id="122" name=""/>
            <p:cNvSpPr/>
            <p:nvPr/>
          </p:nvSpPr>
          <p:spPr>
            <a:xfrm>
              <a:off x="5446800" y="3927600"/>
              <a:ext cx="318312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Arial"/>
                </a:rPr>
                <a:t>Fourier Synthe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76920" y="419112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800600" y="5832360"/>
            <a:ext cx="3540600" cy="520560"/>
            <a:chOff x="4800600" y="5832360"/>
            <a:chExt cx="3540600" cy="520560"/>
          </a:xfrm>
        </p:grpSpPr>
        <p:sp>
          <p:nvSpPr>
            <p:cNvPr id="125" name=""/>
            <p:cNvSpPr/>
            <p:nvPr/>
          </p:nvSpPr>
          <p:spPr>
            <a:xfrm>
              <a:off x="5374440" y="5832360"/>
              <a:ext cx="296676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Arial"/>
                </a:rPr>
                <a:t>Fourier Analy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800600" y="592884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5BA-9657-4A77-AC38-81BEAF32CB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FAA4E-0799-47FD-9EE2-0BABC74278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1800" y="5214960"/>
          <a:ext cx="849636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5214960"/>
                    <a:ext cx="84963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23120" cy="20592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990720" y="1523880"/>
            <a:ext cx="7664400" cy="2133360"/>
            <a:chOff x="990720" y="1523880"/>
            <a:chExt cx="7664400" cy="2133360"/>
          </a:xfrm>
        </p:grpSpPr>
        <p:graphicFrame>
          <p:nvGraphicFramePr>
            <p:cNvPr id="134" name=""/>
            <p:cNvGraphicFramePr/>
            <p:nvPr/>
          </p:nvGraphicFramePr>
          <p:xfrm>
            <a:off x="3390840" y="1523880"/>
            <a:ext cx="21718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90840" y="152388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5981760" y="3276360"/>
            <a:ext cx="3427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81760" y="327636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990720" y="3276360"/>
            <a:ext cx="72360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327636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2673360" y="3276360"/>
            <a:ext cx="5587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73360" y="327636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7486560" y="3276360"/>
            <a:ext cx="53352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486560" y="327636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381560" y="3276360"/>
            <a:ext cx="20304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81560" y="327636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528040" y="3276360"/>
            <a:ext cx="127080" cy="241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528040" y="327636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19320" y="3733920"/>
                <a:ext cx="36576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FC2-9A38-4A97-9CCE-97C49DCCF4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8B10D-7D7A-4776-8305-47065C0E71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trum from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057480"/>
            <a:ext cx="845820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90720" y="1547640"/>
                <a:ext cx="683568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πk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±</m:t>
                              </m:r>
                              <m:r>
                                <m:t xml:space="preserve">4</m:t>
                              </m:r>
                              <m:r>
                                <m:t xml:space="preserve">,</m:t>
                              </m:r>
                              <m:r>
                                <m:t xml:space="preserve">…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147-43B1-41EA-8416-E5284CFC36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6FCFC-91CD-41E8-97C7-429B0C793A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at i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(t)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is not periodic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 of Sinusoids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n-harmonically related sinusoid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uld not be periodic, but would probably be non-zero for all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s a “sum” (actually a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egr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that involv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equenc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represent signals that are identically zero for negativ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!!!!!!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EE1-01C8-434A-BA31-0C304DB0C0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FFE83-1799-4387-B33B-2858BB83E7E8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5T13:46:33Z</cp:lastPrinted>
  <dcterms:modified xsi:type="dcterms:W3CDTF">2004-03-27T21:38:46Z</dcterms:modified>
  <cp:revision>430</cp:revision>
  <dc:subject/>
  <dc:title>SPFirst Lecture #2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