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099-480C-4376-870C-72693382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FD8-C789-477F-A204-DC184432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F1B-F083-47D8-835C-CA777870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7E7-B3E8-46DC-8B5B-8C25FAD9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2237-EC17-44D2-9D23-E672EFCE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C195-6BB2-4A82-BD96-76C131C2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26A3-2372-46D2-8891-79F9613C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CC2C-A4EB-4DAD-A8BF-DC0C0D8F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19D0-EAA9-4688-8468-91117985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6A5F-DE5B-4B23-92CC-D4B3667C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B841-4646-4DF8-98A1-6F4B2C8F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47F-78E7-4821-AEBF-BCF51393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BDE5-F3FF-493E-95F4-6DA6466F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F701-8CE9-414E-AC8F-3832D870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E7EF-41F3-4FC9-B5EC-5E9F4CFF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23DC-F6B8-495E-B16C-DB6D180C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5A66-8965-4948-9685-FDE4DD9C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392-54F3-45CB-8A51-33D021DB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3E0-0BC9-4905-B43A-326A27A8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81F-3D51-489D-A5F2-6A3F8EA4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8C5-8FD4-44E6-89BF-685E9B77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2EE-5EED-4361-98F5-E47C3CAF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61E-9F3B-4287-850C-405BDD2B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078-E055-491E-8BF2-985CBB5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4BF4-F37C-4C54-94A0-97358875AC9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4EC2-CAC1-4CFB-B39D-EA60D6A7149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A:\paint.GIF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1BFA-328C-4D3C-8469-E9B3C448CAD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5CC8-2FD8-4E64-8FB5-C766A834E69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11360" y="6229440"/>
            <a:ext cx="19303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9306-EF60-4FD9-BB68-12E09EC73D3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9395-3E10-4B59-BD82-8279525B4A4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28440" y="3428640"/>
            <a:ext cx="61722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Z Transforms: Introduc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0909-81FE-458D-8DA8-740A2F908C45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7853-C4CE-4771-BB39-8E0E4E7FF97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Y SIGNAL has a z-Transform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1565280" y="2292480"/>
                <a:ext cx="32083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16" name="Picture 6" descr="_x000f_example-7.1.gif                                                0000953C_x0005_JKL-2                          B0CAADC9:"/>
          <p:cNvPicPr/>
          <p:nvPr/>
        </p:nvPicPr>
        <p:blipFill>
          <a:blip r:embed="rId1"/>
          <a:srcRect l="0" t="0" r="0" b="22005"/>
          <a:stretch/>
        </p:blipFill>
        <p:spPr>
          <a:xfrm>
            <a:off x="0" y="3505320"/>
            <a:ext cx="914400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2789280" y="5576760"/>
                <a:ext cx="6202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1"/>
              <p:cNvSpPr txBox="1"/>
              <p:nvPr/>
            </p:nvSpPr>
            <p:spPr>
              <a:xfrm>
                <a:off x="228600" y="5473800"/>
                <a:ext cx="24382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9" name="Group 17"/>
          <p:cNvGrpSpPr/>
          <p:nvPr/>
        </p:nvGrpSpPr>
        <p:grpSpPr>
          <a:xfrm>
            <a:off x="3886200" y="4952880"/>
            <a:ext cx="4343400" cy="838440"/>
            <a:chOff x="3886200" y="4952880"/>
            <a:chExt cx="4343400" cy="838440"/>
          </a:xfrm>
        </p:grpSpPr>
        <p:sp>
          <p:nvSpPr>
            <p:cNvPr id="220" name="Line 12"/>
            <p:cNvSpPr/>
            <p:nvPr/>
          </p:nvSpPr>
          <p:spPr>
            <a:xfrm>
              <a:off x="3886200" y="4952880"/>
              <a:ext cx="304920" cy="762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>
              <a:off x="5334120" y="4952880"/>
              <a:ext cx="609480" cy="838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>
              <a:off x="6095880" y="4952880"/>
              <a:ext cx="990720" cy="838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>
              <a:off x="4572000" y="4952880"/>
              <a:ext cx="304920" cy="762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>
              <a:off x="6858000" y="4952880"/>
              <a:ext cx="1371600" cy="8384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1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0B9B-5BB7-4638-980F-405256F4A6F6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Footer Placeholder 2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9042-5B18-4922-87CE-E3EA1FCA779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8" name="Picture 2" descr="_x000f_example-7.2.gif  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527040" y="609480"/>
            <a:ext cx="8089920" cy="562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9" name="Object 19"/>
              <p:cNvSpPr txBox="1"/>
              <p:nvPr/>
            </p:nvSpPr>
            <p:spPr>
              <a:xfrm>
                <a:off x="1523880" y="1038240"/>
                <a:ext cx="5562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0" name="Group 14"/>
          <p:cNvGrpSpPr/>
          <p:nvPr/>
        </p:nvGrpSpPr>
        <p:grpSpPr>
          <a:xfrm>
            <a:off x="1752480" y="1676520"/>
            <a:ext cx="6477120" cy="4190760"/>
            <a:chOff x="1752480" y="1676520"/>
            <a:chExt cx="6477120" cy="4190760"/>
          </a:xfrm>
        </p:grpSpPr>
        <p:sp>
          <p:nvSpPr>
            <p:cNvPr id="231" name="Line 6"/>
            <p:cNvSpPr/>
            <p:nvPr/>
          </p:nvSpPr>
          <p:spPr>
            <a:xfrm>
              <a:off x="6553080" y="1676520"/>
              <a:ext cx="1676520" cy="4114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2" name="Line 4"/>
            <p:cNvSpPr/>
            <p:nvPr/>
          </p:nvSpPr>
          <p:spPr>
            <a:xfrm>
              <a:off x="1752480" y="3124080"/>
              <a:ext cx="2514600" cy="2743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>
              <a:off x="2666880" y="2819520"/>
              <a:ext cx="1447920" cy="152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34" name="Group 17"/>
          <p:cNvGrpSpPr/>
          <p:nvPr/>
        </p:nvGrpSpPr>
        <p:grpSpPr>
          <a:xfrm>
            <a:off x="243360" y="1676520"/>
            <a:ext cx="3566520" cy="3200400"/>
            <a:chOff x="243360" y="1676520"/>
            <a:chExt cx="3566520" cy="3200400"/>
          </a:xfrm>
        </p:grpSpPr>
        <p:sp>
          <p:nvSpPr>
            <p:cNvPr id="235" name="Text Box 3"/>
            <p:cNvSpPr/>
            <p:nvPr/>
          </p:nvSpPr>
          <p:spPr>
            <a:xfrm>
              <a:off x="243360" y="2438280"/>
              <a:ext cx="2451600" cy="703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EXPONENT GIVES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TIME LOCATION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 flipV="1">
              <a:off x="1752480" y="1676520"/>
              <a:ext cx="2057400" cy="7617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7" name="Line 16"/>
            <p:cNvSpPr/>
            <p:nvPr/>
          </p:nvSpPr>
          <p:spPr>
            <a:xfrm>
              <a:off x="762120" y="3124080"/>
              <a:ext cx="380880" cy="17528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Object 18"/>
              <p:cNvSpPr txBox="1"/>
              <p:nvPr/>
            </p:nvSpPr>
            <p:spPr>
              <a:xfrm>
                <a:off x="533520" y="4876920"/>
                <a:ext cx="1620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CAF3-4968-47E6-9534-7CBF41729FD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F695-9ED6-4078-BE77-C13399BF8FF9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of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LED t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YSTEM FUNC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[n] is same as {b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44" name="Group 22"/>
          <p:cNvGrpSpPr/>
          <p:nvPr/>
        </p:nvGrpSpPr>
        <p:grpSpPr>
          <a:xfrm>
            <a:off x="806400" y="4438800"/>
            <a:ext cx="8123400" cy="1903680"/>
            <a:chOff x="806400" y="4438800"/>
            <a:chExt cx="8123400" cy="1903680"/>
          </a:xfrm>
        </p:grpSpPr>
        <p:sp>
          <p:nvSpPr>
            <p:cNvPr id="245" name="Text Box 12"/>
            <p:cNvSpPr/>
            <p:nvPr/>
          </p:nvSpPr>
          <p:spPr>
            <a:xfrm>
              <a:off x="1537920" y="5943600"/>
              <a:ext cx="378972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FIR DIFFERENCE EQUATION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19"/>
                <p:cNvSpPr txBox="1"/>
                <p:nvPr/>
              </p:nvSpPr>
              <p:spPr>
                <a:xfrm>
                  <a:off x="806400" y="4438800"/>
                  <a:ext cx="7869240" cy="15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Text Box 13"/>
            <p:cNvSpPr/>
            <p:nvPr/>
          </p:nvSpPr>
          <p:spPr>
            <a:xfrm>
              <a:off x="6795360" y="5791320"/>
              <a:ext cx="213444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CONVOLUTION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48" name="Text Box 14"/>
          <p:cNvSpPr/>
          <p:nvPr/>
        </p:nvSpPr>
        <p:spPr>
          <a:xfrm>
            <a:off x="396000" y="3193920"/>
            <a:ext cx="154008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SYST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UNC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7"/>
              <p:cNvSpPr txBox="1"/>
              <p:nvPr/>
            </p:nvSpPr>
            <p:spPr>
              <a:xfrm>
                <a:off x="2124000" y="2838600"/>
                <a:ext cx="619128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F6C6-A97E-4517-B70B-FCEBB2E66DB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DD28-7B7C-4736-B90A-15D192BFCD3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5"/>
              <p:cNvSpPr txBox="1"/>
              <p:nvPr/>
            </p:nvSpPr>
            <p:spPr>
              <a:xfrm>
                <a:off x="1219320" y="3059280"/>
                <a:ext cx="6858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4"/>
              <p:cNvSpPr txBox="1"/>
              <p:nvPr/>
            </p:nvSpPr>
            <p:spPr>
              <a:xfrm>
                <a:off x="685800" y="5105520"/>
                <a:ext cx="75438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of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H(z) DIRECTLY from the {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 7.3 in the book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57" name="Group 16"/>
          <p:cNvGrpSpPr/>
          <p:nvPr/>
        </p:nvGrpSpPr>
        <p:grpSpPr>
          <a:xfrm>
            <a:off x="2895480" y="3581280"/>
            <a:ext cx="5029200" cy="1752840"/>
            <a:chOff x="2895480" y="3581280"/>
            <a:chExt cx="5029200" cy="1752840"/>
          </a:xfrm>
        </p:grpSpPr>
        <p:sp>
          <p:nvSpPr>
            <p:cNvPr id="258" name="Line 5"/>
            <p:cNvSpPr/>
            <p:nvPr/>
          </p:nvSpPr>
          <p:spPr>
            <a:xfrm>
              <a:off x="2895480" y="3581280"/>
              <a:ext cx="2210040" cy="17528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59" name="Line 6"/>
            <p:cNvSpPr/>
            <p:nvPr/>
          </p:nvSpPr>
          <p:spPr>
            <a:xfrm>
              <a:off x="4343400" y="3581280"/>
              <a:ext cx="1676520" cy="16765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60" name="Line 7"/>
            <p:cNvSpPr/>
            <p:nvPr/>
          </p:nvSpPr>
          <p:spPr>
            <a:xfrm>
              <a:off x="7772400" y="3581280"/>
              <a:ext cx="152280" cy="1676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61" name="Line 8"/>
            <p:cNvSpPr/>
            <p:nvPr/>
          </p:nvSpPr>
          <p:spPr>
            <a:xfrm>
              <a:off x="5791320" y="3657600"/>
              <a:ext cx="914400" cy="1600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2" name="Object 17"/>
              <p:cNvSpPr txBox="1"/>
              <p:nvPr/>
            </p:nvSpPr>
            <p:spPr>
              <a:xfrm>
                <a:off x="380880" y="4121280"/>
                <a:ext cx="29718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7C1D-7F12-468F-93A5-378536EE7CE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58BD-1326-4411-AB2B-F41A9550808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. DELAY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IT DELAY: find h[n] and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3505320" y="5029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2514600" y="5486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5410080" y="5486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5563440" y="502920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2668320" y="5029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200400" y="24382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2209680" y="28954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5105520" y="28954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5257800" y="2438280"/>
            <a:ext cx="17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 = 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-1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2363760" y="2438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27"/>
              <p:cNvSpPr txBox="1"/>
              <p:nvPr/>
            </p:nvSpPr>
            <p:spPr>
              <a:xfrm>
                <a:off x="3246480" y="2522520"/>
                <a:ext cx="1825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4"/>
              <p:cNvSpPr txBox="1"/>
              <p:nvPr/>
            </p:nvSpPr>
            <p:spPr>
              <a:xfrm>
                <a:off x="380880" y="3606840"/>
                <a:ext cx="4953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5"/>
              <p:cNvSpPr txBox="1"/>
              <p:nvPr/>
            </p:nvSpPr>
            <p:spPr>
              <a:xfrm>
                <a:off x="5334120" y="3606840"/>
                <a:ext cx="12380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6"/>
              <p:cNvSpPr txBox="1"/>
              <p:nvPr/>
            </p:nvSpPr>
            <p:spPr>
              <a:xfrm>
                <a:off x="4038480" y="4952880"/>
                <a:ext cx="897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C5BC-F3D4-4D04-86B3-B8AB265508E4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6406-97A3-4857-9B22-6485618612E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IT DELAY: find y[n] via polynomi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[n] = {3,1,4,1,5,9,0,0,0,...}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7" name="Picture 28" descr="_x0011_delay-as-zinv.gif                                              0000953C_x0005_JKL-2                          B0CAADC9:"/>
          <p:cNvPicPr/>
          <p:nvPr/>
        </p:nvPicPr>
        <p:blipFill>
          <a:blip r:embed="rId1"/>
          <a:srcRect l="0" t="56744" r="0" b="0"/>
          <a:stretch/>
        </p:blipFill>
        <p:spPr>
          <a:xfrm>
            <a:off x="0" y="5029200"/>
            <a:ext cx="914400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8" name="Object 33"/>
              <p:cNvSpPr txBox="1"/>
              <p:nvPr/>
            </p:nvSpPr>
            <p:spPr>
              <a:xfrm>
                <a:off x="244440" y="4267080"/>
                <a:ext cx="8442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4"/>
              <p:cNvSpPr txBox="1"/>
              <p:nvPr/>
            </p:nvSpPr>
            <p:spPr>
              <a:xfrm>
                <a:off x="237960" y="3505320"/>
                <a:ext cx="77630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5"/>
              <p:cNvSpPr txBox="1"/>
              <p:nvPr/>
            </p:nvSpPr>
            <p:spPr>
              <a:xfrm>
                <a:off x="228600" y="2743200"/>
                <a:ext cx="27558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C8E7-8951-43A6-B9DB-35BB8E5EDDA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D038-17F7-4F4C-9AE4-8EBAC6612E7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95" name="Picture 3" descr="_x0012_ZT-delay-props.gif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B3FA-DF93-4FC1-88F8-138F17AACB9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0D82-9E4E-4232-B196-740DE075A56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I/O PROBL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put is x[n], find y[n]    (for FIR, h[n]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to combine X(z) and H(z) 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01" name="Picture 3076" descr="_x0011_example-7.5-1.gif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152280" y="2819520"/>
            <a:ext cx="876312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4689-6152-4D04-ACB7-FB02CCCF53E7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9344-D35E-49AF-9DE2-F840CC64A49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Filter = CONVOLU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06" name="Picture 3" descr="_x0011_example-7.5-3.gif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61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7" name="Object 10"/>
              <p:cNvSpPr txBox="1"/>
              <p:nvPr/>
            </p:nvSpPr>
            <p:spPr>
              <a:xfrm>
                <a:off x="457200" y="5257800"/>
                <a:ext cx="71629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8" name="Text Box 11"/>
          <p:cNvSpPr/>
          <p:nvPr/>
        </p:nvSpPr>
        <p:spPr>
          <a:xfrm>
            <a:off x="6566760" y="6324480"/>
            <a:ext cx="213444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ONVOLUTIO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6259-0DB1-4E3D-A271-F9013D00697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D1F5-E5DE-4987-919F-88A2B585AD78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OF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14" name="Picture 4" descr="_x000f_convol-prop.gif  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914400" y="2133720"/>
            <a:ext cx="7467480" cy="43844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"/>
          <p:cNvSpPr/>
          <p:nvPr/>
        </p:nvSpPr>
        <p:spPr>
          <a:xfrm>
            <a:off x="6419160" y="4114800"/>
            <a:ext cx="26161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-TRANSFOR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7162920" y="4952880"/>
            <a:ext cx="152280" cy="6098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FF1E-D1F7-45F5-A256-6A3FFE37112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B780-A7FA-47BD-AEB4-054A060077E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Creative Commons License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7278-F5BF-4EAA-AC50-4FFC5139453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DD71-B0A0-4A35-AB35-72572C6C5EA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ULTIPL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z-TRANSFORM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2" name="Picture 1031" descr="_x0011_example-7.5-1.gif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152280" y="2352600"/>
            <a:ext cx="8991720" cy="31338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32"/>
          <p:cNvSpPr/>
          <p:nvPr/>
        </p:nvSpPr>
        <p:spPr>
          <a:xfrm>
            <a:off x="2375640" y="5562720"/>
            <a:ext cx="4026240" cy="5814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ULTIPLY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44EF-232B-48F5-A849-6C8C5CAB602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4C18-4A07-4800-A9F1-F5B58475B2C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ite-Length input x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Filter (L=4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9" name="Picture 6" descr="_x0011_example-7.5-2.gif                                              0000953C_x0005_JKL-2                          B0CAADC9:"/>
          <p:cNvPicPr/>
          <p:nvPr/>
        </p:nvPicPr>
        <p:blipFill>
          <a:blip r:embed="rId1"/>
          <a:stretch/>
        </p:blipFill>
        <p:spPr>
          <a:xfrm>
            <a:off x="152280" y="2971800"/>
            <a:ext cx="8928360" cy="29624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7"/>
          <p:cNvSpPr/>
          <p:nvPr/>
        </p:nvSpPr>
        <p:spPr>
          <a:xfrm>
            <a:off x="5733360" y="2438280"/>
            <a:ext cx="26161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-TRANSFORM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7101360" y="5791320"/>
            <a:ext cx="11685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 = ?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D6A8-8E6E-4A71-9947-6A7049FFDCF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74B6-87DC-451E-BBF4-4F9CDB959EE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es the order of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&amp;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atter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TI SYSTEMS can be rearranged !!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member:   h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] * h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to combine H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z) and H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z)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37" name="Picture 5" descr="_x0010_cascade-of-2.gif                                               000078EC_x0003_JJ2                            B083FE93:"/>
          <p:cNvPicPr/>
          <p:nvPr/>
        </p:nvPicPr>
        <p:blipFill>
          <a:blip r:embed="rId1"/>
          <a:stretch/>
        </p:blipFill>
        <p:spPr>
          <a:xfrm>
            <a:off x="0" y="4127400"/>
            <a:ext cx="9144000" cy="2197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6"/>
          <p:cNvSpPr/>
          <p:nvPr/>
        </p:nvSpPr>
        <p:spPr>
          <a:xfrm>
            <a:off x="2843280" y="5030640"/>
            <a:ext cx="5238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6729480" y="5030640"/>
            <a:ext cx="5238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51FC-0E36-4F02-9B0A-057068EA35D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0490-A015-423F-8D12-164A9A77839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y the System Func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45" name="Group 51"/>
          <p:cNvGrpSpPr/>
          <p:nvPr/>
        </p:nvGrpSpPr>
        <p:grpSpPr>
          <a:xfrm>
            <a:off x="687240" y="2743200"/>
            <a:ext cx="6856560" cy="914400"/>
            <a:chOff x="687240" y="2743200"/>
            <a:chExt cx="6856560" cy="914400"/>
          </a:xfrm>
        </p:grpSpPr>
        <p:sp>
          <p:nvSpPr>
            <p:cNvPr id="346" name="Rectangle 28"/>
            <p:cNvSpPr/>
            <p:nvPr/>
          </p:nvSpPr>
          <p:spPr>
            <a:xfrm>
              <a:off x="1752480" y="2743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7" name="Line 29"/>
            <p:cNvSpPr/>
            <p:nvPr/>
          </p:nvSpPr>
          <p:spPr>
            <a:xfrm>
              <a:off x="762120" y="32004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8" name="Line 30"/>
            <p:cNvSpPr/>
            <p:nvPr/>
          </p:nvSpPr>
          <p:spPr>
            <a:xfrm>
              <a:off x="3657600" y="3200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687240" y="2743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Object 33"/>
                <p:cNvSpPr txBox="1"/>
                <p:nvPr/>
              </p:nvSpPr>
              <p:spPr>
                <a:xfrm>
                  <a:off x="2011320" y="2849400"/>
                  <a:ext cx="145728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Rectangle 34"/>
            <p:cNvSpPr/>
            <p:nvPr/>
          </p:nvSpPr>
          <p:spPr>
            <a:xfrm>
              <a:off x="4648320" y="274320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2" name="Line 36"/>
            <p:cNvSpPr/>
            <p:nvPr/>
          </p:nvSpPr>
          <p:spPr>
            <a:xfrm>
              <a:off x="6553080" y="3200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6852600" y="27432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9"/>
                <p:cNvSpPr txBox="1"/>
                <p:nvPr/>
              </p:nvSpPr>
              <p:spPr>
                <a:xfrm>
                  <a:off x="4884840" y="2849400"/>
                  <a:ext cx="150336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5" name="Object 40"/>
              <p:cNvSpPr txBox="1"/>
              <p:nvPr/>
            </p:nvSpPr>
            <p:spPr>
              <a:xfrm>
                <a:off x="3649680" y="5288040"/>
                <a:ext cx="4510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Group 52"/>
          <p:cNvGrpSpPr/>
          <p:nvPr/>
        </p:nvGrpSpPr>
        <p:grpSpPr>
          <a:xfrm>
            <a:off x="552240" y="2514600"/>
            <a:ext cx="6153480" cy="3416400"/>
            <a:chOff x="552240" y="2514600"/>
            <a:chExt cx="6153480" cy="3416400"/>
          </a:xfrm>
        </p:grpSpPr>
        <p:sp>
          <p:nvSpPr>
            <p:cNvPr id="357" name="Rectangle 9"/>
            <p:cNvSpPr/>
            <p:nvPr/>
          </p:nvSpPr>
          <p:spPr>
            <a:xfrm>
              <a:off x="3352680" y="4038480"/>
              <a:ext cx="1905120" cy="9144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8" name="Line 10"/>
            <p:cNvSpPr/>
            <p:nvPr/>
          </p:nvSpPr>
          <p:spPr>
            <a:xfrm>
              <a:off x="2362320" y="449568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5257800" y="44956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5411160" y="40384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1" name="Rectangle 13"/>
            <p:cNvSpPr/>
            <p:nvPr/>
          </p:nvSpPr>
          <p:spPr>
            <a:xfrm>
              <a:off x="2516040" y="40384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26"/>
                <p:cNvSpPr txBox="1"/>
                <p:nvPr/>
              </p:nvSpPr>
              <p:spPr>
                <a:xfrm>
                  <a:off x="3679920" y="4167360"/>
                  <a:ext cx="132228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3" name="Line 44"/>
            <p:cNvSpPr/>
            <p:nvPr/>
          </p:nvSpPr>
          <p:spPr>
            <a:xfrm flipV="1">
              <a:off x="2743200" y="4876560"/>
              <a:ext cx="53352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4" name="Text Box 45"/>
            <p:cNvSpPr/>
            <p:nvPr/>
          </p:nvSpPr>
          <p:spPr>
            <a:xfrm>
              <a:off x="552240" y="5105520"/>
              <a:ext cx="222588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EQUIVALEN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SYSTE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5" name="Rectangle 48"/>
            <p:cNvSpPr/>
            <p:nvPr/>
          </p:nvSpPr>
          <p:spPr>
            <a:xfrm>
              <a:off x="1600200" y="2514600"/>
              <a:ext cx="5105520" cy="1295280"/>
            </a:xfrm>
            <a:prstGeom prst="rect">
              <a:avLst/>
            </a:prstGeom>
            <a:noFill/>
            <a:ln w="7632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015E-DB9A-4A7F-B597-64B7D0B335D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B47D-9465-474D-8D17-9340EBDBD19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70" name="Group 28"/>
          <p:cNvGrpSpPr/>
          <p:nvPr/>
        </p:nvGrpSpPr>
        <p:grpSpPr>
          <a:xfrm>
            <a:off x="2362320" y="3933720"/>
            <a:ext cx="3886200" cy="943200"/>
            <a:chOff x="2362320" y="3933720"/>
            <a:chExt cx="3886200" cy="943200"/>
          </a:xfrm>
        </p:grpSpPr>
        <p:sp>
          <p:nvSpPr>
            <p:cNvPr id="371" name="Rectangle 4"/>
            <p:cNvSpPr/>
            <p:nvPr/>
          </p:nvSpPr>
          <p:spPr>
            <a:xfrm>
              <a:off x="3352680" y="396252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2" name="Line 5"/>
            <p:cNvSpPr/>
            <p:nvPr/>
          </p:nvSpPr>
          <p:spPr>
            <a:xfrm>
              <a:off x="2362320" y="441972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3" name="Line 6"/>
            <p:cNvSpPr/>
            <p:nvPr/>
          </p:nvSpPr>
          <p:spPr>
            <a:xfrm>
              <a:off x="5257800" y="44197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5411160" y="39337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2363760" y="39337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Object 9"/>
                <p:cNvSpPr txBox="1"/>
                <p:nvPr/>
              </p:nvSpPr>
              <p:spPr>
                <a:xfrm>
                  <a:off x="3657600" y="4070520"/>
                  <a:ext cx="132228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7" name="Group 29"/>
          <p:cNvGrpSpPr/>
          <p:nvPr/>
        </p:nvGrpSpPr>
        <p:grpSpPr>
          <a:xfrm>
            <a:off x="838080" y="1571760"/>
            <a:ext cx="6782040" cy="942840"/>
            <a:chOff x="838080" y="1571760"/>
            <a:chExt cx="6782040" cy="942840"/>
          </a:xfrm>
        </p:grpSpPr>
        <p:sp>
          <p:nvSpPr>
            <p:cNvPr id="378" name="Rectangle 15"/>
            <p:cNvSpPr/>
            <p:nvPr/>
          </p:nvSpPr>
          <p:spPr>
            <a:xfrm>
              <a:off x="1828800" y="1600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9" name="Line 16"/>
            <p:cNvSpPr/>
            <p:nvPr/>
          </p:nvSpPr>
          <p:spPr>
            <a:xfrm>
              <a:off x="838080" y="2057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0" name="Line 17"/>
            <p:cNvSpPr/>
            <p:nvPr/>
          </p:nvSpPr>
          <p:spPr>
            <a:xfrm>
              <a:off x="3733920" y="20574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1" name="Rectangle 18"/>
            <p:cNvSpPr/>
            <p:nvPr/>
          </p:nvSpPr>
          <p:spPr>
            <a:xfrm>
              <a:off x="839520" y="15717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Object 19"/>
                <p:cNvSpPr txBox="1"/>
                <p:nvPr/>
              </p:nvSpPr>
              <p:spPr>
                <a:xfrm>
                  <a:off x="2087640" y="1706400"/>
                  <a:ext cx="14587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3" name="Rectangle 20"/>
            <p:cNvSpPr/>
            <p:nvPr/>
          </p:nvSpPr>
          <p:spPr>
            <a:xfrm>
              <a:off x="4724280" y="16002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4" name="Line 21"/>
            <p:cNvSpPr/>
            <p:nvPr/>
          </p:nvSpPr>
          <p:spPr>
            <a:xfrm>
              <a:off x="6629400" y="2057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5" name="Rectangle 22"/>
            <p:cNvSpPr/>
            <p:nvPr/>
          </p:nvSpPr>
          <p:spPr>
            <a:xfrm>
              <a:off x="6782760" y="157176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Object 23"/>
                <p:cNvSpPr txBox="1"/>
                <p:nvPr/>
              </p:nvSpPr>
              <p:spPr>
                <a:xfrm>
                  <a:off x="4960800" y="1706400"/>
                  <a:ext cx="150336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Rectangle 24"/>
            <p:cNvSpPr/>
            <p:nvPr/>
          </p:nvSpPr>
          <p:spPr>
            <a:xfrm>
              <a:off x="3811680" y="157176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w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8" name="Object 30"/>
              <p:cNvSpPr txBox="1"/>
              <p:nvPr/>
            </p:nvSpPr>
            <p:spPr>
              <a:xfrm>
                <a:off x="6172200" y="3200400"/>
                <a:ext cx="2660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31"/>
              <p:cNvSpPr txBox="1"/>
              <p:nvPr/>
            </p:nvSpPr>
            <p:spPr>
              <a:xfrm>
                <a:off x="304920" y="3135240"/>
                <a:ext cx="2589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2"/>
              <p:cNvSpPr txBox="1"/>
              <p:nvPr/>
            </p:nvSpPr>
            <p:spPr>
              <a:xfrm>
                <a:off x="1523880" y="4952880"/>
                <a:ext cx="6019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3"/>
              <p:cNvSpPr txBox="1"/>
              <p:nvPr/>
            </p:nvSpPr>
            <p:spPr>
              <a:xfrm>
                <a:off x="2895480" y="5791320"/>
                <a:ext cx="3951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5"/>
              <p:cNvSpPr txBox="1"/>
              <p:nvPr/>
            </p:nvSpPr>
            <p:spPr>
              <a:xfrm>
                <a:off x="304920" y="2514600"/>
                <a:ext cx="3657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6"/>
              <p:cNvSpPr txBox="1"/>
              <p:nvPr/>
            </p:nvSpPr>
            <p:spPr>
              <a:xfrm>
                <a:off x="4965840" y="2543040"/>
                <a:ext cx="3873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9D35-96BB-4074-9ACB-BAE1E82B101C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A3A5-B8B8-4618-8039-CE85800EC23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7, Sects 7-1 through 7-5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SCADING SYST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7, 7-6 to the en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1DB9-7E65-4E14-8335-5E1E79FE3402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5C94-C794-45FF-8247-4C43934169F1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RODUCE the Z-TRANS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 Mathematical Defini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ow how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(z) POLYNOMIA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implifies analysi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s SIMPLIFIED 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Z-Transform can be applied to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R Filter: h[n] --&gt; H(z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gnals: x[n] --&gt; X(z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70480" y="5121360"/>
                <a:ext cx="37386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2895480" y="4952880"/>
                <a:ext cx="2057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666880" y="5486400"/>
                <a:ext cx="198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DBD1-7659-4813-88E0-65D83343017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D233-066E-4F32-95E3-ED2755B5672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8127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 Black"/>
              </a:rPr>
              <a:t>TWO (no, THREE) DOMAINS</a:t>
            </a:r>
            <a:endParaRPr b="0" lang="en-US" sz="28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11" name="Group 2065"/>
          <p:cNvGrpSpPr/>
          <p:nvPr/>
        </p:nvGrpSpPr>
        <p:grpSpPr>
          <a:xfrm>
            <a:off x="2514600" y="1676520"/>
            <a:ext cx="5587920" cy="3124080"/>
            <a:chOff x="2514600" y="1676520"/>
            <a:chExt cx="5587920" cy="3124080"/>
          </a:xfrm>
        </p:grpSpPr>
        <p:sp>
          <p:nvSpPr>
            <p:cNvPr id="112" name="Text Box 2055"/>
            <p:cNvSpPr/>
            <p:nvPr/>
          </p:nvSpPr>
          <p:spPr>
            <a:xfrm>
              <a:off x="2639880" y="1676520"/>
              <a:ext cx="37180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Z-TRANSFORM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3" name="Text Box 2056"/>
            <p:cNvSpPr/>
            <p:nvPr/>
          </p:nvSpPr>
          <p:spPr>
            <a:xfrm>
              <a:off x="4991040" y="2133720"/>
              <a:ext cx="31114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POLYNOMIALS: H(z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4" name="Freeform 2061"/>
            <p:cNvSpPr/>
            <p:nvPr/>
          </p:nvSpPr>
          <p:spPr>
            <a:xfrm>
              <a:off x="2514600" y="2209680"/>
              <a:ext cx="3962520" cy="2590920"/>
            </a:xfrm>
            <a:custGeom>
              <a:avLst/>
              <a:gdLst/>
              <a:ahLst/>
              <a:rect l="l" t="t" r="r" b="b"/>
              <a:pathLst>
                <a:path w="2496" h="1632">
                  <a:moveTo>
                    <a:pt x="0" y="1632"/>
                  </a:moveTo>
                  <a:lnTo>
                    <a:pt x="1152" y="0"/>
                  </a:lnTo>
                  <a:lnTo>
                    <a:pt x="2496" y="1632"/>
                  </a:lnTo>
                </a:path>
              </a:pathLst>
            </a:custGeom>
            <a:noFill/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15" name="Group 2068"/>
          <p:cNvGrpSpPr/>
          <p:nvPr/>
        </p:nvGrpSpPr>
        <p:grpSpPr>
          <a:xfrm>
            <a:off x="2209680" y="2438280"/>
            <a:ext cx="4571640" cy="1523880"/>
            <a:chOff x="2209680" y="2438280"/>
            <a:chExt cx="4571640" cy="1523880"/>
          </a:xfrm>
        </p:grpSpPr>
        <p:sp>
          <p:nvSpPr>
            <p:cNvPr id="116" name="Line 2066"/>
            <p:cNvSpPr/>
            <p:nvPr/>
          </p:nvSpPr>
          <p:spPr>
            <a:xfrm flipH="1">
              <a:off x="2209680" y="2438280"/>
              <a:ext cx="1067040" cy="1447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7" name="Line 2067"/>
            <p:cNvSpPr/>
            <p:nvPr/>
          </p:nvSpPr>
          <p:spPr>
            <a:xfrm flipH="1" flipV="1">
              <a:off x="5790960" y="2742840"/>
              <a:ext cx="990360" cy="12193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18" name="Group 2075"/>
          <p:cNvGrpSpPr/>
          <p:nvPr/>
        </p:nvGrpSpPr>
        <p:grpSpPr>
          <a:xfrm>
            <a:off x="5184720" y="4419720"/>
            <a:ext cx="3727440" cy="1865160"/>
            <a:chOff x="5184720" y="4419720"/>
            <a:chExt cx="3727440" cy="1865160"/>
          </a:xfrm>
        </p:grpSpPr>
        <p:sp>
          <p:nvSpPr>
            <p:cNvPr id="119" name="Text Box 2053"/>
            <p:cNvSpPr/>
            <p:nvPr/>
          </p:nvSpPr>
          <p:spPr>
            <a:xfrm>
              <a:off x="6478560" y="4419720"/>
              <a:ext cx="234792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FREQ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2070"/>
                <p:cNvSpPr txBox="1"/>
                <p:nvPr/>
              </p:nvSpPr>
              <p:spPr>
                <a:xfrm>
                  <a:off x="5184720" y="4970520"/>
                  <a:ext cx="37274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" name="Group 2074"/>
          <p:cNvGrpSpPr/>
          <p:nvPr/>
        </p:nvGrpSpPr>
        <p:grpSpPr>
          <a:xfrm>
            <a:off x="152280" y="4479840"/>
            <a:ext cx="3581640" cy="1844640"/>
            <a:chOff x="152280" y="4479840"/>
            <a:chExt cx="3581640" cy="1844640"/>
          </a:xfrm>
        </p:grpSpPr>
        <p:sp>
          <p:nvSpPr>
            <p:cNvPr id="122" name="Text Box 2052"/>
            <p:cNvSpPr/>
            <p:nvPr/>
          </p:nvSpPr>
          <p:spPr>
            <a:xfrm>
              <a:off x="229320" y="4479840"/>
              <a:ext cx="22305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TIME-DOMAIN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2072"/>
                <p:cNvSpPr txBox="1"/>
                <p:nvPr/>
              </p:nvSpPr>
              <p:spPr>
                <a:xfrm>
                  <a:off x="152280" y="5010120"/>
                  <a:ext cx="358164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4" name="Group 2080"/>
          <p:cNvGrpSpPr/>
          <p:nvPr/>
        </p:nvGrpSpPr>
        <p:grpSpPr>
          <a:xfrm>
            <a:off x="2514600" y="3429000"/>
            <a:ext cx="3962520" cy="1371600"/>
            <a:chOff x="2514600" y="3429000"/>
            <a:chExt cx="3962520" cy="1371600"/>
          </a:xfrm>
        </p:grpSpPr>
        <p:sp>
          <p:nvSpPr>
            <p:cNvPr id="125" name="Line 2060"/>
            <p:cNvSpPr/>
            <p:nvPr/>
          </p:nvSpPr>
          <p:spPr>
            <a:xfrm>
              <a:off x="2514600" y="4800600"/>
              <a:ext cx="39625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Object 2079"/>
                <p:cNvSpPr txBox="1"/>
                <p:nvPr/>
              </p:nvSpPr>
              <p:spPr>
                <a:xfrm>
                  <a:off x="3581280" y="3429000"/>
                  <a:ext cx="167652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5505480" y="539640"/>
                <a:ext cx="3603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7B50-3749-4247-81D6-AF30D2F5B7C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0EEF-4699-4864-B917-E3A3416FF28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RANSFORM CONCEP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ve to a new domain wher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PERATIONS are EASIER &amp; FAMILIA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OLYNOMI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ANSFORM both way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[n] ---&gt; X(z)   (into the z domai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(z) ---&gt; x[n]  (back to the time domai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1295280" y="4572000"/>
                <a:ext cx="198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1295280" y="5181480"/>
                <a:ext cx="19814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D4B5-45C2-4124-A34C-40C89C4B12F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0F2D-09A9-492E-92BF-0E0097DBD537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“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RANSFORM”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quivalent Representa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371600" y="2743200"/>
            <a:ext cx="35812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3808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49528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106240" y="274320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3496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371600" y="4495680"/>
            <a:ext cx="35053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380880" y="49528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4876920" y="49528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5030280" y="449568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534960" y="44956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Line 38"/>
          <p:cNvSpPr/>
          <p:nvPr/>
        </p:nvSpPr>
        <p:spPr>
          <a:xfrm>
            <a:off x="76320" y="57150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Line 39"/>
          <p:cNvSpPr/>
          <p:nvPr/>
        </p:nvSpPr>
        <p:spPr>
          <a:xfrm flipV="1">
            <a:off x="838080" y="518148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Line 40"/>
          <p:cNvSpPr/>
          <p:nvPr/>
        </p:nvSpPr>
        <p:spPr>
          <a:xfrm flipV="1">
            <a:off x="106668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Line 41"/>
          <p:cNvSpPr/>
          <p:nvPr/>
        </p:nvSpPr>
        <p:spPr>
          <a:xfrm flipV="1">
            <a:off x="60948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Line 42"/>
          <p:cNvSpPr/>
          <p:nvPr/>
        </p:nvSpPr>
        <p:spPr>
          <a:xfrm flipV="1">
            <a:off x="1219320" y="5486040"/>
            <a:ext cx="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Line 43"/>
          <p:cNvSpPr/>
          <p:nvPr/>
        </p:nvSpPr>
        <p:spPr>
          <a:xfrm flipV="1">
            <a:off x="457200" y="5486040"/>
            <a:ext cx="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Line 44"/>
          <p:cNvSpPr/>
          <p:nvPr/>
        </p:nvSpPr>
        <p:spPr>
          <a:xfrm>
            <a:off x="4648320" y="57150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7" name="Line 45"/>
          <p:cNvSpPr/>
          <p:nvPr/>
        </p:nvSpPr>
        <p:spPr>
          <a:xfrm flipV="1">
            <a:off x="5410080" y="518148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Line 46"/>
          <p:cNvSpPr/>
          <p:nvPr/>
        </p:nvSpPr>
        <p:spPr>
          <a:xfrm flipV="1">
            <a:off x="5638680" y="5562360"/>
            <a:ext cx="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Line 47"/>
          <p:cNvSpPr/>
          <p:nvPr/>
        </p:nvSpPr>
        <p:spPr>
          <a:xfrm flipV="1">
            <a:off x="5181480" y="5562360"/>
            <a:ext cx="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Line 48"/>
          <p:cNvSpPr/>
          <p:nvPr/>
        </p:nvSpPr>
        <p:spPr>
          <a:xfrm flipV="1">
            <a:off x="579132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Line 49"/>
          <p:cNvSpPr/>
          <p:nvPr/>
        </p:nvSpPr>
        <p:spPr>
          <a:xfrm flipV="1">
            <a:off x="502920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Line 52"/>
          <p:cNvSpPr/>
          <p:nvPr/>
        </p:nvSpPr>
        <p:spPr>
          <a:xfrm>
            <a:off x="3581280" y="3733920"/>
            <a:ext cx="0" cy="685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53"/>
              <p:cNvSpPr txBox="1"/>
              <p:nvPr/>
            </p:nvSpPr>
            <p:spPr>
              <a:xfrm>
                <a:off x="5257800" y="3470400"/>
                <a:ext cx="38098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4"/>
              <p:cNvSpPr txBox="1"/>
              <p:nvPr/>
            </p:nvSpPr>
            <p:spPr>
              <a:xfrm>
                <a:off x="1389240" y="4613400"/>
                <a:ext cx="3471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5"/>
              <p:cNvSpPr txBox="1"/>
              <p:nvPr/>
            </p:nvSpPr>
            <p:spPr>
              <a:xfrm>
                <a:off x="1447920" y="2967120"/>
                <a:ext cx="3504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2798-B4CA-46E0-A36C-FAC55F1B8F2B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000C-B80D-401A-903E-CF8EE4489263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IDEA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OLYNOMI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REPRESEN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90920" y="2743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60020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44956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649040" y="274320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75392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590920" y="449568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1600200" y="49528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4495680" y="49528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4649040" y="449568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753920" y="44956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Line 14"/>
          <p:cNvSpPr/>
          <p:nvPr/>
        </p:nvSpPr>
        <p:spPr>
          <a:xfrm>
            <a:off x="1295280" y="57150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 flipV="1">
            <a:off x="2057400" y="518148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V="1">
            <a:off x="228600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Line 17"/>
          <p:cNvSpPr/>
          <p:nvPr/>
        </p:nvSpPr>
        <p:spPr>
          <a:xfrm flipV="1">
            <a:off x="182880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 flipV="1">
            <a:off x="2438280" y="5486040"/>
            <a:ext cx="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 flipV="1">
            <a:off x="1676520" y="5486040"/>
            <a:ext cx="0" cy="2286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4267080" y="57150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 flipV="1">
            <a:off x="5029200" y="5181480"/>
            <a:ext cx="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 flipV="1">
            <a:off x="5257800" y="5562360"/>
            <a:ext cx="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V="1">
            <a:off x="4800600" y="5562360"/>
            <a:ext cx="0" cy="152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 flipV="1">
            <a:off x="541008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Line 25"/>
          <p:cNvSpPr/>
          <p:nvPr/>
        </p:nvSpPr>
        <p:spPr>
          <a:xfrm flipV="1">
            <a:off x="4648320" y="5334120"/>
            <a:ext cx="0" cy="380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6"/>
              <p:cNvSpPr txBox="1"/>
              <p:nvPr/>
            </p:nvSpPr>
            <p:spPr>
              <a:xfrm>
                <a:off x="2917800" y="4624560"/>
                <a:ext cx="1320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7"/>
              <p:cNvSpPr txBox="1"/>
              <p:nvPr/>
            </p:nvSpPr>
            <p:spPr>
              <a:xfrm>
                <a:off x="3003480" y="2827440"/>
                <a:ext cx="1093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28"/>
          <p:cNvSpPr/>
          <p:nvPr/>
        </p:nvSpPr>
        <p:spPr>
          <a:xfrm>
            <a:off x="3429000" y="3733920"/>
            <a:ext cx="0" cy="685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9"/>
              <p:cNvSpPr txBox="1"/>
              <p:nvPr/>
            </p:nvSpPr>
            <p:spPr>
              <a:xfrm>
                <a:off x="5756400" y="3511440"/>
                <a:ext cx="320652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400E-E50A-461B-AFB4-F5B12EE44A90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© 2003, JH McClellan &amp; RW Schafer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BC59-BAED-4960-A0AE-63E2024484A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Z-Transform DEFINI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LYNOMIAL Representation of LTI SYSTEM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053"/>
              <p:cNvSpPr txBox="1"/>
              <p:nvPr/>
            </p:nvSpPr>
            <p:spPr>
              <a:xfrm>
                <a:off x="2936880" y="2324160"/>
                <a:ext cx="3206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3" name="Line 1056"/>
          <p:cNvSpPr/>
          <p:nvPr/>
        </p:nvSpPr>
        <p:spPr>
          <a:xfrm flipH="1" flipV="1">
            <a:off x="5181120" y="2971800"/>
            <a:ext cx="83844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Text Box 1057"/>
          <p:cNvSpPr/>
          <p:nvPr/>
        </p:nvSpPr>
        <p:spPr>
          <a:xfrm>
            <a:off x="6033600" y="3384720"/>
            <a:ext cx="167580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PPLIES to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y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Text Box 1058"/>
          <p:cNvSpPr/>
          <p:nvPr/>
        </p:nvSpPr>
        <p:spPr>
          <a:xfrm>
            <a:off x="6269040" y="5486400"/>
            <a:ext cx="253980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OLYNOMIAL in z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062"/>
              <p:cNvSpPr txBox="1"/>
              <p:nvPr/>
            </p:nvSpPr>
            <p:spPr>
              <a:xfrm>
                <a:off x="914400" y="4419720"/>
                <a:ext cx="6730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63"/>
              <p:cNvSpPr txBox="1"/>
              <p:nvPr/>
            </p:nvSpPr>
            <p:spPr>
              <a:xfrm>
                <a:off x="1905120" y="5029200"/>
                <a:ext cx="2923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64"/>
              <p:cNvSpPr txBox="1"/>
              <p:nvPr/>
            </p:nvSpPr>
            <p:spPr>
              <a:xfrm>
                <a:off x="1916280" y="5638680"/>
                <a:ext cx="38750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065"/>
              <p:cNvSpPr txBox="1"/>
              <p:nvPr/>
            </p:nvSpPr>
            <p:spPr>
              <a:xfrm>
                <a:off x="762120" y="3809880"/>
                <a:ext cx="3944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Fatih  Alagoz</cp:lastModifiedBy>
  <cp:lastPrinted>1999-05-16T00:05:32Z</cp:lastPrinted>
  <dcterms:modified xsi:type="dcterms:W3CDTF">2013-05-01T23:05:51Z</dcterms:modified>
  <cp:revision>244</cp:revision>
  <dc:subject/>
  <dc:title>SPFirst Lecture #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