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5.png" ContentType="image/png"/>
  <Override PartName="/ppt/media/image11.png" ContentType="image/png"/>
  <Override PartName="/ppt/media/image31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7.wmf" ContentType="image/x-wmf"/>
  <Override PartName="/ppt/media/image12.png" ContentType="image/png"/>
  <Override PartName="/ppt/media/image5.png" ContentType="image/png"/>
  <Override PartName="/ppt/media/image13.wmf" ContentType="image/x-wmf"/>
  <Override PartName="/ppt/media/image4.wmf" ContentType="image/x-wmf"/>
  <Override PartName="/ppt/media/image3.png" ContentType="image/png"/>
  <Override PartName="/ppt/media/image26.png" ContentType="image/png"/>
  <Override PartName="/ppt/media/image2.wmf" ContentType="image/x-wmf"/>
  <Override PartName="/ppt/media/image29.wmf" ContentType="image/x-wmf"/>
  <Override PartName="/ppt/media/image1.png" ContentType="image/png"/>
  <Override PartName="/ppt/media/image24.png" ContentType="image/png"/>
  <Override PartName="/ppt/media/image15.wmf" ContentType="image/x-wmf"/>
  <Override PartName="/ppt/media/image17.wmf" ContentType="image/x-wmf"/>
  <Override PartName="/ppt/media/image20.png" ContentType="image/png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7.png" ContentType="image/png"/>
  <Override PartName="/ppt/media/image3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F8D3-A52E-41AD-81DA-8580FCA3D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7C8E-2ABC-478E-9AF1-EEFEE524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7FF4-A6C7-481C-A401-E7047653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9925-8671-4682-ADDE-A332A717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C810-FC9A-4C9D-AD69-1F5768366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4348-2127-4E37-821A-0423E6E7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3284-886A-45B9-80CA-6938E90E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B4F2-7526-4273-9991-CC565A19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7EB0-C1DD-4470-BC1B-276F49B1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FE77-CA94-41A1-9964-4EAE7E16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3254-B530-4040-8257-5DE0AE46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D85F-1EDA-4223-B00F-41BF2C74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8FFA-B364-4C4D-B0DE-980BBBCA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6F20-6DB3-4E80-81D1-D73899EC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B83F-6757-4807-BB0B-B5F6B492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1B6E-C460-4EAA-BCF1-3F0CDE7B9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12C8-DB9C-4804-B835-DCDB9204E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317E-5D9C-4D73-8DA5-8F873E69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3877-3A8F-4988-9B64-2055EF47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040E-015B-4A26-BAD4-30B84605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9F7E-0242-46EA-B2E7-AD6434CC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5E2B-383C-4B1A-81FF-F7225798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5B12-61A9-4A5E-A9A2-BB8DD9C1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31BD-92E8-4E12-9F12-6D36E9C1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0DAA-0245-4338-845C-85F342AA5E7A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7BEB-E458-43A7-92F8-B8BEF99D2C27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0096-23A9-4857-9B48-A73C09D62724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01CB-6C73-4AF3-B505-D2998D29BCC2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711360" y="6229440"/>
            <a:ext cx="19303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E8F7-2480-4B10-865A-36AA56F505E7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660384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5BF9-686F-441B-B9D2-62E6A2206426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76160" y="3200040"/>
            <a:ext cx="655308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19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tinuous-Time Signals and Systems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F871-8616-4531-835D-94B2E888442E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4332-F175-4D5E-8299-FBA5291C2E0B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ssume the properties apply to the limit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ne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“INTUITIVE”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definition is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efining the Impul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1066680" y="4952880"/>
            <a:ext cx="4912200" cy="1206720"/>
            <a:chOff x="1066680" y="4952880"/>
            <a:chExt cx="4912200" cy="1206720"/>
          </a:xfrm>
        </p:grpSpPr>
        <p:sp>
          <p:nvSpPr>
            <p:cNvPr id="174" name="Text Box 6"/>
            <p:cNvSpPr/>
            <p:nvPr/>
          </p:nvSpPr>
          <p:spPr>
            <a:xfrm>
              <a:off x="4150800" y="5257800"/>
              <a:ext cx="182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cc"/>
                  </a:solidFill>
                  <a:latin typeface="Arial"/>
                </a:rPr>
                <a:t>Unit area</a:t>
              </a:r>
              <a:endParaRPr b="0" lang="en-US" sz="3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175" name="Object 7"/>
            <p:cNvGraphicFramePr/>
            <p:nvPr/>
          </p:nvGraphicFramePr>
          <p:xfrm>
            <a:off x="1066680" y="4952880"/>
            <a:ext cx="2210040" cy="1206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6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4952880"/>
                      <a:ext cx="2210040" cy="1206720"/>
                    </a:xfrm>
                    <a:prstGeom prst="rect">
                      <a:avLst/>
                    </a:prstGeom>
                    <a:ln w="2844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77" name="Group 11"/>
          <p:cNvGrpSpPr/>
          <p:nvPr/>
        </p:nvGrpSpPr>
        <p:grpSpPr>
          <a:xfrm>
            <a:off x="838080" y="4235400"/>
            <a:ext cx="6327360" cy="565200"/>
            <a:chOff x="838080" y="4235400"/>
            <a:chExt cx="6327360" cy="565200"/>
          </a:xfrm>
        </p:grpSpPr>
        <p:sp>
          <p:nvSpPr>
            <p:cNvPr id="178" name="Text Box 5"/>
            <p:cNvSpPr/>
            <p:nvPr/>
          </p:nvSpPr>
          <p:spPr>
            <a:xfrm>
              <a:off x="4298040" y="4267080"/>
              <a:ext cx="286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cc"/>
                  </a:solidFill>
                  <a:latin typeface="Arial"/>
                </a:rPr>
                <a:t>Concentrated at t=0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179" name="Object 8"/>
            <p:cNvGraphicFramePr/>
            <p:nvPr/>
          </p:nvGraphicFramePr>
          <p:xfrm>
            <a:off x="838080" y="4235400"/>
            <a:ext cx="3029040" cy="565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0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8080" y="4235400"/>
                      <a:ext cx="3029040" cy="565200"/>
                    </a:xfrm>
                    <a:prstGeom prst="rect">
                      <a:avLst/>
                    </a:prstGeom>
                    <a:ln w="2844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181" name="Object 9"/>
              <p:cNvSpPr txBox="1"/>
              <p:nvPr/>
            </p:nvSpPr>
            <p:spPr>
              <a:xfrm>
                <a:off x="2362320" y="2438280"/>
                <a:ext cx="358128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D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1CC0-09E2-40D5-851A-08E223586219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2A65-4509-4BFF-BC49-0485C87868CD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ampling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6553080" cy="4678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8" name="Object 5"/>
              <p:cNvSpPr txBox="1"/>
              <p:nvPr/>
            </p:nvSpPr>
            <p:spPr>
              <a:xfrm>
                <a:off x="3048120" y="4132440"/>
                <a:ext cx="37605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6"/>
              <p:cNvSpPr txBox="1"/>
              <p:nvPr/>
            </p:nvSpPr>
            <p:spPr>
              <a:xfrm>
                <a:off x="3048120" y="1746360"/>
                <a:ext cx="4265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»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BDB6-13FC-40D4-8707-D4147ED062F3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ED9D-F0EE-4810-BC73-3764E8BD806F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General Sampling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0" y="3017880"/>
            <a:ext cx="9144000" cy="3230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895320" y="1922400"/>
                <a:ext cx="75628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568B-D09B-4C56-B1CE-5E6314E2200B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5203-CC17-4CF0-944E-7FE0B6DAC79B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roperties of the Impul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5060160" y="167652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Concentrated at one tim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5823360" y="358128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ampling Propert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4988880" y="251460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Arial"/>
              </a:rPr>
              <a:t>Unit area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5120280" y="457200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Extract one value of f(t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646520" y="571500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erivative of unit step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205" name="Object 10"/>
          <p:cNvGraphicFramePr/>
          <p:nvPr/>
        </p:nvGraphicFramePr>
        <p:xfrm>
          <a:off x="152280" y="3505320"/>
          <a:ext cx="5257800" cy="58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505320"/>
                    <a:ext cx="5257800" cy="587160"/>
                  </a:xfrm>
                  <a:prstGeom prst="rect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7" name="Object 11"/>
          <p:cNvGraphicFramePr/>
          <p:nvPr/>
        </p:nvGraphicFramePr>
        <p:xfrm>
          <a:off x="673200" y="2222640"/>
          <a:ext cx="2693880" cy="12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00" y="2222640"/>
                    <a:ext cx="2693880" cy="1206360"/>
                  </a:xfrm>
                  <a:prstGeom prst="rect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9" name="Object 12"/>
          <p:cNvGraphicFramePr/>
          <p:nvPr/>
        </p:nvGraphicFramePr>
        <p:xfrm>
          <a:off x="587520" y="1581120"/>
          <a:ext cx="3836880" cy="60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7520" y="1581120"/>
                    <a:ext cx="3836880" cy="604800"/>
                  </a:xfrm>
                  <a:prstGeom prst="rect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1" name="Object 13"/>
          <p:cNvGraphicFramePr/>
          <p:nvPr/>
        </p:nvGraphicFramePr>
        <p:xfrm>
          <a:off x="304920" y="4160880"/>
          <a:ext cx="3925800" cy="1173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2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160880"/>
                    <a:ext cx="3925800" cy="1173240"/>
                  </a:xfrm>
                  <a:prstGeom prst="rect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3" name="Object 14"/>
          <p:cNvGraphicFramePr/>
          <p:nvPr/>
        </p:nvGraphicFramePr>
        <p:xfrm>
          <a:off x="914400" y="5410080"/>
          <a:ext cx="2286000" cy="1067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4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5410080"/>
                    <a:ext cx="2286000" cy="1067040"/>
                  </a:xfrm>
                  <a:prstGeom prst="rect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D3CF-4650-4950-B518-E15EC091AC63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7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A205-D9D7-44AC-BD74-152044F85961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tinuous-Time Syste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la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dulato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grato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5073840" cy="1481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1" name="Object 5"/>
              <p:cNvSpPr txBox="1"/>
              <p:nvPr/>
            </p:nvSpPr>
            <p:spPr>
              <a:xfrm>
                <a:off x="5562720" y="2590920"/>
                <a:ext cx="30477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a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6"/>
              <p:cNvSpPr txBox="1"/>
              <p:nvPr/>
            </p:nvSpPr>
            <p:spPr>
              <a:xfrm>
                <a:off x="2743200" y="3733920"/>
                <a:ext cx="29718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7"/>
              <p:cNvSpPr txBox="1"/>
              <p:nvPr/>
            </p:nvSpPr>
            <p:spPr>
              <a:xfrm>
                <a:off x="3809880" y="4581360"/>
                <a:ext cx="45198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8"/>
              <p:cNvSpPr txBox="1"/>
              <p:nvPr/>
            </p:nvSpPr>
            <p:spPr>
              <a:xfrm>
                <a:off x="3581280" y="5181480"/>
                <a:ext cx="29718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Text Box 9"/>
          <p:cNvSpPr/>
          <p:nvPr/>
        </p:nvSpPr>
        <p:spPr>
          <a:xfrm>
            <a:off x="534240" y="242244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776200" y="18288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AA8D-FE35-4809-805B-D527E927C7D2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2608-79F7-48C2-917D-4C1A71D0D211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T BUILDING BLOCK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TEGRATOR   (CIRCUITS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FFERENTIATO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LAY by  t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ODULATOR   (e.g., AM Radio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ULTIPLIER &amp; ADDE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4289-1367-475D-84CC-8999730D8BF6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0533-D896-4357-A8FB-AF2143901674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Delay: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thematical Definitio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o find the IMPULSE RESPONSE,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h(t),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let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(t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be an impulse, so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1028"/>
              <p:cNvSpPr txBox="1"/>
              <p:nvPr/>
            </p:nvSpPr>
            <p:spPr>
              <a:xfrm>
                <a:off x="2286000" y="4803840"/>
                <a:ext cx="40384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1030"/>
              <p:cNvSpPr txBox="1"/>
              <p:nvPr/>
            </p:nvSpPr>
            <p:spPr>
              <a:xfrm>
                <a:off x="2438280" y="2590920"/>
                <a:ext cx="381024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E650-7E47-457A-B9F8-F33213834094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0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5C5E-C692-42B7-960D-0831AF417EAD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42" name="Picture 1033" descr=""/>
          <p:cNvPicPr/>
          <p:nvPr/>
        </p:nvPicPr>
        <p:blipFill>
          <a:blip r:embed="rId1"/>
          <a:stretch/>
        </p:blipFill>
        <p:spPr>
          <a:xfrm>
            <a:off x="723960" y="4568760"/>
            <a:ext cx="7632720" cy="2136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34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7632720" cy="21369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737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Output of Ideal Delay of 1 sec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1028"/>
              <p:cNvSpPr txBox="1"/>
              <p:nvPr/>
            </p:nvSpPr>
            <p:spPr>
              <a:xfrm>
                <a:off x="1905120" y="1523880"/>
                <a:ext cx="18921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1029"/>
              <p:cNvSpPr txBox="1"/>
              <p:nvPr/>
            </p:nvSpPr>
            <p:spPr>
              <a:xfrm>
                <a:off x="685800" y="3733920"/>
                <a:ext cx="68580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0E40-C5C1-4FF7-8B49-8FB319F2BCAD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94DB-EED5-4CDE-AF2A-0C0CDFB443DB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ntegrator: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thematical Definitio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o find the IMPULSE RESPONSE,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h(t),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let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(t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be an impulse, so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2054"/>
              <p:cNvSpPr txBox="1"/>
              <p:nvPr/>
            </p:nvSpPr>
            <p:spPr>
              <a:xfrm>
                <a:off x="2057400" y="2389320"/>
                <a:ext cx="327672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53" name="Object 2055"/>
          <p:cNvGraphicFramePr/>
          <p:nvPr/>
        </p:nvGraphicFramePr>
        <p:xfrm>
          <a:off x="1905120" y="4896000"/>
          <a:ext cx="4419360" cy="142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20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4896000"/>
                    <a:ext cx="4419360" cy="14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Text Box 2056"/>
          <p:cNvSpPr/>
          <p:nvPr/>
        </p:nvSpPr>
        <p:spPr>
          <a:xfrm>
            <a:off x="6285240" y="2760840"/>
            <a:ext cx="2414880" cy="459720"/>
          </a:xfrm>
          <a:prstGeom prst="rect">
            <a:avLst/>
          </a:prstGeom>
          <a:solidFill>
            <a:srgbClr val="fff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Running Integra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7E19-9DA5-486B-831A-55854706C15C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8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B8E8-0D0C-47B6-B305-4DDAAC1404E2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ntegrator: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5345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tegrate the impuls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F t&lt;0, we get zero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F t&gt;0, we get on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us we have h(t) = u(t) for the integrato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5"/>
              <p:cNvSpPr txBox="1"/>
              <p:nvPr/>
            </p:nvSpPr>
            <p:spPr>
              <a:xfrm>
                <a:off x="4572000" y="152280"/>
                <a:ext cx="3505320" cy="14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62" name="Object 6"/>
          <p:cNvGraphicFramePr/>
          <p:nvPr/>
        </p:nvGraphicFramePr>
        <p:xfrm>
          <a:off x="3429000" y="2438280"/>
          <a:ext cx="3873600" cy="17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438280"/>
                    <a:ext cx="387360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5550-6BF1-4A93-80C5-8838D6D60A9B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7E94-483A-4093-9785-6C7F7C570EDD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ADING ASSIGNMEN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Lectur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pter 9, Sects 9-1 to 9-5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ther Reading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citation: Ch. 9, al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xt Lecture: Chapter 9, Sects 9-6 to 9-8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B044-8782-4178-B505-0193B3B5970C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5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4ADE-75A2-49FC-B107-3CD1D9E6ED4D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Graphical Representa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68" name="Picture 3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6755040" cy="4713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Object 4"/>
              <p:cNvSpPr txBox="1"/>
              <p:nvPr/>
            </p:nvSpPr>
            <p:spPr>
              <a:xfrm>
                <a:off x="4489560" y="3244680"/>
                <a:ext cx="16488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5"/>
              <p:cNvSpPr txBox="1"/>
              <p:nvPr/>
            </p:nvSpPr>
            <p:spPr>
              <a:xfrm>
                <a:off x="6019920" y="1752480"/>
                <a:ext cx="2209680" cy="10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6"/>
              <p:cNvSpPr txBox="1"/>
              <p:nvPr/>
            </p:nvSpPr>
            <p:spPr>
              <a:xfrm>
                <a:off x="4724280" y="3809880"/>
                <a:ext cx="4013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dt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0C68-4E93-4B29-ACF8-E88A7EAFA64F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3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3D2E-BA6B-4329-96AC-057843BBA1B7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Output of Integrato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7"/>
              <p:cNvSpPr txBox="1"/>
              <p:nvPr/>
            </p:nvSpPr>
            <p:spPr>
              <a:xfrm>
                <a:off x="6019920" y="330120"/>
                <a:ext cx="2971800" cy="19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77" name="Picture 9" descr="int_exponential30"/>
          <p:cNvPicPr/>
          <p:nvPr/>
        </p:nvPicPr>
        <p:blipFill>
          <a:blip r:embed="rId1"/>
          <a:stretch/>
        </p:blipFill>
        <p:spPr>
          <a:xfrm>
            <a:off x="0" y="1676520"/>
            <a:ext cx="5791320" cy="417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8" name="Object 10"/>
              <p:cNvSpPr txBox="1"/>
              <p:nvPr/>
            </p:nvSpPr>
            <p:spPr>
              <a:xfrm>
                <a:off x="5411880" y="3835440"/>
                <a:ext cx="3584520" cy="28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  <m:r>
                                  <m:t xml:space="preserve">τ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∫"/>
                                    </m:naryPr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  <m:e>
                                      <m:sSup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0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  <m:r>
                                            <m:t xml:space="preserve">8</m:t>
                                          </m:r>
                                          <m:r>
                                            <m:t xml:space="preserve">τ</m:t>
                                          </m:r>
                                        </m:sup>
                                      </m:sSup>
                                      <m:r>
                                        <m:t xml:space="preserve">u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τ</m:t>
                                      </m:r>
                                      <m:r>
                                        <m:t xml:space="preserve">)</m:t>
                                      </m:r>
                                      <m:r>
                                        <m:t xml:space="preserve">dτ</m:t>
                                      </m:r>
                                    </m:e>
                                  </m:nary>
                                </m:e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≥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5"/>
              <p:cNvSpPr txBox="1"/>
              <p:nvPr/>
            </p:nvSpPr>
            <p:spPr>
              <a:xfrm>
                <a:off x="2787480" y="1752480"/>
                <a:ext cx="22417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Line 11"/>
          <p:cNvSpPr/>
          <p:nvPr/>
        </p:nvSpPr>
        <p:spPr>
          <a:xfrm flipH="1">
            <a:off x="6629040" y="5791320"/>
            <a:ext cx="685800" cy="1522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B4E2-6A04-4F73-9FAC-C332560D6DCF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8E38-5C06-4A20-AE5B-CEAB27FD4E8C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ifferentiator: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thematical Definitio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o find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h(t),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let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(t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be an impulse, so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1029"/>
              <p:cNvSpPr txBox="1"/>
              <p:nvPr/>
            </p:nvSpPr>
            <p:spPr>
              <a:xfrm>
                <a:off x="2590920" y="2438280"/>
                <a:ext cx="2458800" cy="11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1030"/>
              <p:cNvSpPr txBox="1"/>
              <p:nvPr/>
            </p:nvSpPr>
            <p:spPr>
              <a:xfrm>
                <a:off x="1752480" y="4724280"/>
                <a:ext cx="398484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d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Text Box 1031"/>
          <p:cNvSpPr/>
          <p:nvPr/>
        </p:nvSpPr>
        <p:spPr>
          <a:xfrm>
            <a:off x="6649560" y="4952880"/>
            <a:ext cx="1229400" cy="459720"/>
          </a:xfrm>
          <a:prstGeom prst="rect">
            <a:avLst/>
          </a:prstGeom>
          <a:solidFill>
            <a:srgbClr val="fff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Double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43CF-3EAB-452E-BAB3-26046931CC75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0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1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E4A9-794A-4AD4-90EC-9649F454296D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ifferentiator Output: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6"/>
              <p:cNvSpPr txBox="1"/>
              <p:nvPr/>
            </p:nvSpPr>
            <p:spPr>
              <a:xfrm>
                <a:off x="6553080" y="304920"/>
                <a:ext cx="228600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94" name="Picture 7" descr="diff_exponential"/>
          <p:cNvPicPr/>
          <p:nvPr/>
        </p:nvPicPr>
        <p:blipFill>
          <a:blip r:embed="rId1"/>
          <a:stretch/>
        </p:blipFill>
        <p:spPr>
          <a:xfrm>
            <a:off x="3276720" y="1676520"/>
            <a:ext cx="5790960" cy="3574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8"/>
              <p:cNvSpPr txBox="1"/>
              <p:nvPr/>
            </p:nvSpPr>
            <p:spPr>
              <a:xfrm>
                <a:off x="304920" y="1676520"/>
                <a:ext cx="309384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9"/>
              <p:cNvSpPr txBox="1"/>
              <p:nvPr/>
            </p:nvSpPr>
            <p:spPr>
              <a:xfrm>
                <a:off x="152280" y="4875120"/>
                <a:ext cx="5257800" cy="184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F3DB-B9FF-4CFC-BBB5-BC6AAA9FDB86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9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CC1A-CD90-4641-A3BF-1C2327609F17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near and Time-Invariant (LTI) Syste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a continuous-time system is both linear and time-invariant, then the output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y(t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related to the input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x(t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by a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onvolution integra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h(t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the </a:t>
            </a:r>
            <a:r>
              <a:rPr b="1" i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mpulse respons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of the system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4"/>
              <p:cNvSpPr txBox="1"/>
              <p:nvPr/>
            </p:nvSpPr>
            <p:spPr>
              <a:xfrm>
                <a:off x="351000" y="3486240"/>
                <a:ext cx="851832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815A-CCBE-4134-926A-2ADE3C129304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5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026F-4445-4B22-B017-08C34CE68934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esting for Lineari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07" name="Picture 1027" descr=""/>
          <p:cNvPicPr/>
          <p:nvPr/>
        </p:nvPicPr>
        <p:blipFill>
          <a:blip r:embed="rId1"/>
          <a:stretch/>
        </p:blipFill>
        <p:spPr>
          <a:xfrm>
            <a:off x="0" y="1752480"/>
            <a:ext cx="9067680" cy="4179960"/>
          </a:xfrm>
          <a:prstGeom prst="rect">
            <a:avLst/>
          </a:prstGeom>
          <a:ln w="0">
            <a:noFill/>
          </a:ln>
        </p:spPr>
      </p:pic>
      <p:grpSp>
        <p:nvGrpSpPr>
          <p:cNvPr id="308" name="Group 1051"/>
          <p:cNvGrpSpPr/>
          <p:nvPr/>
        </p:nvGrpSpPr>
        <p:grpSpPr>
          <a:xfrm>
            <a:off x="209520" y="1828800"/>
            <a:ext cx="8458200" cy="3733920"/>
            <a:chOff x="209520" y="1828800"/>
            <a:chExt cx="8458200" cy="3733920"/>
          </a:xfrm>
        </p:grpSpPr>
        <p:sp>
          <p:nvSpPr>
            <p:cNvPr id="309" name="Line 1036"/>
            <p:cNvSpPr/>
            <p:nvPr/>
          </p:nvSpPr>
          <p:spPr>
            <a:xfrm flipH="1">
              <a:off x="2209680" y="3276720"/>
              <a:ext cx="533520" cy="3808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0" name="Object 1028"/>
                <p:cNvSpPr txBox="1"/>
                <p:nvPr/>
              </p:nvSpPr>
              <p:spPr>
                <a:xfrm>
                  <a:off x="1219320" y="2133720"/>
                  <a:ext cx="68580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1" name="Object 1029"/>
                <p:cNvSpPr txBox="1"/>
                <p:nvPr/>
              </p:nvSpPr>
              <p:spPr>
                <a:xfrm>
                  <a:off x="1200240" y="3200400"/>
                  <a:ext cx="72396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2" name="Object 1030"/>
                <p:cNvSpPr txBox="1"/>
                <p:nvPr/>
              </p:nvSpPr>
              <p:spPr>
                <a:xfrm>
                  <a:off x="4730760" y="1828800"/>
                  <a:ext cx="67320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3" name="Object 1031"/>
                <p:cNvSpPr txBox="1"/>
                <p:nvPr/>
              </p:nvSpPr>
              <p:spPr>
                <a:xfrm>
                  <a:off x="4711680" y="2895480"/>
                  <a:ext cx="71136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4" name="Object 1032"/>
                <p:cNvSpPr txBox="1"/>
                <p:nvPr/>
              </p:nvSpPr>
              <p:spPr>
                <a:xfrm>
                  <a:off x="7194600" y="2457360"/>
                  <a:ext cx="6220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5" name="Line 1033"/>
            <p:cNvSpPr/>
            <p:nvPr/>
          </p:nvSpPr>
          <p:spPr>
            <a:xfrm flipH="1">
              <a:off x="2209680" y="2133720"/>
              <a:ext cx="533520" cy="3808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16" name="Line 1034"/>
            <p:cNvSpPr/>
            <p:nvPr/>
          </p:nvSpPr>
          <p:spPr>
            <a:xfrm flipH="1">
              <a:off x="4876560" y="3276720"/>
              <a:ext cx="533160" cy="3808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17" name="Line 1035"/>
            <p:cNvSpPr/>
            <p:nvPr/>
          </p:nvSpPr>
          <p:spPr>
            <a:xfrm flipH="1">
              <a:off x="4800600" y="2209680"/>
              <a:ext cx="533520" cy="38124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18" name="Line 1037"/>
            <p:cNvSpPr/>
            <p:nvPr/>
          </p:nvSpPr>
          <p:spPr>
            <a:xfrm flipH="1">
              <a:off x="4724280" y="4648320"/>
              <a:ext cx="533520" cy="3808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19" name="Line 1038"/>
            <p:cNvSpPr/>
            <p:nvPr/>
          </p:nvSpPr>
          <p:spPr>
            <a:xfrm flipH="1">
              <a:off x="7238880" y="2743200"/>
              <a:ext cx="533520" cy="3808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20" name="Line 1039"/>
            <p:cNvSpPr/>
            <p:nvPr/>
          </p:nvSpPr>
          <p:spPr>
            <a:xfrm flipH="1">
              <a:off x="2361960" y="4648320"/>
              <a:ext cx="533160" cy="3808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21" name="Line 1040"/>
            <p:cNvSpPr/>
            <p:nvPr/>
          </p:nvSpPr>
          <p:spPr>
            <a:xfrm flipH="1">
              <a:off x="380880" y="4114800"/>
              <a:ext cx="533520" cy="3808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22" name="Line 1041"/>
            <p:cNvSpPr/>
            <p:nvPr/>
          </p:nvSpPr>
          <p:spPr>
            <a:xfrm flipH="1">
              <a:off x="380880" y="5181480"/>
              <a:ext cx="533520" cy="38124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3" name="Object 1042"/>
                <p:cNvSpPr txBox="1"/>
                <p:nvPr/>
              </p:nvSpPr>
              <p:spPr>
                <a:xfrm>
                  <a:off x="4788000" y="4356000"/>
                  <a:ext cx="55872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4" name="Object 1043"/>
                <p:cNvSpPr txBox="1"/>
                <p:nvPr/>
              </p:nvSpPr>
              <p:spPr>
                <a:xfrm>
                  <a:off x="2343240" y="4438800"/>
                  <a:ext cx="5713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5" name="Object 1044"/>
                <p:cNvSpPr txBox="1"/>
                <p:nvPr/>
              </p:nvSpPr>
              <p:spPr>
                <a:xfrm>
                  <a:off x="209520" y="4952880"/>
                  <a:ext cx="72396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6" name="Object 1045"/>
                <p:cNvSpPr txBox="1"/>
                <p:nvPr/>
              </p:nvSpPr>
              <p:spPr>
                <a:xfrm>
                  <a:off x="228600" y="3809880"/>
                  <a:ext cx="68580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7" name="Object 1046"/>
                <p:cNvSpPr txBox="1"/>
                <p:nvPr/>
              </p:nvSpPr>
              <p:spPr>
                <a:xfrm>
                  <a:off x="6324480" y="4114800"/>
                  <a:ext cx="62244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8" name="Object 1047"/>
                <p:cNvSpPr txBox="1"/>
                <p:nvPr/>
              </p:nvSpPr>
              <p:spPr>
                <a:xfrm>
                  <a:off x="8109000" y="4336920"/>
                  <a:ext cx="55872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9" name="Line 1048"/>
            <p:cNvSpPr/>
            <p:nvPr/>
          </p:nvSpPr>
          <p:spPr>
            <a:xfrm flipH="1">
              <a:off x="7543800" y="4343400"/>
              <a:ext cx="533520" cy="3808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30" name="Line 1049"/>
            <p:cNvSpPr/>
            <p:nvPr/>
          </p:nvSpPr>
          <p:spPr>
            <a:xfrm flipH="1">
              <a:off x="7010280" y="4038480"/>
              <a:ext cx="533520" cy="38124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EC44-1C45-481F-8B3B-945E953B3848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2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3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834A-5DEE-4A50-BF02-66C0B042D8A4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esting Time-Invarianc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3103560"/>
          </a:xfrm>
          <a:prstGeom prst="rect">
            <a:avLst/>
          </a:prstGeom>
          <a:ln w="0">
            <a:noFill/>
          </a:ln>
        </p:spPr>
      </p:pic>
      <p:grpSp>
        <p:nvGrpSpPr>
          <p:cNvPr id="336" name="Group 40"/>
          <p:cNvGrpSpPr/>
          <p:nvPr/>
        </p:nvGrpSpPr>
        <p:grpSpPr>
          <a:xfrm>
            <a:off x="152280" y="2362320"/>
            <a:ext cx="8985240" cy="2743200"/>
            <a:chOff x="152280" y="2362320"/>
            <a:chExt cx="8985240" cy="2743200"/>
          </a:xfrm>
        </p:grpSpPr>
        <mc:AlternateContent>
          <mc:Choice xmlns:a14="http://schemas.microsoft.com/office/drawing/2010/main" Requires="a14">
            <p:sp>
              <p:nvSpPr>
                <p:cNvPr id="337" name="Object 4"/>
                <p:cNvSpPr txBox="1"/>
                <p:nvPr/>
              </p:nvSpPr>
              <p:spPr>
                <a:xfrm>
                  <a:off x="209520" y="2610000"/>
                  <a:ext cx="571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8" name="Object 5"/>
                <p:cNvSpPr txBox="1"/>
                <p:nvPr/>
              </p:nvSpPr>
              <p:spPr>
                <a:xfrm>
                  <a:off x="2216160" y="2514600"/>
                  <a:ext cx="11685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9" name="Object 6"/>
                <p:cNvSpPr txBox="1"/>
                <p:nvPr/>
              </p:nvSpPr>
              <p:spPr>
                <a:xfrm>
                  <a:off x="5003640" y="4686480"/>
                  <a:ext cx="55908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0" name="Object 7"/>
                <p:cNvSpPr txBox="1"/>
                <p:nvPr/>
              </p:nvSpPr>
              <p:spPr>
                <a:xfrm>
                  <a:off x="5137200" y="2610000"/>
                  <a:ext cx="6220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1" name="Object 9"/>
                <p:cNvSpPr txBox="1"/>
                <p:nvPr/>
              </p:nvSpPr>
              <p:spPr>
                <a:xfrm>
                  <a:off x="7397640" y="4724280"/>
                  <a:ext cx="115596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2" name="Line 10"/>
            <p:cNvSpPr/>
            <p:nvPr/>
          </p:nvSpPr>
          <p:spPr>
            <a:xfrm flipH="1">
              <a:off x="7315200" y="4114800"/>
              <a:ext cx="533520" cy="3808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43" name="Line 11"/>
            <p:cNvSpPr/>
            <p:nvPr/>
          </p:nvSpPr>
          <p:spPr>
            <a:xfrm flipH="1">
              <a:off x="4952880" y="4114800"/>
              <a:ext cx="533520" cy="3808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 flipH="1">
              <a:off x="4952880" y="2971800"/>
              <a:ext cx="533520" cy="3808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45" name="Line 13"/>
            <p:cNvSpPr/>
            <p:nvPr/>
          </p:nvSpPr>
          <p:spPr>
            <a:xfrm flipH="1">
              <a:off x="2514600" y="2895480"/>
              <a:ext cx="533520" cy="38124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46" name="Line 14"/>
            <p:cNvSpPr/>
            <p:nvPr/>
          </p:nvSpPr>
          <p:spPr>
            <a:xfrm flipH="1">
              <a:off x="152280" y="2971800"/>
              <a:ext cx="533520" cy="3808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47" name="Line 15"/>
            <p:cNvSpPr/>
            <p:nvPr/>
          </p:nvSpPr>
          <p:spPr>
            <a:xfrm flipH="1">
              <a:off x="1523880" y="3276720"/>
              <a:ext cx="533520" cy="3808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8" name="Object 16"/>
                <p:cNvSpPr txBox="1"/>
                <p:nvPr/>
              </p:nvSpPr>
              <p:spPr>
                <a:xfrm>
                  <a:off x="1987560" y="3429000"/>
                  <a:ext cx="2541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9" name="Object 17"/>
                <p:cNvSpPr txBox="1"/>
                <p:nvPr/>
              </p:nvSpPr>
              <p:spPr>
                <a:xfrm>
                  <a:off x="6324480" y="2438280"/>
                  <a:ext cx="62244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0" name="Object 18"/>
                <p:cNvSpPr txBox="1"/>
                <p:nvPr/>
              </p:nvSpPr>
              <p:spPr>
                <a:xfrm>
                  <a:off x="7981920" y="2438280"/>
                  <a:ext cx="115560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1" name="Line 19"/>
            <p:cNvSpPr/>
            <p:nvPr/>
          </p:nvSpPr>
          <p:spPr>
            <a:xfrm flipH="1">
              <a:off x="7010280" y="2362320"/>
              <a:ext cx="533520" cy="3808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2" name="Line 20"/>
            <p:cNvSpPr/>
            <p:nvPr/>
          </p:nvSpPr>
          <p:spPr>
            <a:xfrm flipH="1">
              <a:off x="7391160" y="2666880"/>
              <a:ext cx="533160" cy="38124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3" name="Object 38"/>
                <p:cNvSpPr txBox="1"/>
                <p:nvPr/>
              </p:nvSpPr>
              <p:spPr>
                <a:xfrm>
                  <a:off x="6832440" y="4572000"/>
                  <a:ext cx="2541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54" name="Line 39"/>
            <p:cNvSpPr/>
            <p:nvPr/>
          </p:nvSpPr>
          <p:spPr>
            <a:xfrm flipH="1">
              <a:off x="6400800" y="4495680"/>
              <a:ext cx="533520" cy="38124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CA04-158E-43AC-8FFB-5113E7593802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7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3162-8CC6-47EF-95D2-4B0E5FBC21C5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Delay: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inea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nd Time-Invarian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60" name="Object 4"/>
          <p:cNvGraphicFramePr/>
          <p:nvPr/>
        </p:nvGraphicFramePr>
        <p:xfrm>
          <a:off x="4519440" y="527040"/>
          <a:ext cx="3633840" cy="76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9440" y="527040"/>
                    <a:ext cx="363384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5"/>
          <p:cNvGraphicFramePr/>
          <p:nvPr/>
        </p:nvGraphicFramePr>
        <p:xfrm>
          <a:off x="762120" y="2666880"/>
          <a:ext cx="7772400" cy="62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666880"/>
                    <a:ext cx="777240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64" name="Object 7"/>
              <p:cNvSpPr txBox="1"/>
              <p:nvPr/>
            </p:nvSpPr>
            <p:spPr>
              <a:xfrm>
                <a:off x="762120" y="4419720"/>
                <a:ext cx="7238880" cy="15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80D2-1350-46FA-9EDF-F584AC227016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7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2AA8-1AD9-4F0C-92D7-3812F704FE8A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ntegrator: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inea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nd Time-Invarian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4"/>
              <p:cNvSpPr txBox="1"/>
              <p:nvPr/>
            </p:nvSpPr>
            <p:spPr>
              <a:xfrm>
                <a:off x="4267080" y="152280"/>
                <a:ext cx="3810240" cy="15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5"/>
              <p:cNvSpPr txBox="1"/>
              <p:nvPr/>
            </p:nvSpPr>
            <p:spPr>
              <a:xfrm>
                <a:off x="985680" y="2286000"/>
                <a:ext cx="73202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dt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72" name="Object 6"/>
          <p:cNvGraphicFramePr/>
          <p:nvPr/>
        </p:nvGraphicFramePr>
        <p:xfrm>
          <a:off x="1211400" y="4114800"/>
          <a:ext cx="6600600" cy="12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1400" y="4114800"/>
                    <a:ext cx="660060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Object 7"/>
          <p:cNvGraphicFramePr/>
          <p:nvPr/>
        </p:nvGraphicFramePr>
        <p:xfrm>
          <a:off x="1828800" y="5425920"/>
          <a:ext cx="5181480" cy="12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5425920"/>
                    <a:ext cx="518148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08F3-15AA-48A0-854B-7CE1649EC711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F469-71B9-4904-9B71-780C8DD3C358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71200"/>
            <a:ext cx="85345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ye bye to D-T Systems for a whil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UNIT 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signa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fini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perti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tinuous-time signals and syste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ample system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view: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earity and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me-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varianc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volution integral: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impuls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respon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EC1B-5FF0-4428-8CE4-17E397EB7B8C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9005-525D-4699-BEE2-FDEB916BEF52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-T Filtering of C-T Signal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7413480" y="2471760"/>
            <a:ext cx="741600" cy="14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952560" y="1752480"/>
            <a:ext cx="7683480" cy="1219320"/>
            <a:chOff x="952560" y="1752480"/>
            <a:chExt cx="7683480" cy="1219320"/>
          </a:xfrm>
        </p:grpSpPr>
        <p:sp>
          <p:nvSpPr>
            <p:cNvPr id="105" name="Rectangle 5"/>
            <p:cNvSpPr/>
            <p:nvPr/>
          </p:nvSpPr>
          <p:spPr>
            <a:xfrm>
              <a:off x="2111400" y="1996920"/>
              <a:ext cx="1357200" cy="755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C-to-D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>
              <a:off x="6058080" y="1996920"/>
              <a:ext cx="1357200" cy="755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D-to-C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4084560" y="1996920"/>
              <a:ext cx="1357560" cy="755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LTI System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</a:rPr>
                <a:t>H(z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8" name="Line 8"/>
            <p:cNvSpPr/>
            <p:nvPr/>
          </p:nvSpPr>
          <p:spPr>
            <a:xfrm>
              <a:off x="1371600" y="2395440"/>
              <a:ext cx="741240" cy="1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9" name="Line 9"/>
            <p:cNvSpPr/>
            <p:nvPr/>
          </p:nvSpPr>
          <p:spPr>
            <a:xfrm>
              <a:off x="3467160" y="2395440"/>
              <a:ext cx="617400" cy="1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0" name="Line 10"/>
            <p:cNvSpPr/>
            <p:nvPr/>
          </p:nvSpPr>
          <p:spPr>
            <a:xfrm>
              <a:off x="5440320" y="2395440"/>
              <a:ext cx="617760" cy="1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1" name="Rectangle 11"/>
            <p:cNvSpPr/>
            <p:nvPr/>
          </p:nvSpPr>
          <p:spPr>
            <a:xfrm>
              <a:off x="1927080" y="1752480"/>
              <a:ext cx="5616720" cy="1219320"/>
            </a:xfrm>
            <a:prstGeom prst="rect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Object 12"/>
                <p:cNvSpPr txBox="1"/>
                <p:nvPr/>
              </p:nvSpPr>
              <p:spPr>
                <a:xfrm>
                  <a:off x="952560" y="1981080"/>
                  <a:ext cx="5713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Object 13"/>
                <p:cNvSpPr txBox="1"/>
                <p:nvPr/>
              </p:nvSpPr>
              <p:spPr>
                <a:xfrm>
                  <a:off x="8077320" y="1981080"/>
                  <a:ext cx="55872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4" name="Group 30"/>
          <p:cNvGrpSpPr/>
          <p:nvPr/>
        </p:nvGrpSpPr>
        <p:grpSpPr>
          <a:xfrm>
            <a:off x="1600200" y="4648320"/>
            <a:ext cx="5435640" cy="914400"/>
            <a:chOff x="1600200" y="4648320"/>
            <a:chExt cx="5435640" cy="914400"/>
          </a:xfrm>
        </p:grpSpPr>
        <p:sp>
          <p:nvSpPr>
            <p:cNvPr id="115" name="Line 19"/>
            <p:cNvSpPr/>
            <p:nvPr/>
          </p:nvSpPr>
          <p:spPr>
            <a:xfrm>
              <a:off x="6019920" y="5105520"/>
              <a:ext cx="741240" cy="1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6" name="Rectangle 23"/>
            <p:cNvSpPr/>
            <p:nvPr/>
          </p:nvSpPr>
          <p:spPr>
            <a:xfrm>
              <a:off x="2743200" y="4648320"/>
              <a:ext cx="3276720" cy="9144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LTI ANALOG</a:t>
              </a:r>
              <a:endParaRPr b="0" lang="en-US" sz="28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System</a:t>
              </a:r>
              <a:endParaRPr b="0" lang="en-US" sz="28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7" name="Line 24"/>
            <p:cNvSpPr/>
            <p:nvPr/>
          </p:nvSpPr>
          <p:spPr>
            <a:xfrm>
              <a:off x="1981080" y="5105520"/>
              <a:ext cx="741600" cy="1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Object 28"/>
                <p:cNvSpPr txBox="1"/>
                <p:nvPr/>
              </p:nvSpPr>
              <p:spPr>
                <a:xfrm>
                  <a:off x="1600200" y="4648320"/>
                  <a:ext cx="571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" name="Object 29"/>
                <p:cNvSpPr txBox="1"/>
                <p:nvPr/>
              </p:nvSpPr>
              <p:spPr>
                <a:xfrm>
                  <a:off x="6477120" y="4648320"/>
                  <a:ext cx="55872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0" name="Group 33"/>
          <p:cNvGrpSpPr/>
          <p:nvPr/>
        </p:nvGrpSpPr>
        <p:grpSpPr>
          <a:xfrm>
            <a:off x="2514600" y="2590560"/>
            <a:ext cx="5105520" cy="2133720"/>
            <a:chOff x="2514600" y="2590560"/>
            <a:chExt cx="5105520" cy="2133720"/>
          </a:xfrm>
        </p:grpSpPr>
        <p:graphicFrame>
          <p:nvGraphicFramePr>
            <p:cNvPr id="121" name="Object 14"/>
            <p:cNvGraphicFramePr/>
            <p:nvPr/>
          </p:nvGraphicFramePr>
          <p:xfrm>
            <a:off x="2514600" y="3352680"/>
            <a:ext cx="5105520" cy="711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2" name="Object 1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3352680"/>
                      <a:ext cx="5105520" cy="71136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3" name="Line 31"/>
            <p:cNvSpPr/>
            <p:nvPr/>
          </p:nvSpPr>
          <p:spPr>
            <a:xfrm flipH="1">
              <a:off x="5486400" y="3886200"/>
              <a:ext cx="45720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24" name="Line 32"/>
            <p:cNvSpPr/>
            <p:nvPr/>
          </p:nvSpPr>
          <p:spPr>
            <a:xfrm flipV="1">
              <a:off x="2971800" y="2590560"/>
              <a:ext cx="1295280" cy="990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9DB7-9653-4C59-B8BA-E0869B64A8F3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2650-B6BE-400D-9ACC-66B865C68547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ANALOG SIGNALS   x(t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FINITE LENGTH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INUSOIDS:          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(t = time in secs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ERIODIC SIGNAL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NE-SIDED, e.g., for t&gt;0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IT STEP:   u(t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ITE LENGTH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QUARE PULS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MPULSE SIGNAL:    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t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Rectangle 1028"/>
          <p:cNvSpPr/>
          <p:nvPr/>
        </p:nvSpPr>
        <p:spPr>
          <a:xfrm>
            <a:off x="431640" y="5695920"/>
            <a:ext cx="8178840" cy="704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DISCRETE-TIME: x[n] is list of numbers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9837-0903-4C66-A6E3-B4CD807916BA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6ABA-4FE5-4420-B3C9-29D66E428A8E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34" name="Picture 13" descr=""/>
          <p:cNvPicPr/>
          <p:nvPr/>
        </p:nvPicPr>
        <p:blipFill>
          <a:blip r:embed="rId1"/>
          <a:stretch/>
        </p:blipFill>
        <p:spPr>
          <a:xfrm>
            <a:off x="260280" y="2425680"/>
            <a:ext cx="8350200" cy="3213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T Signals: PERIODIC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36" name="Object 7"/>
          <p:cNvGraphicFramePr/>
          <p:nvPr/>
        </p:nvGraphicFramePr>
        <p:xfrm>
          <a:off x="152280" y="1673280"/>
          <a:ext cx="3124440" cy="44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673280"/>
                    <a:ext cx="3124440" cy="441360"/>
                  </a:xfrm>
                  <a:prstGeom prst="rect">
                    <a:avLst/>
                  </a:prstGeom>
                  <a:ln w="28440">
                    <a:solidFill>
                      <a:srgbClr val="ffcc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8" name="Text Box 11"/>
          <p:cNvSpPr/>
          <p:nvPr/>
        </p:nvSpPr>
        <p:spPr>
          <a:xfrm>
            <a:off x="6040800" y="1846440"/>
            <a:ext cx="2547360" cy="459720"/>
          </a:xfrm>
          <a:prstGeom prst="rect">
            <a:avLst/>
          </a:prstGeom>
          <a:solidFill>
            <a:srgbClr val="fff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Sinusoidal signal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5567760" y="5594400"/>
            <a:ext cx="2111760" cy="459720"/>
          </a:xfrm>
          <a:prstGeom prst="rect">
            <a:avLst/>
          </a:prstGeom>
          <a:solidFill>
            <a:srgbClr val="fff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Square Wave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397080" y="5715000"/>
            <a:ext cx="3125160" cy="459720"/>
          </a:xfrm>
          <a:prstGeom prst="rect">
            <a:avLst/>
          </a:prstGeom>
          <a:solidFill>
            <a:srgbClr val="fff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INFINITE DURATI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8691-289F-4416-AB92-C4F781136A27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1169-0F61-42A0-A0D1-B3EDC25F4A20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44" name="Picture 1034" descr=""/>
          <p:cNvPicPr/>
          <p:nvPr/>
        </p:nvPicPr>
        <p:blipFill>
          <a:blip r:embed="rId1"/>
          <a:stretch/>
        </p:blipFill>
        <p:spPr>
          <a:xfrm>
            <a:off x="1752480" y="2068560"/>
            <a:ext cx="7099560" cy="45608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T Signals: ONE-SIDED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029"/>
              <p:cNvSpPr txBox="1"/>
              <p:nvPr/>
            </p:nvSpPr>
            <p:spPr>
              <a:xfrm>
                <a:off x="228600" y="5207040"/>
                <a:ext cx="1866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Text Box 1030"/>
          <p:cNvSpPr/>
          <p:nvPr/>
        </p:nvSpPr>
        <p:spPr>
          <a:xfrm>
            <a:off x="5728320" y="1752480"/>
            <a:ext cx="2114640" cy="459720"/>
          </a:xfrm>
          <a:prstGeom prst="rect">
            <a:avLst/>
          </a:prstGeom>
          <a:solidFill>
            <a:srgbClr val="fff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Unit step signa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031"/>
              <p:cNvSpPr txBox="1"/>
              <p:nvPr/>
            </p:nvSpPr>
            <p:spPr>
              <a:xfrm>
                <a:off x="228600" y="1689120"/>
                <a:ext cx="19051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t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Text Box 1032"/>
          <p:cNvSpPr/>
          <p:nvPr/>
        </p:nvSpPr>
        <p:spPr>
          <a:xfrm>
            <a:off x="497520" y="3505320"/>
            <a:ext cx="1468440" cy="825480"/>
          </a:xfrm>
          <a:prstGeom prst="rect">
            <a:avLst/>
          </a:prstGeom>
          <a:solidFill>
            <a:srgbClr val="fff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One-Side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Sinusoi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0" name="Text Box 1033"/>
          <p:cNvSpPr/>
          <p:nvPr/>
        </p:nvSpPr>
        <p:spPr>
          <a:xfrm>
            <a:off x="6195240" y="5092560"/>
            <a:ext cx="2629800" cy="825480"/>
          </a:xfrm>
          <a:prstGeom prst="rect">
            <a:avLst/>
          </a:prstGeom>
          <a:solidFill>
            <a:srgbClr val="fff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Suddenly applied”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Exponentia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DD7A-E55D-48E0-91C4-4404EB10789D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2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5F50-144D-49E8-9DA1-431F23D426EB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4" name="Picture 1034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7696080" cy="33307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304920"/>
            <a:ext cx="81280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T Signals: FINITE LENGTH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56" name="Text Box 1030"/>
          <p:cNvSpPr/>
          <p:nvPr/>
        </p:nvSpPr>
        <p:spPr>
          <a:xfrm>
            <a:off x="6203160" y="2362320"/>
            <a:ext cx="2622240" cy="459720"/>
          </a:xfrm>
          <a:prstGeom prst="rect">
            <a:avLst/>
          </a:prstGeom>
          <a:solidFill>
            <a:srgbClr val="fff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Square Pulse signa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57" name="Object 1031"/>
          <p:cNvGraphicFramePr/>
          <p:nvPr/>
        </p:nvGraphicFramePr>
        <p:xfrm>
          <a:off x="1447920" y="1649520"/>
          <a:ext cx="4597200" cy="56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Object 103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649520"/>
                    <a:ext cx="4597200" cy="560160"/>
                  </a:xfrm>
                  <a:prstGeom prst="rect">
                    <a:avLst/>
                  </a:prstGeom>
                  <a:ln w="28440">
                    <a:solidFill>
                      <a:srgbClr val="ffcc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9" name="Text Box 1033"/>
          <p:cNvSpPr/>
          <p:nvPr/>
        </p:nvSpPr>
        <p:spPr>
          <a:xfrm>
            <a:off x="5955840" y="5397480"/>
            <a:ext cx="2547360" cy="825480"/>
          </a:xfrm>
          <a:prstGeom prst="rect">
            <a:avLst/>
          </a:prstGeom>
          <a:solidFill>
            <a:srgbClr val="fff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Sinusoid multiplie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by a square pul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A2D5-8830-4F54-9A9C-8CB2A5FDA5E6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9B08-3ACD-4DC5-AB41-CCDB3CC50927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What is an Impulse?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signal that is “concentrated” at one point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7394400" cy="2562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6" name="Object 5"/>
              <p:cNvSpPr txBox="1"/>
              <p:nvPr/>
            </p:nvSpPr>
            <p:spPr>
              <a:xfrm>
                <a:off x="5181480" y="2743200"/>
                <a:ext cx="358164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D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6"/>
              <p:cNvSpPr txBox="1"/>
              <p:nvPr/>
            </p:nvSpPr>
            <p:spPr>
              <a:xfrm>
                <a:off x="457200" y="3124080"/>
                <a:ext cx="259092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Fatih  Alagoz</cp:lastModifiedBy>
  <cp:lastPrinted>1999-11-02T00:50:16Z</cp:lastPrinted>
  <dcterms:modified xsi:type="dcterms:W3CDTF">2013-05-16T00:49:49Z</dcterms:modified>
  <cp:revision>412</cp:revision>
  <dc:subject/>
  <dc:title>SPFirst Lecture #1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