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1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4.png" ContentType="image/png"/>
  <Override PartName="/ppt/media/image1.png" ContentType="image/png"/>
  <Override PartName="/ppt/media/image2.wmf" ContentType="image/x-wmf"/>
  <Override PartName="/ppt/media/image29.png" ContentType="image/png"/>
  <Override PartName="/ppt/media/image32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5.wmf" ContentType="image/x-wmf"/>
  <Override PartName="/ppt/media/image14.wmf" ContentType="image/x-wmf"/>
  <Override PartName="/ppt/media/image6.png" ContentType="image/png"/>
  <Override PartName="/ppt/media/image36.png" ContentType="image/png"/>
  <Override PartName="/ppt/media/image51.png" ContentType="image/png"/>
  <Override PartName="/ppt/media/image38.png" ContentType="image/png"/>
  <Override PartName="/ppt/media/image30.wmf" ContentType="image/x-wmf"/>
  <Override PartName="/ppt/media/image42.wmf" ContentType="image/x-wmf"/>
  <Override PartName="/ppt/media/image43.wmf" ContentType="image/x-wmf"/>
  <Override PartName="/ppt/media/image33.png" ContentType="image/png"/>
  <Override PartName="/ppt/media/image44.wmf" ContentType="image/x-wmf"/>
  <Override PartName="/ppt/media/image34.png" ContentType="image/png"/>
  <Override PartName="/ppt/media/image45.wmf" ContentType="image/x-wmf"/>
  <Override PartName="/ppt/media/image25.png" ContentType="image/png"/>
  <Override PartName="/ppt/media/image35.png" ContentType="image/png"/>
  <Override PartName="/ppt/media/image46.wmf" ContentType="image/x-wmf"/>
  <Override PartName="/ppt/media/image52.png" ContentType="image/png"/>
  <Override PartName="/ppt/media/image49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40.png" ContentType="image/png"/>
  <Override PartName="/ppt/media/image8.wmf" ContentType="image/x-wmf"/>
  <Override PartName="/ppt/media/image53.wmf" ContentType="image/x-wmf"/>
  <Override PartName="/ppt/media/image13.png" ContentType="image/png"/>
  <Override PartName="/ppt/media/image11.wmf" ContentType="image/x-wmf"/>
  <Override PartName="/ppt/media/image50.png" ContentType="image/png"/>
  <Override PartName="/ppt/media/image48.wmf" ContentType="image/x-wmf"/>
  <Override PartName="/ppt/media/image9.wmf" ContentType="image/x-wmf"/>
  <Override PartName="/ppt/media/image41.png" ContentType="image/png"/>
  <Override PartName="/ppt/media/image39.wmf" ContentType="image/x-wmf"/>
  <Override PartName="/ppt/media/image10.wmf" ContentType="image/x-wmf"/>
  <Override PartName="/ppt/media/image4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B9F8-67C7-4BF5-80D9-EB000FE6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D6CF-8E5C-4156-989C-F8531D88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6D4-02AC-4502-82B7-6520656A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1A37-02B2-4F99-A3BE-BBD6DB81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25A3-D03F-4AC7-BB53-84D44F4A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2EED-5549-49D4-AF38-CF4DA4AB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3BC5-DFAC-4EE7-9B0D-F1807713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0003-7891-4222-8296-A96A14BA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AB02-6D6D-4129-A5FA-9E3D9CA0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95C0-DE01-4102-84D3-21B8A8B2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18FC-EE46-497B-9CD4-583C096D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920-D7E4-4846-BDF1-F94208A7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DBA6-B2B4-4991-916C-5CB0713B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33F7-596C-4A36-81FB-336EA239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4C24-F96A-412E-B274-0A986F92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9201-6024-4307-B15C-E2A581A6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5BD2-8C81-4442-B1CA-850B2524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261-47B2-47FB-BBA6-6E735195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49B5-06BF-48F9-B130-33D37873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3FB-E5D6-4418-9C2B-C400421D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23C-2891-4AE6-8667-B84EDABF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EB00-BECF-4D49-B6FB-0F97C380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803-88DD-449A-B50E-F2DA4602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D5F-CC14-4EB7-8933-A469C142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D77F-FF6B-4BDC-BA15-2671942A297E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BF43-54B8-4A52-8D2E-A0324FBF48E6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EB3A-6F02-4BF4-BE51-24B0A8049FE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384D-5676-441D-AD20-44318F8C498C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5.wmf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05120" y="3428640"/>
            <a:ext cx="6858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5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ampling and Reconstru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(Fourier View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6ACB-9A9A-48C0-8D65-58470BA0BF9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FBDDAE4-CBE5-41A1-894E-0EEE917D2B2B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SpecgramQuadModGray" descr=""/>
          <p:cNvPicPr/>
          <p:nvPr/>
        </p:nvPicPr>
        <p:blipFill>
          <a:blip r:embed="rId1"/>
          <a:stretch/>
        </p:blipFill>
        <p:spPr>
          <a:xfrm>
            <a:off x="0" y="990720"/>
            <a:ext cx="7696080" cy="5819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Quadrature Modulation: 4 sig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7773480" y="2286000"/>
            <a:ext cx="12232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8700 Hz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67000" y="4495680"/>
            <a:ext cx="12232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3600 Hz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514600"/>
            <a:ext cx="685800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4724280"/>
            <a:ext cx="685800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6CA-AFFE-4990-8664-456BDD1C220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979E1-651B-42DC-B9D3-3845A835EF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C-to-D Conver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6858000" cy="38289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athematical Model for A-to-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248520" y="3886200"/>
          <a:ext cx="274320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3886200"/>
                    <a:ext cx="2743200" cy="5493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3123720" y="3580920"/>
            <a:ext cx="5716080" cy="2461320"/>
            <a:chOff x="3123720" y="3580920"/>
            <a:chExt cx="5716080" cy="2461320"/>
          </a:xfrm>
        </p:grpSpPr>
        <p:sp>
          <p:nvSpPr>
            <p:cNvPr id="175" name=""/>
            <p:cNvSpPr/>
            <p:nvPr/>
          </p:nvSpPr>
          <p:spPr>
            <a:xfrm>
              <a:off x="6714360" y="4800600"/>
              <a:ext cx="2125440" cy="1241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FOURIE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TRANSFORM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f x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s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(t) ???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3123720" y="3580920"/>
              <a:ext cx="3581640" cy="1676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04ED-E8AC-470F-9ED6-8477736F2D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C1647-3D8B-4DB0-9372-6887692849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eriodic Impulse Tr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315200" y="3962520"/>
          <a:ext cx="137160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3962520"/>
                    <a:ext cx="1371600" cy="9651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81" name="impulseTrain_FT" descr=""/>
          <p:cNvPicPr/>
          <p:nvPr/>
        </p:nvPicPr>
        <p:blipFill>
          <a:blip r:embed="rId3"/>
          <a:stretch/>
        </p:blipFill>
        <p:spPr>
          <a:xfrm>
            <a:off x="533520" y="1050840"/>
            <a:ext cx="8076960" cy="247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4920" y="3657600"/>
                <a:ext cx="647676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57200" y="5160960"/>
                <a:ext cx="510552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5720400" y="5334120"/>
            <a:ext cx="20034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Fourier Seri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86D3-886C-42A6-95C3-1C88D6637E2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60CDE-CA18-436B-898E-A94C1FB6B6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T of Impulse Tr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1066680"/>
                <a:ext cx="84582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↔</m:t>
                        </m:r>
                        <m:r>
                          <m:t xml:space="preserve"> 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88" name="impulseTrain_FT" descr=""/>
          <p:cNvPicPr/>
          <p:nvPr/>
        </p:nvPicPr>
        <p:blipFill>
          <a:blip r:embed="rId1"/>
          <a:stretch/>
        </p:blipFill>
        <p:spPr>
          <a:xfrm>
            <a:off x="380880" y="2249640"/>
            <a:ext cx="6782040" cy="453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250040" y="2438280"/>
                <a:ext cx="15130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4F6-A3C9-4F15-9DB0-5C09A3A3E65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09B47-7A60-4EFD-8889-844419DDE1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mpulse Train Sampl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2120" y="3886200"/>
            <a:ext cx="7772040" cy="1025280"/>
            <a:chOff x="762120" y="3886200"/>
            <a:chExt cx="7772040" cy="1025280"/>
          </a:xfrm>
        </p:grpSpPr>
        <p:graphicFrame>
          <p:nvGraphicFramePr>
            <p:cNvPr id="192" name=""/>
            <p:cNvGraphicFramePr/>
            <p:nvPr/>
          </p:nvGraphicFramePr>
          <p:xfrm>
            <a:off x="762120" y="3886200"/>
            <a:ext cx="7772040" cy="102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3886200"/>
                      <a:ext cx="7772040" cy="102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" name=""/>
            <p:cNvSpPr/>
            <p:nvPr/>
          </p:nvSpPr>
          <p:spPr>
            <a:xfrm>
              <a:off x="6267240" y="4627080"/>
              <a:ext cx="21859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905120" y="5219640"/>
            <a:ext cx="5714640" cy="1409400"/>
            <a:chOff x="1905120" y="5219640"/>
            <a:chExt cx="5714640" cy="1409400"/>
          </a:xfrm>
        </p:grpSpPr>
        <p:graphicFrame>
          <p:nvGraphicFramePr>
            <p:cNvPr id="196" name=""/>
            <p:cNvGraphicFramePr/>
            <p:nvPr/>
          </p:nvGraphicFramePr>
          <p:xfrm>
            <a:off x="1905120" y="5219640"/>
            <a:ext cx="5714640" cy="140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5219640"/>
                      <a:ext cx="5714640" cy="14094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4426200" y="6240240"/>
              <a:ext cx="31093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pic>
        <p:nvPicPr>
          <p:cNvPr id="199" name="sys_Sampling" descr=""/>
          <p:cNvPicPr/>
          <p:nvPr/>
        </p:nvPicPr>
        <p:blipFill>
          <a:blip r:embed="rId5"/>
          <a:stretch/>
        </p:blipFill>
        <p:spPr>
          <a:xfrm>
            <a:off x="533520" y="1371600"/>
            <a:ext cx="4895640" cy="23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2F1-C742-47E0-AF55-A45A48AE355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365FF-AA16-4D98-9E80-383F08F12C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sampled_signal_wave" descr=""/>
          <p:cNvPicPr/>
          <p:nvPr/>
        </p:nvPicPr>
        <p:blipFill>
          <a:blip r:embed="rId1"/>
          <a:stretch/>
        </p:blipFill>
        <p:spPr>
          <a:xfrm>
            <a:off x="685800" y="949320"/>
            <a:ext cx="6095880" cy="59086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llustration of Sampl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85800" y="1143000"/>
            <a:ext cx="1295280" cy="609480"/>
            <a:chOff x="685800" y="1143000"/>
            <a:chExt cx="1295280" cy="609480"/>
          </a:xfrm>
        </p:grpSpPr>
        <p:graphicFrame>
          <p:nvGraphicFramePr>
            <p:cNvPr id="203" name=""/>
            <p:cNvGraphicFramePr/>
            <p:nvPr/>
          </p:nvGraphicFramePr>
          <p:xfrm>
            <a:off x="685800" y="1143000"/>
            <a:ext cx="571680" cy="330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5800" y="1143000"/>
                      <a:ext cx="571680" cy="3301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05" name=""/>
            <p:cNvSpPr/>
            <p:nvPr/>
          </p:nvSpPr>
          <p:spPr>
            <a:xfrm>
              <a:off x="1219320" y="1447920"/>
              <a:ext cx="761760" cy="304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3276720" y="3962520"/>
          <a:ext cx="190476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3962520"/>
                    <a:ext cx="1904760" cy="3808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34120" y="2897280"/>
                <a:ext cx="37335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583320" y="5794200"/>
                <a:ext cx="2746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670800" y="2514600"/>
                <a:ext cx="1918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AD8-A539-448F-8E12-A7C77032244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B6DDF-B8DB-4736-A574-D97BD48F42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sys_Sampling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790960" cy="27702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ampling: Freq. 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6482160" y="3276720"/>
            <a:ext cx="2405880" cy="1373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C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HIFTING !!!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9480" y="4800600"/>
                <a:ext cx="723924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819520" y="2952720"/>
                <a:ext cx="304776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D1B-9926-4DA6-882C-E7A9ADAC6F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A31CE-7DDB-4435-9163-F1021BD705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-Domain Analysi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1828800"/>
          <a:ext cx="817884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1788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976320" y="3193920"/>
            <a:ext cx="7143840" cy="1017720"/>
            <a:chOff x="976320" y="3193920"/>
            <a:chExt cx="7143840" cy="1017720"/>
          </a:xfrm>
        </p:grpSpPr>
        <p:graphicFrame>
          <p:nvGraphicFramePr>
            <p:cNvPr id="220" name=""/>
            <p:cNvGraphicFramePr/>
            <p:nvPr/>
          </p:nvGraphicFramePr>
          <p:xfrm>
            <a:off x="976320" y="3193920"/>
            <a:ext cx="7143840" cy="101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76320" y="3193920"/>
                      <a:ext cx="7143840" cy="101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6553080" y="3886200"/>
              <a:ext cx="152424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295280" y="4649760"/>
            <a:ext cx="7467840" cy="1878120"/>
            <a:chOff x="1295280" y="4649760"/>
            <a:chExt cx="7467840" cy="1878120"/>
          </a:xfrm>
        </p:grpSpPr>
        <p:grpSp>
          <p:nvGrpSpPr>
            <p:cNvPr id="224" name=""/>
            <p:cNvGrpSpPr/>
            <p:nvPr/>
          </p:nvGrpSpPr>
          <p:grpSpPr>
            <a:xfrm>
              <a:off x="1295280" y="4649760"/>
              <a:ext cx="7467840" cy="1878120"/>
              <a:chOff x="1295280" y="4649760"/>
              <a:chExt cx="7467840" cy="1878120"/>
            </a:xfrm>
          </p:grpSpPr>
          <p:graphicFrame>
            <p:nvGraphicFramePr>
              <p:cNvPr id="225" name=""/>
              <p:cNvGraphicFramePr/>
              <p:nvPr/>
            </p:nvGraphicFramePr>
            <p:xfrm>
              <a:off x="1295280" y="4649760"/>
              <a:ext cx="6091200" cy="1179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295280" y="4649760"/>
                        <a:ext cx="6091200" cy="1179720"/>
                      </a:xfrm>
                      <a:prstGeom prst="rect">
                        <a:avLst/>
                      </a:prstGeom>
                      <a:ln w="38160">
                        <a:solidFill>
                          <a:srgbClr val="ff66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7" name=""/>
              <p:cNvGraphicFramePr/>
              <p:nvPr/>
            </p:nvGraphicFramePr>
            <p:xfrm>
              <a:off x="7391520" y="5562720"/>
              <a:ext cx="1371600" cy="965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2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391520" y="5562720"/>
                        <a:ext cx="1371600" cy="965160"/>
                      </a:xfrm>
                      <a:prstGeom prst="rect">
                        <a:avLst/>
                      </a:prstGeom>
                      <a:ln w="38160">
                        <a:solidFill>
                          <a:srgbClr val="ff66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29" name=""/>
            <p:cNvSpPr/>
            <p:nvPr/>
          </p:nvSpPr>
          <p:spPr>
            <a:xfrm>
              <a:off x="4572000" y="5486400"/>
              <a:ext cx="2743200" cy="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H="1">
            <a:off x="6324120" y="3886200"/>
            <a:ext cx="685800" cy="91440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C5A-8BC7-4397-AFF6-C8B4DC7F9EF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2B9C1-C8F6-49A4-99A7-62EEAE3321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aliased1_signal_trans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16668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-Domain Representation of Sampling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600200" y="3222720"/>
          <a:ext cx="617220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222720"/>
                    <a:ext cx="6172200" cy="11970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380880" y="173664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ypical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bandlimited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36" name="aliased2_signal_trans" descr=""/>
          <p:cNvPicPr/>
          <p:nvPr/>
        </p:nvPicPr>
        <p:blipFill>
          <a:blip r:embed="rId4"/>
          <a:stretch/>
        </p:blipFill>
        <p:spPr>
          <a:xfrm>
            <a:off x="152280" y="4495680"/>
            <a:ext cx="8839440" cy="237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CDE-B515-4208-BD84-CC2D21F2806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3FD20-2A5A-4BB8-A1D6-DDEEA40B09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liasing Distor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3029040"/>
            <a:ext cx="81788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&lt; 2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the copies of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verlap, and we hav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iasing distor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9" name="aliased3_signal_trans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8686800" cy="2017800"/>
          </a:xfrm>
          <a:prstGeom prst="rect">
            <a:avLst/>
          </a:prstGeom>
          <a:ln w="0">
            <a:noFill/>
          </a:ln>
        </p:spPr>
      </p:pic>
      <p:pic>
        <p:nvPicPr>
          <p:cNvPr id="240" name="aliased1_signal_trans" descr=""/>
          <p:cNvPicPr/>
          <p:nvPr/>
        </p:nvPicPr>
        <p:blipFill>
          <a:blip r:embed="rId2"/>
          <a:stretch/>
        </p:blipFill>
        <p:spPr>
          <a:xfrm>
            <a:off x="304920" y="1333440"/>
            <a:ext cx="8686800" cy="1638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0880" y="16002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ypical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bandlimited signa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178-1D5D-4F75-BA20-02A2E55F64E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846EA-D8CF-4060-A026-5F4CF477F7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A30-2060-4256-9DD3-4F6A666104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06F35-7B90-450D-AFD1-0103FCA866B6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sys_Reconstruct" descr=""/>
          <p:cNvPicPr/>
          <p:nvPr/>
        </p:nvPicPr>
        <p:blipFill>
          <a:blip r:embed="rId1"/>
          <a:srcRect l="0" t="0" r="0" b="37572"/>
          <a:stretch/>
        </p:blipFill>
        <p:spPr>
          <a:xfrm>
            <a:off x="457200" y="1219320"/>
            <a:ext cx="82296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construction of 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0" i="1" lang="en-US" sz="4000" spc="-1" strike="noStrike">
                <a:solidFill>
                  <a:srgbClr val="0000cc"/>
                </a:solidFill>
                <a:latin typeface="Arial Black"/>
              </a:rPr>
              <a:t>t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514600" y="3124080"/>
          <a:ext cx="4572000" cy="97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3124080"/>
                    <a:ext cx="4572000" cy="9748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676520" y="4343400"/>
          <a:ext cx="5486400" cy="106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4343400"/>
                    <a:ext cx="548640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828800" y="5638680"/>
          <a:ext cx="5181480" cy="54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5638680"/>
                    <a:ext cx="5181480" cy="5461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5B6-C5A2-4C4D-A414-A335F41E6FD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1B62B-A824-4E8D-8CFD-2E33CA170E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reconstruct_trans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5678280" cy="59436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 Black"/>
              </a:rPr>
              <a:t>Reconstruction: Frequency-Domain</a:t>
            </a:r>
            <a:endParaRPr b="0" lang="en-US" sz="36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638680" y="2743200"/>
                <a:ext cx="335304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the copies of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do not overlap, so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304920" y="3276720"/>
            <a:ext cx="2286000" cy="761760"/>
            <a:chOff x="304920" y="3276720"/>
            <a:chExt cx="2286000" cy="761760"/>
          </a:xfrm>
        </p:grpSpPr>
        <p:sp>
          <p:nvSpPr>
            <p:cNvPr id="254" name=""/>
            <p:cNvSpPr/>
            <p:nvPr/>
          </p:nvSpPr>
          <p:spPr>
            <a:xfrm>
              <a:off x="1371600" y="3581280"/>
              <a:ext cx="1219320" cy="457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255" name=""/>
            <p:cNvGraphicFramePr/>
            <p:nvPr/>
          </p:nvGraphicFramePr>
          <p:xfrm>
            <a:off x="304920" y="3276720"/>
            <a:ext cx="1117440" cy="368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3276720"/>
                      <a:ext cx="1117440" cy="3682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A82-594E-42E0-BEC4-B9E73523A3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FA4F5-15D0-4A23-8F94-698CF62620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ideal_BLht_Recon_Filter" descr=""/>
          <p:cNvPicPr/>
          <p:nvPr/>
        </p:nvPicPr>
        <p:blipFill>
          <a:blip r:embed="rId1"/>
          <a:stretch/>
        </p:blipFill>
        <p:spPr>
          <a:xfrm>
            <a:off x="1219320" y="4056120"/>
            <a:ext cx="6324480" cy="2589120"/>
          </a:xfrm>
          <a:prstGeom prst="rect">
            <a:avLst/>
          </a:prstGeom>
          <a:ln w="0">
            <a:noFill/>
          </a:ln>
        </p:spPr>
      </p:pic>
      <p:pic>
        <p:nvPicPr>
          <p:cNvPr id="258" name="ideal_BL_Recon_Filter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7467480" cy="2428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Reconstruction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52280" y="4038480"/>
          <a:ext cx="2819520" cy="17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38480"/>
                    <a:ext cx="2819520" cy="17067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4920" y="1447920"/>
          <a:ext cx="3289320" cy="14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1447920"/>
                    <a:ext cx="3289320" cy="14857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4" name=""/>
          <p:cNvGrpSpPr/>
          <p:nvPr/>
        </p:nvGrpSpPr>
        <p:grpSpPr>
          <a:xfrm>
            <a:off x="4419720" y="4191120"/>
            <a:ext cx="2128680" cy="457200"/>
            <a:chOff x="4419720" y="4191120"/>
            <a:chExt cx="2128680" cy="457200"/>
          </a:xfrm>
        </p:grpSpPr>
        <p:graphicFrame>
          <p:nvGraphicFramePr>
            <p:cNvPr id="265" name=""/>
            <p:cNvGraphicFramePr/>
            <p:nvPr/>
          </p:nvGraphicFramePr>
          <p:xfrm>
            <a:off x="5181480" y="4191120"/>
            <a:ext cx="1366920" cy="399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1480" y="4191120"/>
                      <a:ext cx="1366920" cy="3999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67" name=""/>
            <p:cNvSpPr/>
            <p:nvPr/>
          </p:nvSpPr>
          <p:spPr>
            <a:xfrm flipH="1">
              <a:off x="4419720" y="4419720"/>
              <a:ext cx="761760" cy="228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028840" y="5280120"/>
            <a:ext cx="4115160" cy="914400"/>
            <a:chOff x="5028840" y="5280120"/>
            <a:chExt cx="4115160" cy="914400"/>
          </a:xfrm>
        </p:grpSpPr>
        <p:graphicFrame>
          <p:nvGraphicFramePr>
            <p:cNvPr id="269" name=""/>
            <p:cNvGraphicFramePr/>
            <p:nvPr/>
          </p:nvGraphicFramePr>
          <p:xfrm>
            <a:off x="5238720" y="5280120"/>
            <a:ext cx="3905280" cy="41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38720" y="5280120"/>
                      <a:ext cx="3905280" cy="414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71" name=""/>
            <p:cNvSpPr/>
            <p:nvPr/>
          </p:nvSpPr>
          <p:spPr>
            <a:xfrm flipH="1">
              <a:off x="5028840" y="5661000"/>
              <a:ext cx="228600" cy="533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401-C20C-48EC-B54F-3449B1B5345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99BB1-B97F-4F9F-8C57-93B6450A09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Reconstruc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57200" y="1905120"/>
          <a:ext cx="817884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817884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1671480" y="4267080"/>
            <a:ext cx="5808960" cy="1968120"/>
            <a:chOff x="1671480" y="4267080"/>
            <a:chExt cx="5808960" cy="1968120"/>
          </a:xfrm>
        </p:grpSpPr>
        <p:graphicFrame>
          <p:nvGraphicFramePr>
            <p:cNvPr id="277" name=""/>
            <p:cNvGraphicFramePr/>
            <p:nvPr/>
          </p:nvGraphicFramePr>
          <p:xfrm>
            <a:off x="1938240" y="4267080"/>
            <a:ext cx="5440320" cy="13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38240" y="4267080"/>
                      <a:ext cx="5440320" cy="1352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79" name=""/>
            <p:cNvSpPr/>
            <p:nvPr/>
          </p:nvSpPr>
          <p:spPr>
            <a:xfrm>
              <a:off x="1671480" y="5775480"/>
              <a:ext cx="580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Ideal bandlimited interpolation formula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905120" y="2514600"/>
            <a:ext cx="5181480" cy="1547640"/>
            <a:chOff x="1905120" y="2514600"/>
            <a:chExt cx="5181480" cy="1547640"/>
          </a:xfrm>
        </p:grpSpPr>
        <p:graphicFrame>
          <p:nvGraphicFramePr>
            <p:cNvPr id="281" name=""/>
            <p:cNvGraphicFramePr/>
            <p:nvPr/>
          </p:nvGraphicFramePr>
          <p:xfrm>
            <a:off x="1905120" y="3048120"/>
            <a:ext cx="4897440" cy="101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05120" y="3048120"/>
                      <a:ext cx="4897440" cy="101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"/>
            <p:cNvSpPr/>
            <p:nvPr/>
          </p:nvSpPr>
          <p:spPr>
            <a:xfrm flipH="1">
              <a:off x="5334120" y="2514600"/>
              <a:ext cx="1752480" cy="8380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19720" y="2590920"/>
              <a:ext cx="68580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7AD-9E75-402E-9176-5F26BC4D183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82F9C-883A-450D-AB18-BF01F5FF24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380880"/>
            <a:ext cx="8204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hannon Sampling Theor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“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SINC” Interpola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s the ide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ERFECT RECONSTRUC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f BANDLIMITED SIGNA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52280" y="3414600"/>
            <a:ext cx="8763120" cy="29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205-5E58-4C91-9796-28F86287A34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360B6-F8C2-494A-8D0B-2013E94F45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construction in Time-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89" name="reconst_wave2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495680" cy="4800600"/>
          </a:xfrm>
          <a:prstGeom prst="rect">
            <a:avLst/>
          </a:prstGeom>
          <a:ln w="0">
            <a:noFill/>
          </a:ln>
        </p:spPr>
      </p:pic>
      <p:pic>
        <p:nvPicPr>
          <p:cNvPr id="290" name="reconst_wave" descr=""/>
          <p:cNvPicPr/>
          <p:nvPr/>
        </p:nvPicPr>
        <p:blipFill>
          <a:blip r:embed="rId2"/>
          <a:stretch/>
        </p:blipFill>
        <p:spPr>
          <a:xfrm>
            <a:off x="0" y="1614600"/>
            <a:ext cx="4568760" cy="47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062-61FD-4524-90C9-D98985B3EEA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7F08D-093D-436C-BFAC-7E6FA8658B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C-to-D and D-to-C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3" name=""/>
          <p:cNvGraphicFramePr/>
          <p:nvPr/>
        </p:nvGraphicFramePr>
        <p:xfrm>
          <a:off x="1219320" y="4267080"/>
          <a:ext cx="190476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267080"/>
                    <a:ext cx="1904760" cy="3812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378320" y="3568680"/>
          <a:ext cx="4308480" cy="115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78320" y="3568680"/>
                    <a:ext cx="4308480" cy="11556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1193400" y="474516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deal Sampl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19160" y="4745160"/>
            <a:ext cx="37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deal bandlimited interpolato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5257800" y="5313240"/>
          <a:ext cx="3809880" cy="40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5313240"/>
                    <a:ext cx="3809880" cy="4017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152280" y="5257800"/>
          <a:ext cx="4572000" cy="887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2280" y="5257800"/>
                    <a:ext cx="4572000" cy="8874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A28-627A-4A6E-B76A-4BC5139D1F7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5889D-0B6B-4CC5-A6CA-76F8A4897A9B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ampling Theorem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Revisit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NERAL: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 the FREQUENCY DOMAI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urier transform of sampled sign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nstruction from sampl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ading: Chap 12, Section 12-3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view of FT propert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volution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multiplic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equency shift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view of A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A15-7196-465C-9F0A-73693806E0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9D8BC-D9FF-4C53-B395-5359D15A30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FT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52480" y="3228840"/>
          <a:ext cx="5289840" cy="7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228840"/>
                    <a:ext cx="5289840" cy="733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676520" y="4572000"/>
          <a:ext cx="562752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572000"/>
                    <a:ext cx="5627520" cy="733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18840" y="2695680"/>
            <a:ext cx="2331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elay Proper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0200" y="4038480"/>
            <a:ext cx="29408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requency Shift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76520" y="5638680"/>
          <a:ext cx="4647960" cy="70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5638680"/>
                    <a:ext cx="4647960" cy="700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19680" y="5410080"/>
            <a:ext cx="126432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43000" y="1752480"/>
          <a:ext cx="601992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1752480"/>
                    <a:ext cx="6019920" cy="561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D0F-AF87-445D-BA82-D284A40218D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AB95C-8E68-4BA6-9D1B-AEC997527D42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mplitude Modulato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4495680"/>
            <a:ext cx="8178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modulat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amplitude of the cosine wave.  The result in the frequency-domain is two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HIFTED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copies of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76320" y="1676520"/>
            <a:ext cx="8121600" cy="198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48320" y="1697040"/>
          <a:ext cx="3429000" cy="4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697040"/>
                    <a:ext cx="3429000" cy="4636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04920" y="2482920"/>
          <a:ext cx="1181160" cy="425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2482920"/>
                    <a:ext cx="1181160" cy="4255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04920" y="1873080"/>
          <a:ext cx="571320" cy="33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1873080"/>
                    <a:ext cx="571320" cy="3304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447920" y="3112920"/>
          <a:ext cx="1904760" cy="46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47920" y="3112920"/>
                    <a:ext cx="1904760" cy="4683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352680" y="2438280"/>
          <a:ext cx="5715000" cy="150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52680" y="2438280"/>
                    <a:ext cx="5715000" cy="15004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1061640" y="3505320"/>
            <a:ext cx="1910160" cy="703440"/>
            <a:chOff x="1061640" y="3505320"/>
            <a:chExt cx="1910160" cy="703440"/>
          </a:xfrm>
        </p:grpSpPr>
        <p:sp>
          <p:nvSpPr>
            <p:cNvPr id="116" name=""/>
            <p:cNvSpPr/>
            <p:nvPr/>
          </p:nvSpPr>
          <p:spPr>
            <a:xfrm>
              <a:off x="1061640" y="3809880"/>
              <a:ext cx="93060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Phas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981080" y="3505320"/>
              <a:ext cx="990720" cy="457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4DE-CB6E-4FAB-BECE-352E9882A8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2CACC-F5F0-4640-ABC6-CE80141862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SBAM:  Frequency-Dom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30360" y="1676520"/>
            <a:ext cx="7980120" cy="4754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38080" y="1574640"/>
            <a:ext cx="2073240" cy="1191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ypical” bandlimit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put sign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6240" y="3906720"/>
            <a:ext cx="238896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Frequency-shifte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opi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5165640"/>
                <a:ext cx="22096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ϕ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858000" y="5157720"/>
                <a:ext cx="21337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3900240" y="4332240"/>
            <a:ext cx="4992120" cy="1382760"/>
            <a:chOff x="3900240" y="4332240"/>
            <a:chExt cx="4992120" cy="1382760"/>
          </a:xfrm>
        </p:grpSpPr>
        <p:grpSp>
          <p:nvGrpSpPr>
            <p:cNvPr id="126" name=""/>
            <p:cNvGrpSpPr/>
            <p:nvPr/>
          </p:nvGrpSpPr>
          <p:grpSpPr>
            <a:xfrm>
              <a:off x="6713640" y="4332240"/>
              <a:ext cx="2178720" cy="1214640"/>
              <a:chOff x="6713640" y="4332240"/>
              <a:chExt cx="2178720" cy="1214640"/>
            </a:xfrm>
          </p:grpSpPr>
          <p:sp>
            <p:nvSpPr>
              <p:cNvPr id="127" name=""/>
              <p:cNvSpPr/>
              <p:nvPr/>
            </p:nvSpPr>
            <p:spPr>
              <a:xfrm>
                <a:off x="6788520" y="4332240"/>
                <a:ext cx="2103840" cy="3988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3399"/>
                    </a:solidFill>
                    <a:latin typeface="Arial"/>
                  </a:rPr>
                  <a:t>Upper sideband</a:t>
                </a:r>
                <a:endParaRPr b="0" lang="en-US" sz="20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713640" y="4784760"/>
                <a:ext cx="380880" cy="7621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900240" y="4424400"/>
              <a:ext cx="2271960" cy="1290600"/>
              <a:chOff x="3900240" y="4424400"/>
              <a:chExt cx="2271960" cy="1290600"/>
            </a:xfrm>
          </p:grpSpPr>
          <p:sp>
            <p:nvSpPr>
              <p:cNvPr id="130" name=""/>
              <p:cNvSpPr/>
              <p:nvPr/>
            </p:nvSpPr>
            <p:spPr>
              <a:xfrm>
                <a:off x="3900240" y="4424400"/>
                <a:ext cx="2117880" cy="3988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333399"/>
                    </a:solidFill>
                    <a:latin typeface="Arial"/>
                  </a:rPr>
                  <a:t>Lower sideband</a:t>
                </a:r>
                <a:endParaRPr b="0" lang="en-US" sz="20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10440" y="4876560"/>
                <a:ext cx="761760" cy="8384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1600200"/>
                <a:ext cx="1190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7E7-DAD7-4043-B517-165EAA7D9F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78B00-DDFF-44F1-9FB7-6AEE7FCC281A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SBAM Demod Phase Synch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74040" cy="26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4952880" y="2209680"/>
          <a:ext cx="549360" cy="33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2209680"/>
                    <a:ext cx="549360" cy="3319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8285040" y="2209680"/>
          <a:ext cx="478080" cy="331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85040" y="2209680"/>
                    <a:ext cx="478080" cy="3319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80960" y="2209680"/>
          <a:ext cx="501840" cy="331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960" y="2209680"/>
                    <a:ext cx="501840" cy="3319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600200" y="3505320"/>
          <a:ext cx="1027080" cy="355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3505320"/>
                    <a:ext cx="1027080" cy="3553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962520" y="1371600"/>
            <a:ext cx="3962160" cy="274320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24280" y="3436920"/>
                <a:ext cx="1524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803240" y="2133720"/>
                <a:ext cx="23878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76200" y="5143680"/>
                <a:ext cx="86202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170160" y="4470480"/>
                <a:ext cx="58914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at if 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1905120" y="5029200"/>
            <a:ext cx="5715000" cy="10666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CE3-AEB1-4D5A-B642-BA5C2C13C0B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227FD-263A-4778-8CD8-580E669C65B2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rob_QuadMod1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7543800" cy="38098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Quadrature Modulato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388800" y="5302080"/>
            <a:ext cx="806148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TWO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signals on </a:t>
            </a:r>
            <a:r>
              <a:rPr b="1" i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ONE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channel:  “out of phase”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Can you “separate” them in the demodulator ?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572000" y="3886200"/>
                <a:ext cx="44956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81B-B128-490F-A5D7-CD818C60DFD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63DA2-E84B-43C7-813A-EB4110826887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rob_QuadMod2" descr=""/>
          <p:cNvPicPr/>
          <p:nvPr/>
        </p:nvPicPr>
        <p:blipFill>
          <a:blip r:embed="rId1"/>
          <a:stretch/>
        </p:blipFill>
        <p:spPr>
          <a:xfrm>
            <a:off x="152280" y="1349280"/>
            <a:ext cx="7239240" cy="2565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mod: Quadrature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914400" y="3200400"/>
                <a:ext cx="23623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2520" y="5322960"/>
                <a:ext cx="80820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ϕ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ϕ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248520" y="1752480"/>
                <a:ext cx="28288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if 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562720" y="3124080"/>
                <a:ext cx="35226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if 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57200" y="4191120"/>
                <a:ext cx="74455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6629400" y="35812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6553080"/>
            <a:ext cx="1295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5867280"/>
            <a:ext cx="16002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E34-D00E-4A38-9AC4-7C80495814B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6F1EF-BBA1-48F0-8FE6-459D76A8B3ED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9-11-02T00:50:16Z</cp:lastPrinted>
  <dcterms:modified xsi:type="dcterms:W3CDTF">2003-08-21T22:11:59Z</dcterms:modified>
  <cp:revision>490</cp:revision>
  <dc:subject/>
  <dc:title>SPFirst Lecture #2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